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A656-0BBE-4A58-9140-2AE20E29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7B51-5A7E-4573-BF1E-8CFD8313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AAE7-C0B4-4BA3-A7F3-8ABEE930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B4F9-0604-4BB4-B4D4-1CF71C10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CFCD-D3E1-45D9-9E44-90C150B5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9919-E98A-49ED-9300-93685230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FB40-9206-43F0-AB61-EB0EC8A2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B86E-762A-4F28-8D64-AE615AC5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A62D-811C-42F5-BC56-61E9041E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65B6-6AC0-45E9-971E-9D5663AC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C2EB-DCBB-4D36-828A-516C9889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4C15-E569-4594-8FE8-A322319C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80F3-0403-45C1-9095-F66A1009B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49200" y="965160"/>
          <a:ext cx="7236000" cy="531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965160"/>
                    <a:ext cx="7236000" cy="53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606600" y="816120"/>
          <a:ext cx="8064360" cy="5432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816120"/>
                    <a:ext cx="8064360" cy="54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93560" y="433440"/>
          <a:ext cx="8205840" cy="620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33440"/>
                    <a:ext cx="8205840" cy="62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72960" y="528480"/>
          <a:ext cx="8253360" cy="599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528480"/>
                    <a:ext cx="8253360" cy="599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81040" y="544680"/>
          <a:ext cx="7831080" cy="695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544680"/>
                    <a:ext cx="7831080" cy="69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19200" y="593640"/>
          <a:ext cx="79167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593640"/>
                    <a:ext cx="79167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15840" y="681120"/>
          <a:ext cx="7310520" cy="518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81120"/>
                    <a:ext cx="731052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865080" y="1001880"/>
          <a:ext cx="7201080" cy="470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001880"/>
                    <a:ext cx="7201080" cy="47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022400" y="890640"/>
          <a:ext cx="7651800" cy="52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2400" y="890640"/>
                    <a:ext cx="765180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ver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inverso(“roma”) entrega “am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si_no()//leer y entregar un String “si” o “n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lindrom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palindrome(“reconocer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fabet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alfabetico(“hola”)=true, alfabetico(“123”)=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álid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,String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válido(“123”,”0123456789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emplaza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,String y,String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reemplazar(“abcde”,”bc”,”BC”)=“aBC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41320" y="915840"/>
          <a:ext cx="7718400" cy="530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915840"/>
                    <a:ext cx="7718400" cy="530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20840" y="444600"/>
          <a:ext cx="8615160" cy="637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444600"/>
                    <a:ext cx="8615160" cy="63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166760" y="843120"/>
          <a:ext cx="723096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843120"/>
                    <a:ext cx="723096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106640" y="806400"/>
          <a:ext cx="7543800" cy="549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6640" y="806400"/>
                    <a:ext cx="7543800" cy="54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50840" y="630360"/>
          <a:ext cx="7583400" cy="58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630360"/>
                    <a:ext cx="7583400" cy="58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816120" y="655560"/>
          <a:ext cx="7707240" cy="608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655560"/>
                    <a:ext cx="7707240" cy="60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41320" y="642960"/>
          <a:ext cx="5702400" cy="786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42960"/>
                    <a:ext cx="5702400" cy="786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606600" y="692280"/>
          <a:ext cx="8213400" cy="8386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692280"/>
                    <a:ext cx="8213400" cy="83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82640" y="806400"/>
          <a:ext cx="80010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2640" y="806400"/>
                    <a:ext cx="80010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6-03-30T20:21:23Z</cp:lastPrinted>
  <dcterms:modified xsi:type="dcterms:W3CDTF">2007-03-26T19:05:53Z</dcterms:modified>
  <cp:revision>22</cp:revision>
  <dc:subject/>
  <dc:title>Sin título de diapositiva</dc:title>
</cp:coreProperties>
</file>