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B4B-0CDF-4CA1-A842-08969794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4F6-3A89-4599-9AB2-1290CDC0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79B-1F65-47BA-AAF7-0AA3A36C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47B-AE19-4105-9119-7EFB9332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ABE-DE2B-421C-AE9D-2321BC9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3F2-FA69-4579-A0BA-94721ED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E96-6445-49FB-A00A-DF1FE0C3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B98-0EB2-46E9-A959-520C9485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C5F-43D4-42AB-86F1-76F72D24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4F1-012A-47C8-94E7-AF3F060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56B-876C-470D-9FE6-EE799F7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FDB-3854-453E-8EF0-D3E5803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3541-C615-4257-8714-12A99E1DB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433440"/>
          <a:ext cx="82058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2058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783108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783108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9200" y="5936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936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681120"/>
          <a:ext cx="7310520" cy="51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310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65080" y="1001880"/>
          <a:ext cx="720108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001880"/>
                    <a:ext cx="720108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2400" y="890640"/>
          <a:ext cx="765180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890640"/>
                    <a:ext cx="76518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55560"/>
          <a:ext cx="770724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55560"/>
                    <a:ext cx="770724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7-03-26T19:05:53Z</dcterms:modified>
  <cp:revision>22</cp:revision>
  <dc:subject/>
  <dc:title>Sin título de diapositiva</dc:title>
</cp:coreProperties>
</file>