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390-1CB4-47FB-BE9D-767A2AFD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D1CF-CBCF-49F2-9E12-238DCA04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7DD-5382-47DE-B8A6-EC16FBFE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846-69E2-42C1-8306-343B307C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ABD-5827-48C5-AF85-9ABA1EA8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0BC-06EA-44B3-98F2-4CA472C6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966-F8EA-4B13-B79B-06130EBB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1E0-6ABA-4476-9553-3A6AC247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FDC1-D46C-400B-BF18-BB44D6F1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3438-5C95-4E8F-B444-925DA477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000-508A-4D67-8FB3-06A0644D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1D0-4A53-48B2-BB75-719DCB50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B4D0-782A-4837-914D-9D9FE83A8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433440"/>
          <a:ext cx="820584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33440"/>
                    <a:ext cx="820584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72960" y="528480"/>
          <a:ext cx="8253360" cy="59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528480"/>
                    <a:ext cx="8253360" cy="59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81040" y="544680"/>
          <a:ext cx="7831080" cy="69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44680"/>
                    <a:ext cx="7831080" cy="69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19200" y="593640"/>
          <a:ext cx="79167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93640"/>
                    <a:ext cx="79167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5840" y="681120"/>
          <a:ext cx="7310520" cy="51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81120"/>
                    <a:ext cx="731052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65080" y="1001880"/>
          <a:ext cx="7201080" cy="47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001880"/>
                    <a:ext cx="720108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22400" y="890640"/>
          <a:ext cx="765180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890640"/>
                    <a:ext cx="76518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ve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inverso(“roma”) entrega “am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si_no()//leer y entregar un String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lindrom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rome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fabe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alfabetico(“hola”)=true, alfabetico(“123”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ál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válido(“123”,”0123456789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emplaz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0840" y="444600"/>
          <a:ext cx="8615160" cy="637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44600"/>
                    <a:ext cx="8615160" cy="63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6760" y="843120"/>
          <a:ext cx="723096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843120"/>
                    <a:ext cx="72309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6640" y="806400"/>
          <a:ext cx="7543800" cy="54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806400"/>
                    <a:ext cx="754380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630360"/>
          <a:ext cx="758340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630360"/>
                    <a:ext cx="758340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16120" y="655560"/>
          <a:ext cx="7707240" cy="608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55560"/>
                    <a:ext cx="770724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06600" y="692280"/>
          <a:ext cx="82134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134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82640" y="806400"/>
          <a:ext cx="80010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806400"/>
                    <a:ext cx="8001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07-03-26T19:05:53Z</dcterms:modified>
  <cp:revision>22</cp:revision>
  <dc:subject/>
  <dc:title>Sin título de diapositiva</dc:title>
</cp:coreProperties>
</file>