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805-56E3-4A3D-8C3C-3E15D4DD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3C5-1A8A-4086-9D9F-78F967C9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649-F46B-4463-8DE8-79CA066F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80D-3A86-429D-A683-D47AAEBF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BB8-8AEF-422D-9969-91257675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562-1E6A-4599-BD63-63678D2F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C4B-0032-462C-8EE1-9CE37BF5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3F4-BB89-4C8B-9AAC-B33E8774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05C-54EB-46D8-BA9E-AD5A55E7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3F4-1626-4E30-83D2-22279B80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F05-1EED-4251-9F36-6F64A7D9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2FF-8DF0-4A17-8ABA-9575799F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16F5-09ED-4092-AE52-F1D6A8C73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433440"/>
          <a:ext cx="820584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33440"/>
                    <a:ext cx="820584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72960" y="528480"/>
          <a:ext cx="8253360" cy="59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528480"/>
                    <a:ext cx="8253360" cy="59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81040" y="544680"/>
          <a:ext cx="783108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44680"/>
                    <a:ext cx="783108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9200" y="593640"/>
          <a:ext cx="79167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93640"/>
                    <a:ext cx="79167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681120"/>
          <a:ext cx="7310520" cy="51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31052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65080" y="1001880"/>
          <a:ext cx="7201080" cy="47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001880"/>
                    <a:ext cx="720108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2400" y="890640"/>
          <a:ext cx="765180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890640"/>
                    <a:ext cx="76518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inverso(“roma”) entrega “am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si_no()//leer y entregar un String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ál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444600"/>
          <a:ext cx="86151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4600"/>
                    <a:ext cx="86151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6760" y="843120"/>
          <a:ext cx="72309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843120"/>
                    <a:ext cx="7230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6640" y="806400"/>
          <a:ext cx="754380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806400"/>
                    <a:ext cx="754380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630360"/>
          <a:ext cx="758340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30360"/>
                    <a:ext cx="758340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16120" y="655560"/>
          <a:ext cx="770724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55560"/>
                    <a:ext cx="770724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6600" y="692280"/>
          <a:ext cx="82134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134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82640" y="806400"/>
          <a:ext cx="80010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806400"/>
                    <a:ext cx="8001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07-03-26T19:05:53Z</dcterms:modified>
  <cp:revision>22</cp:revision>
  <dc:subject/>
  <dc:title>Sin título de diapositiva</dc:title>
</cp:coreProperties>
</file>