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B916-4457-4C4B-A812-CC3883B5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594B-5ACC-4378-BAD9-9364020D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726A-7CD3-4315-B02B-EE6F0014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917D-235C-4DE3-9EEE-8820E7D4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E668-CB40-42F2-A591-C2164982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27E8-D92A-437C-BD48-E30F68E7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7ACB-704A-4154-95F2-E7BB29DF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0D6E-15EC-4D8C-8A72-81D1E126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43CD-EB84-4C90-A925-B732D1C1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19CD-ABB6-4B6B-8E8F-F566B158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2BA3-EB01-41D4-A4B5-07FB6C90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E58F-E58F-4CD5-BB77-C401F403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7CED-FB04-43C8-BF98-7FE40CF89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33320" y="554040"/>
          <a:ext cx="8229600" cy="62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2960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80960" y="469800"/>
          <a:ext cx="8494920" cy="670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69800"/>
                    <a:ext cx="8494920" cy="67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495360"/>
          <a:ext cx="825156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95360"/>
                    <a:ext cx="825156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53920" y="531720"/>
          <a:ext cx="7520040" cy="606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520040" cy="606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927000" y="792000"/>
          <a:ext cx="7880400" cy="560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92000"/>
                    <a:ext cx="7880400" cy="560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04720" y="409680"/>
          <a:ext cx="8218440" cy="660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409680"/>
                    <a:ext cx="8218440" cy="66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73200" y="444600"/>
          <a:ext cx="792936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444600"/>
                    <a:ext cx="792936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55560" y="792000"/>
          <a:ext cx="8301240" cy="555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792000"/>
                    <a:ext cx="8301240" cy="55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20840" y="420840"/>
          <a:ext cx="845820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20840"/>
                    <a:ext cx="845820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93560" y="433440"/>
          <a:ext cx="8542440" cy="833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33440"/>
                    <a:ext cx="8542440" cy="833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754200" y="619200"/>
          <a:ext cx="7893000" cy="640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19200"/>
                    <a:ext cx="7893000" cy="64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33320" y="457200"/>
          <a:ext cx="7929720" cy="567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57200"/>
                    <a:ext cx="7929720" cy="56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92000" y="260280"/>
          <a:ext cx="754560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260280"/>
                    <a:ext cx="75456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112760" y="743040"/>
          <a:ext cx="754704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743040"/>
                    <a:ext cx="75470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050840" y="828720"/>
          <a:ext cx="7508880" cy="53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28720"/>
                    <a:ext cx="7508880" cy="53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915840" y="779400"/>
          <a:ext cx="78552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79400"/>
                    <a:ext cx="78552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828720" y="482760"/>
          <a:ext cx="7893000" cy="67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482760"/>
                    <a:ext cx="7893000" cy="67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88920" y="803160"/>
          <a:ext cx="69771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803160"/>
                    <a:ext cx="69771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14520" y="588960"/>
          <a:ext cx="8240400" cy="549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588960"/>
                    <a:ext cx="824040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62040" y="601560"/>
          <a:ext cx="8192880" cy="536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601560"/>
                    <a:ext cx="819288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14480" y="816120"/>
          <a:ext cx="765648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16120"/>
                    <a:ext cx="765648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57080" y="685800"/>
          <a:ext cx="7977240" cy="756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685800"/>
                    <a:ext cx="7977240" cy="75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33440" y="480960"/>
          <a:ext cx="8518320" cy="70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80960"/>
                    <a:ext cx="8518320" cy="70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54040" y="480960"/>
          <a:ext cx="8240760" cy="668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480960"/>
                    <a:ext cx="8240760" cy="668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5-03-29T16:14:14Z</cp:lastPrinted>
  <dcterms:modified xsi:type="dcterms:W3CDTF">2007-03-23T13:55:10Z</dcterms:modified>
  <cp:revision>22</cp:revision>
  <dc:subject/>
  <dc:title>Sin título de diapositiva</dc:title>
</cp:coreProperties>
</file>