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7DB-44CB-4D9E-B523-F265537F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752-94BB-46CA-9866-A1B9D0A5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54E-5B7C-4021-B4A3-77CF076D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4FB-B2AD-4AE8-9278-9AD3EDA0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004-EF0E-44F2-94CC-8BB1B750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255-D5FC-4E92-AE49-63CC10A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97D-9317-4899-B1AD-87DB54B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138-933E-49C0-A840-071198E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7D1-BA1E-436B-808D-F2073E0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A9B-0025-4A52-88DD-CC71A736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37C-A23C-4986-A164-440B07D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596-6A54-49EE-BEB0-0A96FC6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A420-2810-42E5-B2A7-CD322DB7A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4720" y="409680"/>
          <a:ext cx="821844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09680"/>
                    <a:ext cx="821844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92936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92936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420840"/>
          <a:ext cx="84582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0840"/>
                    <a:ext cx="8458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3560" y="433440"/>
          <a:ext cx="8542440" cy="833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542440" cy="83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4040" y="480960"/>
          <a:ext cx="8240760" cy="66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480960"/>
                    <a:ext cx="824076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7-03-23T13:55:10Z</dcterms:modified>
  <cp:revision>22</cp:revision>
  <dc:subject/>
  <dc:title>Sin título de diapositiva</dc:title>
</cp:coreProperties>
</file>