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6AF-D253-4A32-803F-9D6ACAFA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2CE-2E55-4D4F-8AB2-67F82AE4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FB7-B2F7-4AE1-B6FB-C95B463D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C1C-DA03-4DB8-ABC2-784B9037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A1E-0F09-4C09-812E-FB8C11D3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DB0-19F3-4154-AC63-52BAC13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851-8C7F-4BD7-8A18-618147B1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B79-FCE9-48F9-82B6-91E162D2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4B7-8BBE-46FE-B477-C386DD8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913-8B65-43AB-9596-C59A492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192-D61D-4D16-9759-26EDA1C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FDC-37C0-4A22-A5DB-AC56543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8FF7-2018-4842-B627-E0043BE29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7-03-20T20:20:24Z</dcterms:modified>
  <cp:revision>23</cp:revision>
  <dc:subject/>
  <dc:title>Sin título de diapositiva</dc:title>
</cp:coreProperties>
</file>