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EBF-8DF9-4A4D-8104-3D476250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45B-B250-4EBA-BAD3-53D8F37E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2CE-F7E7-4A8F-A10A-C2FCDC64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492-88DD-4BDB-938E-8C52D1F0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48E-841E-484C-85B2-377F157D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6CE-3F97-4DD1-84FE-8B1F1DB2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91F-897F-4A08-9858-4F20831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360-C449-4ED6-8542-AB3E4C71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0A6-000F-4086-9CD8-2F875094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FA6-BCB3-4CBD-87A9-A993537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0F1-D5D9-41EE-BB8C-4261B8A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159-A881-43ED-BCA4-87553CF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5A9-5F14-4AA7-A5CA-EFC483BB4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7-03-20T20:20:24Z</dcterms:modified>
  <cp:revision>23</cp:revision>
  <dc:subject/>
  <dc:title>Sin título de diapositiva</dc:title>
</cp:coreProperties>
</file>