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DA4-49B8-4C62-91F9-4C46B35A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FAF-11D4-406E-B145-D3C35589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61D-58FA-4AEB-A6EA-BF3CBC05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57A-C79E-4BFA-8F15-6CCF0C13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4EA-8DDC-49CB-83A5-74529EDC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C30-3ACD-44F5-AAE1-93975876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D7C-EEC6-413E-8B9A-E673CC11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126-F0BE-47CE-9F6C-1BA39EA1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46F-3BC9-411C-968F-EF051964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0E4-E159-4091-BB9D-A4C3E4B0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DAF-32F9-4E00-AEB4-ADF0F342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460-84B3-4E0C-9787-0F9B3803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78B0-4AAD-4E86-A693-2A76A903C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792000"/>
          <a:ext cx="82882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792000"/>
                    <a:ext cx="82882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6600" y="730080"/>
          <a:ext cx="82627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30080"/>
                    <a:ext cx="82627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4720" y="722160"/>
          <a:ext cx="8386920" cy="68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722160"/>
                    <a:ext cx="8386920" cy="68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4200" y="642960"/>
            <a:ext cx="79167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906480"/>
            <a:ext cx="7372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s (funciones) propuestos (iterativos y/o recurs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07-03-20T20:20:24Z</dcterms:modified>
  <cp:revision>23</cp:revision>
  <dc:subject/>
  <dc:title>Sin título de diapositiva</dc:title>
</cp:coreProperties>
</file>