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94AC7-28CD-4145-B3C4-5C00E30FD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B3787-AE9B-402A-87E9-9355516B1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D6B92-0B11-4628-913E-CEC298C75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5F5D2-B3BF-4345-A8E0-7B1B58F9E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896DF-0140-4605-8DD7-FE5B64EE5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C7D96-7EF6-42AF-8869-9132BB8C9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D5330-33EB-4B21-BD44-B23A44399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A0EA3-750E-46D2-84E8-CFFA72B31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C9338-6E9F-4A78-98D4-BD4FAF74E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D6074-C9B7-4FAA-9115-44174DD9D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3DC31-EB40-4373-97C1-249783470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83F7F-2388-492F-89B3-4D2106796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10466-3360-4171-ACB2-A6E195537A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095480" y="601560"/>
          <a:ext cx="7315200" cy="7628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95480" y="601560"/>
                    <a:ext cx="7315200" cy="762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793800" y="722160"/>
          <a:ext cx="8121600" cy="6172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3800" y="722160"/>
                    <a:ext cx="8121600" cy="617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766800" y="681120"/>
          <a:ext cx="7991280" cy="7075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6800" y="681120"/>
                    <a:ext cx="7991280" cy="707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743040" y="803160"/>
          <a:ext cx="7904160" cy="5245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3040" y="803160"/>
                    <a:ext cx="7904160" cy="524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531720" y="792000"/>
          <a:ext cx="8288280" cy="5726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1720" y="792000"/>
                    <a:ext cx="8288280" cy="572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606600" y="730080"/>
          <a:ext cx="8262720" cy="6357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6600" y="730080"/>
                    <a:ext cx="8262720" cy="63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504720" y="722160"/>
          <a:ext cx="8386920" cy="6892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4720" y="722160"/>
                    <a:ext cx="8386920" cy="689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754200" y="642960"/>
            <a:ext cx="7916760" cy="52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042920" y="906480"/>
            <a:ext cx="7372440" cy="595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Métodos (funciones) propuestos (iterativos y/o recursiv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binario(13) escribe 11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verso(123) entrega 321 (funció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inimoComunMultiplo(3,4) entrega 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erfecto(6)=true porque 1+2+3=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imo(7) entrega true, primo(9)=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imosRelativos(4,9)=tru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imosRelativos(3,9)=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1263600" y="793800"/>
          <a:ext cx="7050240" cy="5378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63600" y="793800"/>
                    <a:ext cx="7050240" cy="537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1039680" y="779400"/>
          <a:ext cx="7496280" cy="5913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39680" y="779400"/>
                    <a:ext cx="7496280" cy="591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1336680" y="952560"/>
          <a:ext cx="5294160" cy="4836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6680" y="952560"/>
                    <a:ext cx="5294160" cy="483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770040" y="480960"/>
          <a:ext cx="8169120" cy="6280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0040" y="480960"/>
                    <a:ext cx="8169120" cy="628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770040" y="480960"/>
          <a:ext cx="8024760" cy="6448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0040" y="480960"/>
                    <a:ext cx="8024760" cy="644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746280" y="588960"/>
          <a:ext cx="8145360" cy="7543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6280" y="588960"/>
                    <a:ext cx="8145360" cy="754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915840" y="619200"/>
          <a:ext cx="7372440" cy="6234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5840" y="619200"/>
                    <a:ext cx="7372440" cy="62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1130400" y="927000"/>
          <a:ext cx="7351560" cy="5268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30400" y="927000"/>
                    <a:ext cx="7351560" cy="526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2T19:33:58Z</dcterms:created>
  <dc:creator>jalvarez</dc:creator>
  <dc:description/>
  <dc:language>en-US</dc:language>
  <cp:lastModifiedBy>jalvarez</cp:lastModifiedBy>
  <cp:lastPrinted>2006-03-22T18:37:38Z</cp:lastPrinted>
  <dcterms:modified xsi:type="dcterms:W3CDTF">2007-03-20T20:20:24Z</dcterms:modified>
  <cp:revision>23</cp:revision>
  <dc:subject/>
  <dc:title>Sin título de diapositiva</dc:title>
</cp:coreProperties>
</file>