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2B6-B67C-49E9-AC54-78A18F29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D1D-8C46-4E61-8381-234FDA65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951-59C2-4562-84CC-C571A0B3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2EE-B9FA-4DF2-BF54-CC596CBF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96C-65D9-4B2B-91B8-74362A4C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CC2-9488-48E9-9003-2BBFD144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1E6-1365-4679-98DD-03134F6D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673-51D0-43C7-B03D-038D5699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490-5BAD-4C1F-9CDD-BF5D7D4B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469-88C1-48CE-81B7-9596FF5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EEC-118E-46F6-B2F2-8F17BAC9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469-F333-469D-8612-CEA72B07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DE02-7E7A-41B3-BC4B-1347C1235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663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663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3320" y="554040"/>
          <a:ext cx="8253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4720" y="541440"/>
          <a:ext cx="85075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41440"/>
                    <a:ext cx="85075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71640" y="692280"/>
          <a:ext cx="741024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4102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66760" y="469800"/>
          <a:ext cx="765180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469800"/>
                    <a:ext cx="76518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7080" y="528480"/>
          <a:ext cx="8182080" cy="605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528480"/>
                    <a:ext cx="8182080" cy="60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63600" y="1155600"/>
          <a:ext cx="67737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155600"/>
                    <a:ext cx="67737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4720" y="528480"/>
          <a:ext cx="843444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28480"/>
                    <a:ext cx="843444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7-03-16T14:57:47Z</dcterms:modified>
  <cp:revision>18</cp:revision>
  <dc:subject/>
  <dc:title>Sin título de diapositiva</dc:title>
</cp:coreProperties>
</file>