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CFC-8DB2-4BC4-B00E-99FEB156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2EE-4F0F-4B11-9358-44795D0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B0B-6187-478A-896F-7CEDF810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6AB-F5E0-4502-96C0-BC15686A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E13-EDB4-47A4-95A2-0C283B36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EB2-D784-4EA8-AF19-0BCD9478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85B-EE3C-45F7-9EC7-C561889A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82C-20BB-4E4B-9933-29F841D2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FBB-5B32-41A0-A20F-DE437746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28D-9CE2-4A30-93C5-CB9AA6B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5EF-E957-403E-8017-A3C515D7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A94-D96B-4915-975F-CD2C2878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C7E-AFC3-43AA-9B2D-6A6425418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663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663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3320" y="554040"/>
          <a:ext cx="8253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4720" y="541440"/>
          <a:ext cx="85075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41440"/>
                    <a:ext cx="85075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71640" y="692280"/>
          <a:ext cx="741024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4102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66760" y="469800"/>
          <a:ext cx="765180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469800"/>
                    <a:ext cx="76518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7080" y="528480"/>
          <a:ext cx="8182080" cy="605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528480"/>
                    <a:ext cx="8182080" cy="60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63600" y="1155600"/>
          <a:ext cx="677376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155600"/>
                    <a:ext cx="67737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4720" y="528480"/>
          <a:ext cx="843444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28480"/>
                    <a:ext cx="843444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7-03-16T14:57:47Z</dcterms:modified>
  <cp:revision>18</cp:revision>
  <dc:subject/>
  <dc:title>Sin título de diapositiva</dc:title>
</cp:coreProperties>
</file>