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088-9B19-4CC3-A7C1-6E9E8552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687-CF65-42A1-94E6-68B1868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227-7BE7-4DBD-AD7E-879D8A0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AC8-780E-46DE-9868-FC4CB5CC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684-392A-4BF6-987E-72428421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5749-E327-42D1-B9AA-C9470B7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0895-A31C-46EE-9D6C-4F52CC52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8D5-1D08-42B1-A2CB-C0F5D7FF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A6C-2DD9-4335-A17F-AE4F8C8F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E959-7A7C-4180-BA71-465222F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0FB-6206-4856-89C5-0FE7A9D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9D7-427F-44B9-98D7-7144BCDC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2817-F60C-49CE-91CD-A1A8A137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8EB-99D9-4048-AE92-517EFE0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4A50-F1FF-482E-9E77-32F0987D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9F77-FF2B-4623-84A6-EFCD35D1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0283-8930-4281-98B6-EBC6009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64F-6E3D-4888-A28B-19A93BD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E44-3E0F-403A-8B8D-04E56D0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6D8-87C8-4FFB-BBFE-67019E88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93A-506E-47F0-BAB9-5C3728A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924-9ECF-4B1A-AF52-58B1F4E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F86-0A2C-474A-AC09-F8E9EA5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90A-1791-4F38-A776-891A6F6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5CB1-0B03-4A36-A2EC-89743433E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900-0AAC-4F47-A803-94A15EAE2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Patricio Inostroza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Jalis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Jalisc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tatic public void main(String[]args) throws IOExcepti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 n=U.readInt("Ingresa un numero: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.println("Gano yo con el "+(n+1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 de fracciones: a/b + b/c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pregunta por el valor y asigna las variables dou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a = U.readInt("a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b = U.readInt("b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c = U.readInt("c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 = U.readInt("d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creamos el numerador y el denominador del resultado y la su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num = a*d + b*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en = b*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ouble suma = num*1.0/de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imprimimos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"suma = " + num + "/" + den + " = " + sum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hora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oras = x /100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hora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minut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utos = (x/100)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minut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undos = x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segun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total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rs = horas(x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 = minut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 = segund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total = seg + min*60 + hrs*3600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to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void escribir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.println( x/3600 + ":" + (x/60)%60 + ":" + x%60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 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r y restar dos instantes de tiempo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1 = U.readInt("Primer instante(HHMMSS) ?  "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2 = U.readInt("Segundo instante(HHMMSS) ? 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mayor = 0, menor =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f(totalSegundos(t1) &gt; totalSegundos(t2)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se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mostramos en la pantalla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Suma  = "); escribir(totalSegundos(t1)+totalSegundos(t2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ayor = "); escribir(totalSegundos(may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enor = "); escribir(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Resta = " ); escribir(totalSegundos(mayor)-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glas del Ju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istencia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ualidad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lulares en silen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ontac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-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kflores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jvillane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onde descargar Java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n Micr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95a"/>
                </a:solidFill>
                <a:latin typeface="Tahoma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SE Development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164160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mbre del archivo = Nombre de la C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tensión del archivo debe ser “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97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4221000"/>
            <a:ext cx="54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ilar: trad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ermite identificar errores en 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compil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c Archivo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Genera un archivo de extensión “.clas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05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08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ólo es posible ejecutar si la compilación fue cor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ejecut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 Archiv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12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20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23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060640"/>
            <a:ext cx="1296720" cy="720720"/>
            <a:chOff x="2556000" y="2060640"/>
            <a:chExt cx="1296720" cy="720720"/>
          </a:xfrm>
        </p:grpSpPr>
        <p:sp>
          <p:nvSpPr>
            <p:cNvPr id="126" name=""/>
            <p:cNvSpPr/>
            <p:nvPr/>
          </p:nvSpPr>
          <p:spPr>
            <a:xfrm flipH="1">
              <a:off x="2556000" y="2060640"/>
              <a:ext cx="12967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2720" y="2060640"/>
              <a:ext cx="0" cy="7207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56360" y="1774080"/>
            <a:ext cx="3599640" cy="2375280"/>
            <a:chOff x="2556360" y="1774080"/>
            <a:chExt cx="3599640" cy="2375280"/>
          </a:xfrm>
        </p:grpSpPr>
        <p:sp>
          <p:nvSpPr>
            <p:cNvPr id="129" name=""/>
            <p:cNvSpPr/>
            <p:nvPr/>
          </p:nvSpPr>
          <p:spPr>
            <a:xfrm flipH="1">
              <a:off x="2556360" y="1774080"/>
              <a:ext cx="359964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000" y="1774080"/>
              <a:ext cx="0" cy="23752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436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34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lass U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BufferedReader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clado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 new BufferedReader(new InputStreamReader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ystem.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urn Integer.parseInt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 return readI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double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Doubl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return Double.parseDouble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l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ln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3-15T23:18:00Z</dcterms:modified>
  <cp:revision>4</cp:revision>
  <dc:subject/>
  <dc:title>CC100 04 - Computación I Auxiliar Nº 1</dc:title>
</cp:coreProperties>
</file>