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A34-5A03-4AE1-8350-BEAF16CC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61B-4599-45EF-9D0D-89DD180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A47-8A52-418F-957F-6A3B4AEB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CE4-2985-46FC-975D-87AE5FE4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EA9-4E16-4B51-B07C-53B15080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4D2-C939-439C-8A13-F81CAF91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C0D-858F-4FF7-9C47-CE22499E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70D-16B1-4C2E-8289-6739482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3272-7A87-4A44-B95C-38EDCCA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A627-CE8F-4033-9C2B-295BB64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79FF-08C8-4522-AB77-50E8423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504-8DCB-4217-8843-64DC0C01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1040-016F-4493-8CC9-B0DD9FD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02B-CC8D-4920-A957-4AB6D66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0FE-6657-4FEE-9A78-29A86DC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EC6-B0EF-4604-AEC8-82924E4D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793C-C857-46E4-97A2-C335B792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69E-485F-4EBA-8B18-086628A1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2AA-4251-4085-A734-CE74714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5E0-705E-41D3-9D8E-8D575AE9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C42-2F86-4E18-B5D8-23478FD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389-5416-4B23-AD30-BE3A66E5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494-31ED-4D7B-AA5A-40A1534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90A-866B-4065-AD93-7D71607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D2E-0524-4992-BF72-40CF38D4F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E0D-ABF2-4AB4-98A6-72F7CD5BA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Patricio Inostroza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Jalis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Jalisc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tatic public void main(String[]args) throws IOExcepti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 n=U.readInt("Ingresa un numero: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.println("Gano yo con el "+(n+1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 de fracciones: a/b + b/c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pregunta por el valor y asigna las variables dou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a = U.readInt("a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b = U.readInt("b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c = U.readInt("c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 = U.readInt("d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creamos el numerador y el denominador del resultado y la su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num = a*d + b*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en = b*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ouble suma = num*1.0/de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imprimimos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"suma = " + num + "/" + den + " = " + sum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hora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oras = x /100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hora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minut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utos = (x/100)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minut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undos = x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segun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total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rs = horas(x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 = minut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 = segund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total = seg + min*60 + hrs*3600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to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void escribir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.println( x/3600 + ":" + (x/60)%60 + ":" + x%60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 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r y restar dos instantes de tiempo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1 = U.readInt("Primer instante(HHMMSS) ?  "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2 = U.readInt("Segundo instante(HHMMSS) ? 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mayor = 0, menor =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f(totalSegundos(t1) &gt; totalSegundos(t2)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se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mostramos en la pantalla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Suma  = "); escribir(totalSegundos(t1)+totalSegundos(t2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ayor = "); escribir(totalSegundos(may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enor = "); escribir(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Resta = " ); escribir(totalSegundos(mayor)-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glas del Ju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istencia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ualidad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lulares en silen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ontac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-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kflores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jvillane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onde descargar Java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n Micr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95a"/>
                </a:solidFill>
                <a:latin typeface="Tahoma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SE Development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164160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mbre del archivo = Nombre de la C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tensión del archivo debe ser “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97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4221000"/>
            <a:ext cx="54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ilar: trad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ermite identificar errores en 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compil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c Archivo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Genera un archivo de extensión “.clas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05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08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ólo es posible ejecutar si la compilación fue cor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ejecut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 Archiv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12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20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23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060640"/>
            <a:ext cx="1296720" cy="720720"/>
            <a:chOff x="2556000" y="2060640"/>
            <a:chExt cx="1296720" cy="720720"/>
          </a:xfrm>
        </p:grpSpPr>
        <p:sp>
          <p:nvSpPr>
            <p:cNvPr id="126" name=""/>
            <p:cNvSpPr/>
            <p:nvPr/>
          </p:nvSpPr>
          <p:spPr>
            <a:xfrm flipH="1">
              <a:off x="2556000" y="2060640"/>
              <a:ext cx="12967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2720" y="2060640"/>
              <a:ext cx="0" cy="7207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56360" y="1774080"/>
            <a:ext cx="3599640" cy="2375280"/>
            <a:chOff x="2556360" y="1774080"/>
            <a:chExt cx="3599640" cy="2375280"/>
          </a:xfrm>
        </p:grpSpPr>
        <p:sp>
          <p:nvSpPr>
            <p:cNvPr id="129" name=""/>
            <p:cNvSpPr/>
            <p:nvPr/>
          </p:nvSpPr>
          <p:spPr>
            <a:xfrm flipH="1">
              <a:off x="2556360" y="1774080"/>
              <a:ext cx="359964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000" y="1774080"/>
              <a:ext cx="0" cy="23752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436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34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lass U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BufferedReader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clado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 new BufferedReader(new InputStreamReader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ystem.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urn Integer.parseInt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 return readI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double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Doubl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return Double.parseDouble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l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ln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3-15T23:18:00Z</dcterms:modified>
  <cp:revision>4</cp:revision>
  <dc:subject/>
  <dc:title>CC100 04 - Computación I Auxiliar Nº 1</dc:title>
</cp:coreProperties>
</file>