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EB5-EC81-4EBA-87D9-9EA13CF1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AA7-0C3C-4B4D-9371-D2B6AFA3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E30-1643-4D80-A232-81426F4A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42D-EAD6-41F8-8B1A-EC254B84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C90B-614F-4192-97C2-7BE26623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1E17-F5A0-4923-AF14-235B7932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A4BF-A8F8-4D80-AE7E-A83E763E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2CF4-51E6-4A34-A24D-2F663D2E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E2CD-F196-4D1C-8160-DB9224A1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F593-2F3D-425A-900D-B523E1B3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E999-B6A4-4633-A189-6D06F396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4C2-0730-48F2-A58F-FDE2F9CC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67EE-320A-4367-96D5-B26A55F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F841-266F-4267-B5EC-EC233AA6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79C4-D1BC-4607-BB2C-AEFF1462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CA57-C666-448F-8140-7765531B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6E65-B593-41C4-B76A-B16C2258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97F-95F8-4801-8B09-E46ADF76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90C-B5F5-45B1-8279-41CB1C6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5CC-1ECB-47A2-8358-135094E6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6C1-CEE0-468F-8DE3-88493C4F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CC7-804B-4635-BC9A-2ADDCD2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959-7A1D-4970-A328-81532C7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05C-26DC-4D90-BFF0-54C94FB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DEFF-64CA-4376-8585-35AB00F92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2359-E7BB-422C-8674-A18B96D32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Patricio Inostroza 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Jalis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ss Jalisc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tatic public void main(String[]args) throws IOException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 n=U.readInt("Ingresa un numero: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.println("Gano yo con el "+(n+1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 de fracciones: a/b + b/c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pregunta por el valor y asigna las variables dou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a = U.readInt("a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b = U.readInt("b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c = U.readInt("c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 = U.readInt("d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creamos el numerador y el denominador del resultado y la su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num = a*d + b*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en = b*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ouble suma = num*1.0/de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imprimimos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"suma = " + num + "/" + den + " = " + suma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hora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oras = x /100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hora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minut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utos = (x/100)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minut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undos = x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segund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total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rs = horas(x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 = minut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 = segund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total = seg + min*60 + hrs*3600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to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void escribir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.println( x/3600 + ":" + (x/60)%60 + ":" + x%60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 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r y restar dos instantes de tiempo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1 = U.readInt("Primer instante(HHMMSS) ?  "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2 = U.readInt("Segundo instante(HHMMSS) ? 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mayor = 0, menor = 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f(totalSegundos(t1) &gt; totalSegundos(t2)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se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mostramos en la pantalla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Suma  = "); escribir(totalSegundos(t1)+totalSegundos(t2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ayor = "); escribir(totalSegundos(may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enor = "); escribir(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Resta = " ); escribir(totalSegundos(mayor)-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glas del Ju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istencia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ualidad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lulares en silen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ontac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-Cur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kflores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jvillane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onde descargar Java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n Micro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95a"/>
                </a:solidFill>
                <a:latin typeface="Tahoma"/>
              </a:rPr>
              <a:t>http://java.su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SE Development 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own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1080" y="164160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ombre del archivo = Nombre de la C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tensión del archivo debe ser “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97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76720" y="4221000"/>
            <a:ext cx="54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ilar: trad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ermite identificar errores en 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compil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c Archivo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Genera un archivo de extensión “.clas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05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08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76720" y="292428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Sólo es posible ejecutar si la compilación fue cor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ejecut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 Archiv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12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20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23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2060640"/>
            <a:ext cx="1296720" cy="720720"/>
            <a:chOff x="2556000" y="2060640"/>
            <a:chExt cx="1296720" cy="720720"/>
          </a:xfrm>
        </p:grpSpPr>
        <p:sp>
          <p:nvSpPr>
            <p:cNvPr id="126" name=""/>
            <p:cNvSpPr/>
            <p:nvPr/>
          </p:nvSpPr>
          <p:spPr>
            <a:xfrm flipH="1">
              <a:off x="2556000" y="2060640"/>
              <a:ext cx="129672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2720" y="2060640"/>
              <a:ext cx="0" cy="7207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56360" y="1774080"/>
            <a:ext cx="3599640" cy="2375280"/>
            <a:chOff x="2556360" y="1774080"/>
            <a:chExt cx="3599640" cy="2375280"/>
          </a:xfrm>
        </p:grpSpPr>
        <p:sp>
          <p:nvSpPr>
            <p:cNvPr id="129" name=""/>
            <p:cNvSpPr/>
            <p:nvPr/>
          </p:nvSpPr>
          <p:spPr>
            <a:xfrm flipH="1">
              <a:off x="2556360" y="1774080"/>
              <a:ext cx="359964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000" y="1774080"/>
              <a:ext cx="0" cy="23752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436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34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lass U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BufferedReader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clado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 new BufferedReader(new InputStreamReader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ystem.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turn Integer.parseInt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 return readIn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double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Doubl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return Double.parseDouble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l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ln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3-15T23:18:00Z</dcterms:modified>
  <cp:revision>4</cp:revision>
  <dc:subject/>
  <dc:title>CC100 04 - Computación I Auxiliar Nº 1</dc:title>
</cp:coreProperties>
</file>