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36B-108F-43D3-98ED-7C5714EB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92D-18EB-4470-AF32-B5242E12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B76-1298-4CD8-A17E-D29F2F8C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512-6F38-4CE0-8698-F89399B1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F3C3-DF41-4B60-9AFF-5B857A65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F514-AE95-4FC7-811C-FE9E708F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A9B-B645-4B63-8569-8315D29A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96F9-AC68-40DE-BF24-4FC4876C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DE34-177B-4208-AC97-A09056C9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E9A8-9737-4F53-ACBE-F45A35AB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F893-1949-4718-99C7-2605A315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4A1-EBEA-4DEB-AB66-5F75B452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A0F5-B39D-4082-BDC6-0F2C6DDC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370F-E0C4-498E-97C4-6FCF05C0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5BA7-0BF0-497D-9D4E-DC8E3640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E9F9-C5D9-42BC-ADF6-460CE6D9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067D-C19D-4F78-9877-4855CA80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C7D-2240-47CC-894E-A66E2477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796-C48D-42E0-9251-DE4F9E87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319-62C7-4E73-A4D5-74584F76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C90-F3D6-49ED-AC26-D770E25A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F0B-9F23-4721-AE90-594AC78D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98B-23D5-4CD1-BD66-8C00C4EE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895-1394-46C2-9FB6-5309DE17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7889-599A-477D-9CB0-27B2D3D71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2689-63F3-4DC1-BD2D-4F1702C92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f. Patricio Inostroza 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aren Flores 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Jalis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ass Jalisco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tatic public void main(String[]args) throws IOException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 n=U.readInt("Ingresa un numero: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.println("Gano yo con el "+(n+1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 de fracciones: a/b + b/c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pregunta por el valor y asigna las variables dou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a = U.readInt("a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b = U.readInt("b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c = U.readInt("c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 = U.readInt("d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creamos el numerador y el denominador del resultado y la su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num = a*d + b*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en = b*d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ouble suma = num*1.0/de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imprimimos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"suma = " + num + "/" + den + " = " + suma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hora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oras = x /100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hora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minut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utos = (x/100)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minut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undos = x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segund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total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rs = horas(x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 = minut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 = segund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total = seg + min*60 + hrs*3600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to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void escribir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.println( x/3600 + ":" + (x/60)%60 + ":" + x%60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 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r y restar dos instantes de tiempo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1 = U.readInt("Primer instante(HHMMSS) ?  "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2 = U.readInt("Segundo instante(HHMMSS) ? 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mayor = 0, menor = 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f(totalSegundos(t1) &gt; totalSegundos(t2)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se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mostramos en la pantalla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Suma  = "); escribir(totalSegundos(t1)+totalSegundos(t2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ayor = "); escribir(totalSegundos(may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enor = "); escribir(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Resta = " ); escribir(totalSegundos(mayor)-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glas del Jue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istencia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ualidad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lulares en silen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ontac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-Cur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kflores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jvillane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onde descargar Java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n Micro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95a"/>
                </a:solidFill>
                <a:latin typeface="Tahoma"/>
              </a:rPr>
              <a:t>http://java.su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SE Development 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Down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1080" y="164160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ombre del archivo = Nombre de la Cl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tensión del archivo debe ser “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97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276720" y="4221000"/>
            <a:ext cx="54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mpilar: tradu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ermite identificar errores en 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compil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c Archivo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Genera un archivo de extensión “.clas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05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08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076720" y="292428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Sólo es posible ejecutar si la compilación fue cor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ejecut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 Archiv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12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20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23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56000" y="2060640"/>
            <a:ext cx="1296720" cy="720720"/>
            <a:chOff x="2556000" y="2060640"/>
            <a:chExt cx="1296720" cy="720720"/>
          </a:xfrm>
        </p:grpSpPr>
        <p:sp>
          <p:nvSpPr>
            <p:cNvPr id="126" name=""/>
            <p:cNvSpPr/>
            <p:nvPr/>
          </p:nvSpPr>
          <p:spPr>
            <a:xfrm flipH="1">
              <a:off x="2556000" y="2060640"/>
              <a:ext cx="129672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2720" y="2060640"/>
              <a:ext cx="0" cy="72072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56360" y="1774080"/>
            <a:ext cx="3599640" cy="2375280"/>
            <a:chOff x="2556360" y="1774080"/>
            <a:chExt cx="3599640" cy="2375280"/>
          </a:xfrm>
        </p:grpSpPr>
        <p:sp>
          <p:nvSpPr>
            <p:cNvPr id="129" name=""/>
            <p:cNvSpPr/>
            <p:nvPr/>
          </p:nvSpPr>
          <p:spPr>
            <a:xfrm flipH="1">
              <a:off x="2556360" y="1774080"/>
              <a:ext cx="359964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000" y="1774080"/>
              <a:ext cx="0" cy="237528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2436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34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lass U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BufferedReader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clado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= new BufferedReader(new InputStreamReader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ystem.i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turn Integer.parseInt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 return readInt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double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Doubl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return Double.parseDouble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l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ln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villane</cp:lastModifiedBy>
  <dcterms:modified xsi:type="dcterms:W3CDTF">2007-03-15T23:18:00Z</dcterms:modified>
  <cp:revision>4</cp:revision>
  <dc:subject/>
  <dc:title>CC100 04 - Computación I Auxiliar Nº 1</dc:title>
</cp:coreProperties>
</file>