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507-0465-451B-8B2C-170615AD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D89-7B07-449B-8925-C3F3E307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49B-402C-463B-AA9F-13B67B44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B69-F6AA-4B67-82B9-DBFD956A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8D2D-CDBA-4921-8718-969284F4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1BED-206A-47E7-93DA-2DB5FC74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F5F6-64E2-4AC5-9338-439B17B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B7F1-C937-4685-A73C-D5BAE896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C397-1C61-4C38-961A-BBE9A5E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89C-9FBB-4295-A38D-B9FBDE71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0260-FB53-4F35-AD2D-1520BE60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354-1DAC-4545-9035-1620AA28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3A12-8C1F-415D-994F-382D926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4F2-4FBB-485A-B677-7D67CB2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986B-8B4E-4459-AE5C-6BD211DB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0FC-A6D4-4065-BB0F-400FD3E4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464-95B9-4F2C-B097-52B44E6F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4AA-ED5D-4434-B4AB-05C36320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1E7-D7D6-4B9F-B194-D2FBAA2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AE4-477E-413F-ADF6-0A107AEC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E57-0D03-4942-B307-18BC2A5F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F6D-9817-40EC-872F-181551D0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44F6-BAAE-4A28-878B-53BC13B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C4E-8D0A-4F48-8FDC-CE4C1DCD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838B-12CB-4247-ADE3-F7924BA26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A223-DCFA-42F1-94B4-D74F91B30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rof. Patricio Inostroza 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Jalis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lass Jalisco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tatic public void main(String[]args) throws IOException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 n=U.readInt("Ingresa un numero: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.println("Gano yo con el "+(n+1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 de fracciones: a/b + b/c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pregunta por el valor y asigna las variables dou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a = U.readInt("a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b = U.readInt("b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c = U.readInt("c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 = U.readInt("d ?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creamos el numerador y el denominador del resultado y la sum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num = a*d + b*c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den = b*d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double suma = num*1.0/de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imprimimos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"suma = " + num + "/" + den + " = " + suma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hora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oras = x /100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hora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minut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utos = (x/100)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minut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undos = x%10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segundo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int totalSegundos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hrs = horas(x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min = minut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seg = segundos(x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int total = seg + min*60 + hrs*3600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return total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static public void escribir(int x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U.println( x/3600 + ":" + (x/60)%60 + ":" + x%60 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Problema 2 (parte 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static public void main(String[] args) throws IOException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Sumar y restar dos instantes de tiempo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1 = U.readInt("Primer instante(HHMMSS) ?  ")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t2 = U.readInt("Segundo instante(HHMMSS) ?  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ln(""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nt mayor = 0, menor = 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f(totalSegundos(t1) &gt; totalSegundos(t2))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se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ayor = t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menor = t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//mostramos en la pantalla el result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Suma  = "); escribir(totalSegundos(t1)+totalSegundos(t2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ayor = "); escribir(totalSegundos(may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Menor = "); escribir(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.print( "Resta = " ); escribir(totalSegundos(mayor)-totalSegundos(menor)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glas del Ju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sistencia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ualidad no es obligato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lulares en silen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ontac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-Cur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kflores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jvillane@ing.uchile.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onde descargar Java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n Micro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95a"/>
                </a:solidFill>
                <a:latin typeface="Tahoma"/>
              </a:rPr>
              <a:t>http://java.su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ava SE Development 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1080" y="164160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Nombre del archivo = Nombre de la Cl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Extensión del archivo debe ser “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97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76720" y="4221000"/>
            <a:ext cx="54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ompilar: trad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ermite identificar errores en 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compil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c Archivo.jav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Genera un archivo de extensión “.clas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05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08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076720" y="292428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Sólo es posible ejecutar si la compilación fue corr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Para ejecutar: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“java Archiv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12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os J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557360"/>
            <a:ext cx="180000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1. Escribir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archiv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292572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2. Compi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el arch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292640"/>
            <a:ext cx="1800360" cy="1008000"/>
          </a:xfrm>
          <a:prstGeom prst="rect">
            <a:avLst/>
          </a:prstGeom>
          <a:solidFill>
            <a:srgbClr val="ffffff">
              <a:alpha val="63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3. Ejecutar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d4d4d"/>
                </a:solidFill>
                <a:latin typeface="Tahoma"/>
              </a:rPr>
              <a:t>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e0000"/>
                </a:solidFill>
                <a:latin typeface="Tahoma"/>
              </a:rPr>
              <a:t>(jav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7280" y="4003560"/>
            <a:ext cx="1296720" cy="720720"/>
            <a:chOff x="4067280" y="4003560"/>
            <a:chExt cx="1296720" cy="720720"/>
          </a:xfrm>
        </p:grpSpPr>
        <p:sp>
          <p:nvSpPr>
            <p:cNvPr id="120" name=""/>
            <p:cNvSpPr/>
            <p:nvPr/>
          </p:nvSpPr>
          <p:spPr>
            <a:xfrm>
              <a:off x="4067280" y="4724280"/>
              <a:ext cx="1296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67280" y="400356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19280" y="2637000"/>
            <a:ext cx="1297080" cy="720720"/>
            <a:chOff x="1619280" y="2637000"/>
            <a:chExt cx="1297080" cy="720720"/>
          </a:xfrm>
        </p:grpSpPr>
        <p:sp>
          <p:nvSpPr>
            <p:cNvPr id="123" name=""/>
            <p:cNvSpPr/>
            <p:nvPr/>
          </p:nvSpPr>
          <p:spPr>
            <a:xfrm>
              <a:off x="1619280" y="3357720"/>
              <a:ext cx="1297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619280" y="2637000"/>
              <a:ext cx="0" cy="720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56000" y="2060640"/>
            <a:ext cx="1296720" cy="720720"/>
            <a:chOff x="2556000" y="2060640"/>
            <a:chExt cx="1296720" cy="720720"/>
          </a:xfrm>
        </p:grpSpPr>
        <p:sp>
          <p:nvSpPr>
            <p:cNvPr id="126" name=""/>
            <p:cNvSpPr/>
            <p:nvPr/>
          </p:nvSpPr>
          <p:spPr>
            <a:xfrm flipH="1">
              <a:off x="2556000" y="2060640"/>
              <a:ext cx="129672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52720" y="2060640"/>
              <a:ext cx="0" cy="72072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56360" y="1774080"/>
            <a:ext cx="3599640" cy="2375280"/>
            <a:chOff x="2556360" y="1774080"/>
            <a:chExt cx="3599640" cy="2375280"/>
          </a:xfrm>
        </p:grpSpPr>
        <p:sp>
          <p:nvSpPr>
            <p:cNvPr id="129" name=""/>
            <p:cNvSpPr/>
            <p:nvPr/>
          </p:nvSpPr>
          <p:spPr>
            <a:xfrm flipH="1">
              <a:off x="2556360" y="1774080"/>
              <a:ext cx="3599640" cy="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000" y="1774080"/>
              <a:ext cx="0" cy="2375280"/>
            </a:xfrm>
            <a:prstGeom prst="line">
              <a:avLst/>
            </a:prstGeom>
            <a:ln w="507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436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códi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27640" y="206064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Corregir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443640" y="5373720"/>
            <a:ext cx="504720" cy="287280"/>
            <a:chOff x="6443640" y="5373720"/>
            <a:chExt cx="504720" cy="287280"/>
          </a:xfrm>
        </p:grpSpPr>
        <p:sp>
          <p:nvSpPr>
            <p:cNvPr id="134" name=""/>
            <p:cNvSpPr/>
            <p:nvPr/>
          </p:nvSpPr>
          <p:spPr>
            <a:xfrm>
              <a:off x="6443640" y="5661000"/>
              <a:ext cx="504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443640" y="5373720"/>
              <a:ext cx="0" cy="287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020000" y="551808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Entregar T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lase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import java.io.*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class U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BufferedReader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clado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= new BufferedReader(new InputStreamReader(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ystem.i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turn Integer.parseInt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int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 return readInt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double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adDouble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throws IOException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int(x);return Double.parseDouble(teclado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tatic public void 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intln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String x)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ystem.out.println(x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3-15T23:18:00Z</dcterms:modified>
  <cp:revision>4</cp:revision>
  <dc:subject/>
  <dc:title>CC100 04 - Computación I Auxiliar Nº 1</dc:title>
</cp:coreProperties>
</file>