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31A-FAC3-4124-A15C-6F6CC3D5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0C1-3A52-456A-8B46-6618FD17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D46-B55E-46CA-91D6-9777CBA1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8DD-D3B0-4E4A-9988-6F1F42FC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73A-1C30-494C-A61C-1AD5D3DE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9D3-976C-4703-88E1-FBF43C08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8E6-3606-44E6-A19D-C78D0DD1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EB2-5512-4FE2-9C89-D93878F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360-52C7-423A-BCBB-1567A12B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A42-0E31-4B15-8D76-651A76D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D10-3B89-4A19-AFDD-04ECD5E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4E8-B74B-409A-903C-EA41FDA0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C1B-B321-4061-9063-EDE4F8BF0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6000" y="480960"/>
          <a:ext cx="8783640" cy="67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80960"/>
                    <a:ext cx="8783640" cy="67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7-03-13T13:10:54Z</dcterms:modified>
  <cp:revision>14</cp:revision>
  <dc:subject/>
  <dc:title>Sin título de diapositiva</dc:title>
</cp:coreProperties>
</file>