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C0B-9A5F-46BB-BE39-E2FFC35B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45E-587A-4C61-8E24-C6E8F4FA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F4A-5B3D-408B-9AED-EB18B6B1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FDC-7DAE-4D8A-8EA7-775311C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A73-4065-43FB-B62C-438D4A8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518-2F37-4000-B9A3-8A82457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A25-82E0-4AD8-98BD-117F5CB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DDE-D22A-4F7A-A2D4-B076313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7BD-12B4-4665-B953-AF1D5A8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1D7-6183-4576-A17D-D658B13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1F-643F-4AFB-9461-FC37C8F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6CC-3227-4453-AD08-29791E2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EDB-5C8C-4A1D-82D0-90BE3C87B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6000" y="480960"/>
          <a:ext cx="8783640" cy="67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80960"/>
                    <a:ext cx="878364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7-03-13T13:10:54Z</dcterms:modified>
  <cp:revision>14</cp:revision>
  <dc:subject/>
  <dc:title>Sin título de diapositiva</dc:title>
</cp:coreProperties>
</file>