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C0A-432C-4F99-AB5D-E715E9E0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7D79-CFCE-42F1-9F13-C441A082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EF1-161A-4716-88DB-F3B82C92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F14-24DB-486B-A386-3AA44DE1D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EB3-0950-4BDC-9875-BFFC5B73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9C8-63E2-4953-A3DD-28E08607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545-73ED-4C03-A5B9-44384FA0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3EC-5BC0-453D-8D7A-62CE1FB2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2BD1-D2D1-4C13-89F4-63007599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A40-E2DB-46A0-B4ED-A58E7C63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29F-0A6E-4317-A1F0-358D9310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090-40D7-43E4-BD55-08C39D14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DA30-4E4C-4945-B30C-2FCC57F06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27000" y="746280"/>
          <a:ext cx="77598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6280"/>
                    <a:ext cx="77598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93560" y="601560"/>
          <a:ext cx="844560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601560"/>
                    <a:ext cx="84456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4520" y="770040"/>
          <a:ext cx="82645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0040"/>
                    <a:ext cx="82645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2360" y="662040"/>
          <a:ext cx="865044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662040"/>
                    <a:ext cx="865044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44680" y="619200"/>
          <a:ext cx="82994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2994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5840" y="743040"/>
          <a:ext cx="731052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43040"/>
                    <a:ext cx="731052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1. Ordenar 4 números generados al az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Indicación. Ordene los 3 primeros y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guida determine el lugar del 4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. Escribir la funció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atic public int mayor(int x,int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in usar la función Math.max ni Math.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80960" y="444600"/>
          <a:ext cx="8458200" cy="588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44600"/>
                    <a:ext cx="8458200" cy="58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7680" y="649440"/>
          <a:ext cx="844524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44524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5800" y="709560"/>
          <a:ext cx="8242200" cy="539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9560"/>
                    <a:ext cx="824220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54040" y="685800"/>
          <a:ext cx="8373960" cy="56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685800"/>
                    <a:ext cx="83739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8960" y="554040"/>
          <a:ext cx="826596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54040"/>
                    <a:ext cx="826596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07-03-09T18:16:15Z</dcterms:modified>
  <cp:revision>31</cp:revision>
  <dc:subject/>
  <dc:title>Sin título de diapositiva</dc:title>
</cp:coreProperties>
</file>