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B75-1F8F-4F26-A5AD-08DE4BA1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74E-476E-4CA8-A847-A32C9820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9B2-E901-4D19-B2DD-D5822786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5BE-7225-446F-8526-2B2B1485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F55-99B5-4C96-A528-1D660926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DDD-C000-436E-8852-5D661E5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1AB-4237-41D8-8F38-A865CF0F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333-AE20-4C6F-BB26-CB4D324E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FDA-5846-4928-BF95-C1206CEA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7D1-05F6-4536-AB7C-906A7F03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47D-6396-45E6-99F4-5ABDAA96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280-580E-49C2-A73C-ADB06D06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3E4D-9B03-47FA-A3CA-D3FC17F37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Ordenar 4 números generados al a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ción. Ordene los 3 primeros y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uida determine el lugar del 4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. Escribir la func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atic public int mayor(int x,int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 usar la función Math.max ni Math.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80960" y="444600"/>
          <a:ext cx="8458200" cy="58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44600"/>
                    <a:ext cx="845820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7-03-09T18:16:15Z</dcterms:modified>
  <cp:revision>31</cp:revision>
  <dc:subject/>
  <dc:title>Sin título de diapositiva</dc:title>
</cp:coreProperties>
</file>