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20B3-E369-4C4C-8483-9BF33A45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92C-A02D-4E1B-BD2B-E5CB65D5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637E-EFD0-4FEA-B1A4-A667BD65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B07-F43A-455E-B96C-F0CA2B08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233-E6DA-40A7-867C-C55C139D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65A6-DD94-4830-8986-4DB07EA8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D6DF-9515-4F66-9110-6A32B382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89F8-F963-4153-AB2B-0052127F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94FF-C644-407C-9926-7706AC61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3DF-D540-448D-BD03-B1D643AF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7D8-7DE8-4DFC-B066-155A3316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D9F5-4048-4A83-BD96-13FA8DF2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FDD1-DFBC-403B-BE6D-73D9F330A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ones T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227240"/>
          <a:ext cx="8518680" cy="51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27240"/>
                    <a:ext cx="851868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939960" y="606600"/>
          <a:ext cx="7954920" cy="615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606600"/>
                    <a:ext cx="7954920" cy="61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93640" y="531720"/>
          <a:ext cx="789156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31720"/>
                    <a:ext cx="789156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16120" y="754200"/>
            <a:ext cx="7323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24080" y="952560"/>
            <a:ext cx="7310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72960" y="396720"/>
          <a:ext cx="8663040" cy="630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396720"/>
                    <a:ext cx="8663040" cy="63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96720" y="504720"/>
          <a:ext cx="855504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04720"/>
                    <a:ext cx="85550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614520"/>
          <a:ext cx="81691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614520"/>
                    <a:ext cx="81691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Tar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cribir programas para los diálogos indic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Número de 3 dígitos ? 1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Número invertido = 321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echa en la forma AAAAMMDD ? 200612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echa=31/12/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¿Cuánto dinero necesita del cajero? 38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tire los siguientes billetes del dispensa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de $1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 de $5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 de $1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5440" y="662040"/>
          <a:ext cx="84088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662040"/>
                    <a:ext cx="84088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49440" y="614520"/>
          <a:ext cx="7592760" cy="570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14520"/>
                    <a:ext cx="7592760" cy="57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33440" y="409680"/>
          <a:ext cx="8639280" cy="647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09680"/>
                    <a:ext cx="8639280" cy="64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93560" y="409680"/>
          <a:ext cx="8313840" cy="63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09680"/>
                    <a:ext cx="8313840" cy="63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65160" y="668160"/>
            <a:ext cx="75326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5920" y="649440"/>
          <a:ext cx="79279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649440"/>
                    <a:ext cx="79279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01560"/>
          <a:ext cx="824220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1560"/>
                    <a:ext cx="824220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98400" y="601560"/>
          <a:ext cx="7446960" cy="56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601560"/>
                    <a:ext cx="7446960" cy="56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4:27:06Z</dcterms:created>
  <dc:creator>jalvarez</dc:creator>
  <dc:description/>
  <dc:language>en-US</dc:language>
  <cp:lastModifiedBy>jalvarez</cp:lastModifiedBy>
  <cp:lastPrinted>2005-03-11T14:50:06Z</cp:lastPrinted>
  <dcterms:modified xsi:type="dcterms:W3CDTF">2007-03-08T15:15:55Z</dcterms:modified>
  <cp:revision>20</cp:revision>
  <dc:subject/>
  <dc:title>Soluciones Tarea</dc:title>
</cp:coreProperties>
</file>