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DEB4-2ED7-4416-A2E8-C02891150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18D3-4DF3-45CC-84E0-0773C85C2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F75E-FE01-4DE7-A1B9-2817D4D64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9EB6-E40A-4DBB-AB54-4E9003191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A9D9-3EE1-456A-8113-7D389C04C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44D8-752D-4548-9C0B-D84880ADD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BBE5-7554-46C5-B094-F564F5F16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791B-9328-4895-9E09-FFE7EF9D4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7E91-2BDC-4D05-A818-FF9DFCF2C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4E72-3A93-4993-ACF2-6DBADB6E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76FE-D525-4630-BCD6-7BBFE03E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0394-4F06-49B0-893D-4CF560AC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266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524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9076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fld id="{4A98A190-5B45-4EBE-BF9A-270EB1404D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08200" y="655560"/>
          <a:ext cx="6862680" cy="499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8200" y="655560"/>
                    <a:ext cx="6862680" cy="49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42880" y="1025640"/>
          <a:ext cx="8058240" cy="537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2880" y="1025640"/>
                    <a:ext cx="8058240" cy="53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16040" y="617400"/>
          <a:ext cx="8143920" cy="739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040" y="617400"/>
                    <a:ext cx="8143920" cy="739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4880" y="306000"/>
            <a:ext cx="7770960" cy="684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breviatu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907560"/>
            <a:ext cx="8062920" cy="51879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 fontScale="92000"/>
          </a:bodyPr>
          <a:p>
            <a:pPr marL="293400" indent="-293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n=U.readInt(“Ingresa un nº:”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equivalente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(“Ingresa un nº: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n; n=U.readIn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400" indent="-293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“Gano yo con el “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+ (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+1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equivalente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“Gano yo con el “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(n+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840" indent="-245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+: operador de concatenación (añadidu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840" indent="-245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éntesis obligan a calcular primer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400" indent="-293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n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“Gano yo con el “ + (n+1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intln (print line): escribe y después posiciona el curs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l comienzo de la siguiente línea en la panta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223920" y="988920"/>
          <a:ext cx="7778520" cy="503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920" y="988920"/>
                    <a:ext cx="7778520" cy="50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06520" y="506520"/>
          <a:ext cx="8291520" cy="704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506520"/>
                    <a:ext cx="8291520" cy="704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rrores” posi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 fontScale="93000"/>
          </a:bodyPr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seguir fielmente el diálogo propue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lvidar escribir línea de tít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cribir con mayúscu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cribir línea de título con print y no printl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cribir pregunta con println y no con pr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mbrar inadecuadamente la variable (n y no r o rad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cribir la letra griega 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cribir 3,1416 y no 3.14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quivocarse en valor de л (Ej: 3.41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lvidar operador de multiplicación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ar notación inexistente para elevar al cuadrado (r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o r^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31640" y="716040"/>
          <a:ext cx="8575920" cy="596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716040"/>
                    <a:ext cx="8575920" cy="59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247680" y="358920"/>
          <a:ext cx="8710560" cy="584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680" y="358920"/>
                    <a:ext cx="8710560" cy="58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79280" y="298800"/>
            <a:ext cx="8964720" cy="63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e de la U con métodos para leer y escribir núm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ort java.io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U{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en archivo U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BufferedRead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clad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BufferedReader(new InputStreamReader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i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Integer.parseInt(teclado.readLine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(x)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read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doub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Doub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throws IOException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(x);return Double.parseDouble(teclado.readLine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(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519120" y="704880"/>
          <a:ext cx="7883640" cy="591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704880"/>
                    <a:ext cx="788364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851040" y="870120"/>
          <a:ext cx="7445160" cy="456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1040" y="870120"/>
                    <a:ext cx="7445160" cy="45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915840" y="841320"/>
          <a:ext cx="7645680" cy="580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841320"/>
                    <a:ext cx="7645680" cy="58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85800" y="533520"/>
          <a:ext cx="6632640" cy="739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533520"/>
                    <a:ext cx="6632640" cy="739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54200" y="803160"/>
          <a:ext cx="7723080" cy="54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803160"/>
                    <a:ext cx="772308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Lenguaje Java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gener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 fontScale="97000"/>
          </a:bodyPr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pirado en idioma inglé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int, print, rea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notación matemá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presiones: n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unciones: print(...), readI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ntaxis (gramática, escritura) reglamen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terminan c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con significados especiales (int, print, read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minúsculas (salvo casos espe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mántica (interpretación) precisa (sin ambigüeda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con significado/efecto bien defi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53352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ctr">
            <a:noAutofit/>
          </a:bodyPr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enguaje Java: características 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37160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normAutofit/>
          </a:bodyPr>
          <a:p>
            <a:pPr marL="297000" indent="-297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eado (diseñado) en 1994 en empresa S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7000" indent="-297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perconjunto” del lenguaje C (197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7000" indent="-297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bconjunto” del lenguaje C++ (198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7000" indent="-297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enguaje orientado a ob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4400" indent="-247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ilidades para modelar/simular problemas re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4400" indent="-247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mueve herencia (reutilización) de progra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7000" indent="-297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enguaje orientado a redes y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4400" indent="-247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ilidades para insertar programas en páginas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4400" indent="-247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utación concurrente y distribui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7000" indent="-297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766800" y="901800"/>
          <a:ext cx="7610400" cy="504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901800"/>
                    <a:ext cx="7610400" cy="50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716040" y="792000"/>
          <a:ext cx="8269200" cy="5911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040" y="792000"/>
                    <a:ext cx="8269200" cy="591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9:55:34Z</dcterms:created>
  <dc:creator>jalvarez</dc:creator>
  <dc:description/>
  <dc:language>en-US</dc:language>
  <cp:lastModifiedBy>jalvarez</cp:lastModifiedBy>
  <cp:lastPrinted>2006-03-07T16:10:21Z</cp:lastPrinted>
  <dcterms:modified xsi:type="dcterms:W3CDTF">2007-03-06T16:40:55Z</dcterms:modified>
  <cp:revision>49</cp:revision>
  <dc:subject/>
  <dc:title>Sin título de diapositiva</dc:title>
</cp:coreProperties>
</file>