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195-0757-4C5C-98CB-A2934CC2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3CA-2540-49FE-8696-F754B334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AE6-2B05-40EB-98D0-85D349B1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C5C-73A5-4C71-AD9A-60E6E66E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B78-5F2E-43AC-A118-CBBDB19D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AAC-A362-4F5F-8C57-C73B5199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1CF-BA00-4308-B337-2AE3540F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481-FE2B-4FCC-8578-F50BAC89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C53-A912-4C4B-8D90-AA0EA858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CB8-8DC7-4785-A708-8C6ECB5F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CCF-B057-46CB-B50C-11D06111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119-D626-4168-8496-54BC1298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CB09CA88-7B89-4283-ABAA-283BB9DE6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8200" y="655560"/>
          <a:ext cx="686268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655560"/>
                    <a:ext cx="6862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2880" y="1025640"/>
          <a:ext cx="8058240" cy="53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025640"/>
                    <a:ext cx="805824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040" y="617400"/>
          <a:ext cx="8143920" cy="739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617400"/>
                    <a:ext cx="8143920" cy="73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brevi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062920" cy="518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; n=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: operador de concatenación (añadid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éntesis obligan a calcular primer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+ (n+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intln (print line): escribe y después posiciona el cur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comienzo de la siguiente línea en la 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3920" y="988920"/>
          <a:ext cx="777852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988920"/>
                    <a:ext cx="7778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6520" y="506520"/>
          <a:ext cx="8291520" cy="704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29152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es”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guir fielmente el diálog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escribir línea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n mayús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ínea de título con print y no 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pregunta con println y no con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ar inadecuadamente la variable (n y no r o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a letra griega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3,1416 y no 3.14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vocarse en valor de л (Ej: 3.41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operador de multiplicación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notación inexistente para elevar al cuadrado (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o r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716040"/>
          <a:ext cx="8575920" cy="59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716040"/>
                    <a:ext cx="857592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58920"/>
          <a:ext cx="871056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71056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800"/>
            <a:ext cx="89647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19120" y="704880"/>
          <a:ext cx="788364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704880"/>
                    <a:ext cx="788364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1040" y="870120"/>
          <a:ext cx="744516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870120"/>
                    <a:ext cx="744516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5840" y="841320"/>
          <a:ext cx="764568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841320"/>
                    <a:ext cx="76456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33520"/>
          <a:ext cx="6632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6632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803160"/>
          <a:ext cx="77230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803160"/>
                    <a:ext cx="7723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print, read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je Java: característic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rmAutofit/>
          </a:bodyPr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do (diseñado) en 1994 en empres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conjunto” del lenguaje C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conjunto” del lenguaje C++ (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modelar/simular problema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ueve herencia (reutilización) d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redes y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insertar programas en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 concurrente y distrib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6800" y="901800"/>
          <a:ext cx="7610400" cy="50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6040" y="792000"/>
          <a:ext cx="8269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92000"/>
                    <a:ext cx="8269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7-03-06T16:40:55Z</dcterms:modified>
  <cp:revision>49</cp:revision>
  <dc:subject/>
  <dc:title>Sin título de diapositiva</dc:title>
</cp:coreProperties>
</file>