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1D0-1ECA-4E73-8A03-8EE2F763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662-401F-41D8-9325-0C2F7061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84D-04C1-4634-A281-26BE319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0CC-7E49-44E2-96C6-B07AFD7B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074-ECC7-4442-8984-AD1CCCF0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14E-F46A-480B-B9C2-9386882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0DD-7298-413C-918B-F36C918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B92-41F3-4801-AC27-65442CE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805-5181-482F-ACD8-E7D0666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7B8-6DF1-4159-B5FD-B9A525E3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8BD-6413-444C-BA2F-D33C1C0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FA8-2897-4504-B158-FFC8442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568C237-D11A-4C8B-80B0-928ED3209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 (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-24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-29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“Gano yo con el “ + (n+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7-03-06T16:40:55Z</dcterms:modified>
  <cp:revision>49</cp:revision>
  <dc:subject/>
  <dc:title>Sin título de diapositiva</dc:title>
</cp:coreProperties>
</file>