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8D2-91DB-4472-924F-8A88B804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56E-9408-48B5-A0A4-A72F1538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B72-416B-437B-849F-2BF71C56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C2A-1A13-4E8F-A2F6-0D4C6CFF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552-1992-47E8-A047-3F984201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CA7-C670-4951-BFF0-D68F2E5D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811-4735-4FA4-8090-0BCB3EA9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297-AD2A-49C9-A4AA-484FDB1A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2CC-38DE-4045-BD50-03785DB6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695-4A94-4D0A-80C8-E4EC5CE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C12-E2E1-4D4B-B262-4DA40920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3DF-FBDA-4056-ABD2-FCA84554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B532A386-E86C-41E9-AC74-044E737FD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+ (n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7-03-06T16:40:55Z</dcterms:modified>
  <cp:revision>49</cp:revision>
  <dc:subject/>
  <dc:title>Sin título de diapositiva</dc:title>
</cp:coreProperties>
</file>