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C210-EAB8-4743-A51F-FFA020D3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511E-8069-4B9A-90FF-334D42CD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72A2-C0D9-4024-AFD4-0DC3E5D9C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D94C-71C7-41FA-BBD0-58DDE87B7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4800-77E7-4861-A982-61ED7029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7FEF-2A0F-40AA-8E57-9F9E2A81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5878-13EB-47FA-A016-5276F22B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0977-F6DD-46FA-A2EA-F34FE09D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C1DB-87AB-4876-9775-61EAA9B8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94FB-A5C7-436A-9D4E-B14F1676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6D67-BA12-46EE-AE54-77CE88E8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06E0-F99F-480C-94E1-82D2DB57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8033-395A-4A8A-B7A4-92436065A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04880" y="730080"/>
          <a:ext cx="816444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730080"/>
                    <a:ext cx="816444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27000" y="746280"/>
          <a:ext cx="77598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46280"/>
                    <a:ext cx="77598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93560" y="601560"/>
          <a:ext cx="8445600" cy="607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601560"/>
                    <a:ext cx="844560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81040" y="668160"/>
          <a:ext cx="838692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668160"/>
                    <a:ext cx="838692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09520" y="754200"/>
          <a:ext cx="878364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754200"/>
                    <a:ext cx="87836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14520" y="770040"/>
          <a:ext cx="8264520" cy="58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770040"/>
                    <a:ext cx="826452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52360" y="662040"/>
          <a:ext cx="8650440" cy="618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662040"/>
                    <a:ext cx="865044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44680" y="619200"/>
          <a:ext cx="829944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619200"/>
                    <a:ext cx="829944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15840" y="743040"/>
          <a:ext cx="7310520" cy="649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743040"/>
                    <a:ext cx="7310520" cy="64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a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1. Ordenar 4 números generados al az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ndicación. Ordene los 3 primeros y 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guida determine el lugar del 4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2. Escribir la funció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tatic public int mayor(int x,int 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in usar la función Math.max ni Math.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80960" y="444600"/>
          <a:ext cx="8458200" cy="588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44600"/>
                    <a:ext cx="8458200" cy="58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17680" y="649440"/>
          <a:ext cx="844524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649440"/>
                    <a:ext cx="844524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92280" y="544680"/>
          <a:ext cx="77691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85800" y="709560"/>
          <a:ext cx="8242200" cy="539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09560"/>
                    <a:ext cx="8242200" cy="53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54040" y="685800"/>
          <a:ext cx="8373960" cy="569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685800"/>
                    <a:ext cx="837396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8960" y="554040"/>
          <a:ext cx="826596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554040"/>
                    <a:ext cx="826596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43040" y="803160"/>
          <a:ext cx="8126280" cy="682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03160"/>
                    <a:ext cx="8126280" cy="682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6-03-14T15:11:26Z</cp:lastPrinted>
  <dcterms:modified xsi:type="dcterms:W3CDTF">2007-03-09T18:16:15Z</dcterms:modified>
  <cp:revision>31</cp:revision>
  <dc:subject/>
  <dc:title>Sin título de diapositiva</dc:title>
</cp:coreProperties>
</file>