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B9B-4688-4C25-B792-A2B63C10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717-F23B-40BB-9954-AFCAA2FF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0F1-0592-47AF-BA34-3DA748FE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8AB-B71B-4046-9C00-6FA12855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F66-4D9D-4D3F-A01B-BF8C10FF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500-ADE1-48C7-81C9-02312123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6D8-766E-49B4-8244-38D378A5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F86-CF33-461A-8EE5-8F58994D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9D6-DEFC-4D89-876E-73BB4523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ADE-2C8E-4833-92CC-68D19AAD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80D-A9B5-48CF-8417-EBF4C498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982-7BFC-4565-B931-9C24836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3835-39E7-4F66-A54A-8CEB56C23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27240"/>
          <a:ext cx="8518680" cy="51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7240"/>
                    <a:ext cx="851868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606600"/>
          <a:ext cx="795492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93640" y="531720"/>
          <a:ext cx="78915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78915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6120" y="754200"/>
            <a:ext cx="732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24080" y="952560"/>
            <a:ext cx="7310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72960" y="396720"/>
          <a:ext cx="8663040" cy="63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6720"/>
                    <a:ext cx="866304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6720" y="504720"/>
          <a:ext cx="855504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04720"/>
                    <a:ext cx="85550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programas para los diálogos indic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Número de 3 dígitos ? 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úmero invertido = 32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 en la forma AAAAMMDD ? 200612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=31/12/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¿Cuánto dinero necesita del cajero? 38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tire los siguientes billetes del dispens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de $5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5440" y="662040"/>
          <a:ext cx="8408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662040"/>
                    <a:ext cx="8408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49440" y="614520"/>
          <a:ext cx="75927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14520"/>
                    <a:ext cx="75927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33440" y="409680"/>
          <a:ext cx="8639280" cy="647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09680"/>
                    <a:ext cx="8639280" cy="64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93560" y="409680"/>
          <a:ext cx="831384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09680"/>
                    <a:ext cx="83138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65160" y="668160"/>
            <a:ext cx="7532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5920" y="649440"/>
          <a:ext cx="79279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649440"/>
                    <a:ext cx="79279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01560"/>
          <a:ext cx="82422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82422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601560"/>
          <a:ext cx="7446960" cy="56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01560"/>
                    <a:ext cx="744696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jalvarez</cp:lastModifiedBy>
  <cp:lastPrinted>2005-03-11T14:50:06Z</cp:lastPrinted>
  <dcterms:modified xsi:type="dcterms:W3CDTF">2007-03-08T15:15:55Z</dcterms:modified>
  <cp:revision>20</cp:revision>
  <dc:subject/>
  <dc:title>Soluciones Tarea</dc:title>
</cp:coreProperties>
</file>