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785-0043-4BD5-9264-AD24C149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1C3-A0A9-4070-AAAE-1FC352A6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0E8-62AC-4732-AB69-90A3F070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EE7-DCC5-40D3-8C3E-6F14580A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9485-56DF-4123-A2DE-E6070BB3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1795-0CA7-47DF-93E4-0D30BC18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AAF5-3E58-44E0-8423-904BF56D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573-F948-4D71-98AE-055FFD5F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99F-C779-49F9-8503-63B33948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01C-0F0B-4013-B621-214FFC4F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D1F-2E92-42FB-B78B-AEA5D27B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5C1-8CF8-4D9A-9176-2EE9D091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C1CBE11C-5BC5-4ACB-895E-6E0FE76010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8200" y="655560"/>
          <a:ext cx="6862680" cy="49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655560"/>
                    <a:ext cx="686268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2880" y="1025640"/>
          <a:ext cx="8058240" cy="53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1025640"/>
                    <a:ext cx="805824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6040" y="617400"/>
          <a:ext cx="8143920" cy="739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617400"/>
                    <a:ext cx="8143920" cy="739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488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brevi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907560"/>
            <a:ext cx="8062920" cy="518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2000"/>
          </a:bodyPr>
          <a:p>
            <a:pPr marL="293400" indent="-29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=U.readInt(“Ingresa un nº: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“Ingresa un nº: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; n=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 (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+1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-24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+: operador de concatenación (añadid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-24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éntesis obligan a calcular primer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 + (n+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intln (print line): escribe y después posiciona el cur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 comienzo de la siguiente línea en la pant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3920" y="988920"/>
          <a:ext cx="7778520" cy="50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988920"/>
                    <a:ext cx="777852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06520" y="506520"/>
          <a:ext cx="8291520" cy="704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291520" cy="70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rrores” po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3000"/>
          </a:bodyPr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seguir fielmente el diálogo pro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escribir línea de 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con mayús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ínea de título con print y no print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pregunta con println y no con 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mbrar inadecuadamente la variable (n y no r o ra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a letra griega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3,1416 y no 3.14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quivocarse en valor de л (Ej: 3.41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operador de multiplicación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ar notación inexistente para elevar al cuadrado (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o r^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716040"/>
          <a:ext cx="8575920" cy="59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716040"/>
                    <a:ext cx="8575920" cy="59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7680" y="358920"/>
          <a:ext cx="871056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71056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298800"/>
            <a:ext cx="8964720" cy="63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 de la U con métodos para leer y escribir nú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return Double.parseDouble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19120" y="704880"/>
          <a:ext cx="788364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704880"/>
                    <a:ext cx="788364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51040" y="870120"/>
          <a:ext cx="744516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870120"/>
                    <a:ext cx="744516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15840" y="841320"/>
          <a:ext cx="7645680" cy="58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841320"/>
                    <a:ext cx="764568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5800" y="533520"/>
          <a:ext cx="6632640" cy="73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6632640" cy="73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803160"/>
          <a:ext cx="772308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803160"/>
                    <a:ext cx="7723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print, read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533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enguaje Java: característic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rmAutofit/>
          </a:bodyPr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ado (diseñado) en 1994 en empresa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conjunto” del lenguaje C (19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bconjunto” del lenguaje C++ (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modelar/simular problema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mueve herencia (reutilización) de 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redes y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insertar programas en páginas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 concurrente y distribu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66800" y="901800"/>
          <a:ext cx="7610400" cy="50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16040" y="792000"/>
          <a:ext cx="826920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792000"/>
                    <a:ext cx="826920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07-03-06T16:40:55Z</dcterms:modified>
  <cp:revision>49</cp:revision>
  <dc:subject/>
  <dc:title>Sin título de diapositiva</dc:title>
</cp:coreProperties>
</file>