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DC5-1B99-4C98-AC0E-9188967F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7B9-57F2-4A3A-83A7-6A5112EA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186-1D14-494F-800E-56446E38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F6D-C0EC-49E2-ACE7-68383357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18F-946B-4E95-B07B-531615CA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5A5-4FFD-4737-BFF7-9FC2B877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33E-B9AF-4C94-B6E7-2653CB1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2D1-1A61-4BAB-A63B-713D45C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79E-4851-41F3-83FB-39EED3BC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069-BA3E-40C2-93AF-51B37AC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0C5-6880-4599-84F7-D4CBF67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1AF-68D1-4865-B952-7701334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7297-E105-498D-993C-B5FC5E7CC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7-03-05T20:31:23Z</dcterms:modified>
  <cp:revision>17</cp:revision>
  <dc:subject/>
  <dc:title>Un curso intensivo de Introducción a la Programación Orientada a Objetos en Java  para estudiantes de secundaria </dc:title>
</cp:coreProperties>
</file>