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7DD6-4729-4E0D-B110-E98499262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0912-AF1E-43D6-90CD-D5E6078BC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FBA3-F9E7-4C55-9070-D5F8C1AA4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A85D-83BD-4EC4-B04E-929B7B5CE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E2D7-76D8-420C-A029-4945F59E1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6955-7CC5-4F0C-8F55-46BF66624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8324-A692-4290-96B8-6775037C7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C926-8668-46F1-A26B-F1E1C3267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42AD-CF69-41D0-A289-AD258A8E3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048A-3956-4FC9-8BB2-34610380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0538-61D8-46E4-8175-2E651878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7D90-1FAF-44C3-953A-AC234EE4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B937E-899E-4263-B21D-80AE1DF101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C1001- Computación I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uan Alvarez Rub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to Ciencias de la Compu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alvarez@dcc.uchile.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C1001- Computación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486400" y="1828800"/>
            <a:ext cx="3048120" cy="19051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u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3962520"/>
            <a:ext cx="38088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0292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5105520" y="4495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05520" y="480060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4952880" y="54100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15000" y="5410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4952880" y="51811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412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5410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4200" y="1752480"/>
            <a:ext cx="4647960" cy="1905120"/>
          </a:xfrm>
          <a:prstGeom prst="cloudCallout">
            <a:avLst>
              <a:gd name="adj1" fmla="val -44467"/>
              <a:gd name="adj2" fmla="val 699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71756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azonamiento algorítmico/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pacidad modelamiento/abs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abilidad gral resolver 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2720" y="43434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15000" y="4800600"/>
            <a:ext cx="1066680" cy="228600"/>
          </a:xfrm>
          <a:prstGeom prst="parallelogram">
            <a:avLst>
              <a:gd name="adj" fmla="val 11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7" idx="6"/>
          </p:cNvCxnSpPr>
          <p:nvPr/>
        </p:nvCxnSpPr>
        <p:spPr>
          <a:xfrm flipV="1">
            <a:off x="5790960" y="3809520"/>
            <a:ext cx="153000" cy="6105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" name=""/>
          <p:cNvCxnSpPr>
            <a:stCxn id="58" idx="0"/>
            <a:endCxn id="44" idx="2"/>
          </p:cNvCxnSpPr>
          <p:nvPr/>
        </p:nvCxnSpPr>
        <p:spPr>
          <a:xfrm flipH="1" flipV="1" rot="5400000">
            <a:off x="6162480" y="3952440"/>
            <a:ext cx="1067400" cy="62928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1" name=""/>
          <p:cNvSpPr/>
          <p:nvPr/>
        </p:nvSpPr>
        <p:spPr>
          <a:xfrm>
            <a:off x="6781680" y="5486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l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588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pecí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cribir programas que resuelvan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largo plazo (propósi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zonamientos algorítmico y ló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acidades de abstracción y modelami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bilidad general para 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etodolog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1905120"/>
            <a:ext cx="80010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edagog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rientación al aprendiz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lases de cátedra (con profesor) y clases auxiliares (con profesor auxiliar) centradas en problemas y alum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ecnolog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enguajes Java y Mat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mbiente Internet/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nteni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. Fundamentos de progra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. Programación orientada a ob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. Interfaces de usu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. Listas y tablas de val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5. Computación numé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6. Búsqueda y ordenamiento de in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42472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F (nota final): 70%NC+30%NT (NC,NT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T (nota tareas): promedio t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C (nota control): prom ponderado contro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971640" y="3573360"/>
          <a:ext cx="6985080" cy="2808360"/>
        </p:xfrm>
        <a:graphic>
          <a:graphicData uri="http://schemas.openxmlformats.org/drawingml/2006/table">
            <a:tbl>
              <a:tblPr/>
              <a:tblGrid>
                <a:gridCol w="1523880"/>
                <a:gridCol w="1932120"/>
                <a:gridCol w="1584360"/>
                <a:gridCol w="1944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id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m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y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y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a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8:57:29Z</dcterms:created>
  <dc:creator>jalvarez</dc:creator>
  <dc:description/>
  <dc:language>en-US</dc:language>
  <cp:lastModifiedBy>jalvarez</cp:lastModifiedBy>
  <cp:lastPrinted>2006-03-02T13:33:10Z</cp:lastPrinted>
  <dcterms:modified xsi:type="dcterms:W3CDTF">2007-03-05T20:31:23Z</dcterms:modified>
  <cp:revision>17</cp:revision>
  <dc:subject/>
  <dc:title>Un curso intensivo de Introducción a la Programación Orientada a Objetos en Java  para estudiantes de secundaria </dc:title>
</cp:coreProperties>
</file>