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821-2C8B-41D6-A8D1-18049975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938-68B7-40D4-BEF0-2ECFB289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B46-7ECD-46F3-90ED-1CC54FA7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766-87CD-4A15-9FB2-D481D4F5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5C8-CF18-4A60-A3CE-912B4B1E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9ED-5B8B-4DD6-88F5-99FEC2BE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790-8735-49D3-B5B2-0F4CFFBD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CC5-A129-4AF4-8514-AB81281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D4A-5A15-4C40-9F15-B8AB8CF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143-6713-42DB-8743-BB4B869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E4F-2A48-42CB-9B70-4EED5C9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898-7AA4-4980-92BA-0F1CD5F4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B1B-9FDB-4149-BED7-770ED40D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7-03-05T20:31:23Z</dcterms:modified>
  <cp:revision>17</cp:revision>
  <dc:subject/>
  <dc:title>Un curso intensivo de Introducción a la Programación Orientada a Objetos en Java  para estudiantes de secundaria </dc:title>
</cp:coreProperties>
</file>