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47C-251A-4D19-97B6-5737E696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482-7A2D-4389-BCDE-920485B1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C955-13E8-4D2A-8C69-C0212919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2334-829F-43E7-94C1-4D680A2B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07B2-2716-4D01-928D-40239412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AF9-3E76-486C-8B2B-0767B21B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46D-AD73-486D-A228-32F7075E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A713-F89B-4AB8-B35F-A9867EA3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B150-6D8C-4F52-9BE1-FF0269C9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CAF9-762C-4B95-9D04-B1F2098F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FF7F-1E02-4FCB-B745-C283D7E9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733B-F05F-441B-9621-07A864DD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32EB-EA3A-4DE3-8E24-BA3BCD711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8" idx="0"/>
            <a:endCxn id="44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905120"/>
            <a:ext cx="8001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 de cátedra (con profesor) y clases auxiliares (con profesor auxiliar) centradas en problemas y alum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nguajes Java y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Interfaces de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t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71640" y="357336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y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y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07-03-05T20:31:23Z</dcterms:modified>
  <cp:revision>17</cp:revision>
  <dc:subject/>
  <dc:title>Un curso intensivo de Introducción a la Programación Orientada a Objetos en Java  para estudiantes de secundaria </dc:title>
</cp:coreProperties>
</file>