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52B1-5A51-43D1-8349-3C2AC039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B4E-791A-4C02-8BCF-C7231BD3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B51-87EA-4D7F-96C1-0615379FA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6FF-B80D-4022-9902-48AE76D0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E00-0F17-4159-934D-ACB4DCAE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CB8-F47C-4866-BF4E-912EA99A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AD4-0649-45D2-8493-7614D54B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B4C5-8FB5-4989-ABC8-73D8641A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B9C5-42E8-40B1-854F-2B881949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446-8459-472B-9F2C-A6A565C5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481-EB9B-4013-A850-EEA48349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671-9EA2-4F67-A40F-103C2ED4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6991-E727-4AFE-8890-88825CA1C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05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(con profesor) y clases auxiliares (con profesor auxiliar) centradas en problemas y alum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Interfaces de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6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7-03-05T20:31:23Z</dcterms:modified>
  <cp:revision>17</cp:revision>
  <dc:subject/>
  <dc:title>Un curso intensivo de Introducción a la Programación Orientada a Objetos en Java  para estudiantes de secundaria </dc:title>
</cp:coreProperties>
</file>