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FD4-6298-4FC0-B26B-280F585D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418-3845-4FA4-BB9D-3335876B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216-9F31-4957-A150-E36886FD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F53-8E77-43F0-B2A5-38338DEC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A2A-D9B3-494C-AC5D-E53FD7B7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C14-C5DE-4FCA-8987-148C597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AA7-CF52-48B8-9069-8F86B4A9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02E-0665-49F3-859E-463A353A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1BF-A820-4BD7-A1D4-97CA5619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7F2-F669-44B6-AFEE-3D6B8E0D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9A4-AB9B-4F82-9060-77BDFEE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B25-AC2F-44C4-A336-A6BA8A7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9A4A-074E-4E9B-9CC5-89CED2893C6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Profesor</cp:lastModifiedBy>
  <dcterms:modified xsi:type="dcterms:W3CDTF">2007-06-19T18:23:46Z</dcterms:modified>
  <cp:revision>5</cp:revision>
  <dc:subject/>
  <dc:title>Diapositiva 1</dc:title>
</cp:coreProperties>
</file>