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17C-C24C-4A43-A690-03FBA14B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A81-9F9C-4227-8D16-D73EE755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D5F-4D99-412B-BB93-628F40A0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D7F-1D7D-4FD6-BB08-1092EE4A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747-D3A5-4B6F-BEEF-A0B756E3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8E2-CA4A-450A-A0DB-37AE1511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2F5-9686-4CCE-8BF0-D2DE3346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2F1-CA12-4A52-B139-CE20B65A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7CC-9A20-4295-BB69-D60222C4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B5C-501D-4C55-8A97-16EDAAAF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A7E-6D39-4778-9F11-1A47A3A8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183-0B8D-4441-A2A1-DC7EB54E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2E5D-EF6D-4420-8FD7-4A19A57EB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8:53:51Z</dcterms:created>
  <dc:creator>jalvarez</dc:creator>
  <dc:description/>
  <dc:language>en-US</dc:language>
  <cp:lastModifiedBy>jalvarez</cp:lastModifiedBy>
  <dcterms:modified xsi:type="dcterms:W3CDTF">2007-06-18T18:37:55Z</dcterms:modified>
  <cp:revision>16</cp:revision>
  <dc:subject/>
  <dc:title>Programación en MATLAB</dc:title>
</cp:coreProperties>
</file>