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3249-BA3A-4194-8B5E-5C736373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C03-5B6E-4AC7-9116-696A764A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052-2331-425C-B562-8EA64B0B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F04-5348-433D-B0B5-DAA6D948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400-1D1B-486B-A395-B8D7D639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415-D484-45DC-B2D0-58A6767B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F30-ACEC-4528-9ED8-165CAF5C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C47-344A-4507-A530-EDC2DEC1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AF3-51EF-4E64-B87A-B12ED6B5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D79-E2ED-4F10-AEE7-D69B0C31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046-6FFA-462B-BC73-C7BC2570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AD7-C0CD-4ABE-92A8-F047775E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5F46-CAD4-4DD4-9625-D9E3FC92AB6F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Profesor</cp:lastModifiedBy>
  <dcterms:modified xsi:type="dcterms:W3CDTF">2007-06-19T18:23:46Z</dcterms:modified>
  <cp:revision>5</cp:revision>
  <dc:subject/>
  <dc:title>Diapositiva 1</dc:title>
</cp:coreProperties>
</file>