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318-55CA-47EB-84EB-76EE70A4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208-9D96-4DED-82F3-D3B42F8E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CB2-675D-40E4-A6B2-5036FF17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7AC-0ABD-4720-965A-44FD52A2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E3E-6667-4B25-B7EB-9D672911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C13-E402-4B30-82B6-14D3893F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33B-8F92-4000-96B7-0D1B5920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CD0-A131-497F-84F9-BD5E56E4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E27-98FD-409E-8A54-998350EB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A1EE-369C-4F49-8950-D04C1A5C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A87-7248-42FC-8D40-ECA75655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A3B5-C481-4E7C-A312-A3EFDB67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546F-D290-456B-B4F5-6E5CE0702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07-06-18T18:37:55Z</dcterms:modified>
  <cp:revision>16</cp:revision>
  <dc:subject/>
  <dc:title>Programación en MATLAB</dc:title>
</cp:coreProperties>
</file>