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22A-DFF3-45B5-B91E-3D1289F8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6383-5CE0-4BEE-B00B-00962431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C77F-B8AF-4F62-9D51-BACE3A60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C608-8C09-4A61-874E-1AC734BE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DF2-0535-478E-A0A8-DFF779E7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D53-0489-4687-8E2B-9FC049D3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6767-0E6E-4A63-9E32-5E8F83CB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08E-B604-48DD-9A1C-AB67EA40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29A-5E59-4DC4-9A4C-0A307606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94B-95D3-4641-BF3F-8C15518B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89F6-D899-481F-99C9-9058B5AF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C5EF-9633-4EBE-A25D-891BF237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02BF-5B91-403A-B2C4-3D3AF7824569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4:32:44Z</dcterms:created>
  <dc:creator>Profesor</dc:creator>
  <dc:description/>
  <dc:language>en-US</dc:language>
  <cp:lastModifiedBy>Profesor</cp:lastModifiedBy>
  <dcterms:modified xsi:type="dcterms:W3CDTF">2007-06-19T18:23:46Z</dcterms:modified>
  <cp:revision>5</cp:revision>
  <dc:subject/>
  <dc:title>Diapositiva 1</dc:title>
</cp:coreProperties>
</file>