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065-8EAC-4E71-9362-5EAE09F1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F75-07D0-4CC8-AA17-04568A3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D42-4173-4624-B562-C9A11E04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9A2-297F-4AB5-8BAE-8442C1D0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917-8945-464A-B5F7-8F34824F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969-8355-4C64-B597-DFBB6DC1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C9F-EFB8-49F7-A803-917261DF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650-8EA2-4CEE-92F1-29EE8698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0FB-4A9E-4A3B-BC14-D69F86B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C05-D9E2-4170-9141-CA4F605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482-EA55-42A9-9471-A0CAD94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D1B-DF4B-447A-A7CA-AA37E1E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2C1E-6ED9-457A-8D55-03ED2B342AA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Profesor</cp:lastModifiedBy>
  <dcterms:modified xsi:type="dcterms:W3CDTF">2007-06-19T18:23:46Z</dcterms:modified>
  <cp:revision>5</cp:revision>
  <dc:subject/>
  <dc:title>Diapositiva 1</dc:title>
</cp:coreProperties>
</file>