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C02-74ED-4862-BBF5-873ED858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A4A-5BEE-4B07-B08A-8BF9CFB7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E89-646C-44A6-82EF-88B7DD22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03E-250E-46B1-9FA0-081DD062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5BF-4DFE-44AA-963F-8242E7D2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A77E-CF85-4766-936C-CE3BB48F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18B-34FE-4446-8405-471CC7B0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1BF-8FC7-493C-9934-2E71F521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DB8-9849-4B7C-93FD-590AC7E9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495-9972-4315-8325-160877EF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EF9-5339-41A0-849B-59D2AA84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BFD-7B57-4585-9554-EADA9A57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AC86-1A7D-450A-A264-6EB52EE7A52C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Profesor</cp:lastModifiedBy>
  <dcterms:modified xsi:type="dcterms:W3CDTF">2007-06-19T18:23:46Z</dcterms:modified>
  <cp:revision>5</cp:revision>
  <dc:subject/>
  <dc:title>Diapositiva 1</dc:title>
</cp:coreProperties>
</file>