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8DC-48A8-492F-B2B2-29E8282D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344-FF95-4DC5-8871-C7E8B69D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356-E0BF-4229-9870-775782E3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911-4D73-4FD8-B403-19659EA7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4A5-7641-4389-8730-D5FAB74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B11-FBEC-448E-AE59-53DBC63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E18-1AA4-4A1E-9A2D-38911C0C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8A7-C5F7-4DBC-A7D8-D96FA0E1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59C-D1A7-4DB0-93AA-FC0298B3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269-46F1-43B2-AAF5-D42EEC3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46D-BC9A-4362-8939-A1E93F9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91C-B4AA-4549-BC03-D3150C72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3EDC-BBDD-4052-BFC7-4199F39C6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7-06-18T18:37:55Z</dcterms:modified>
  <cp:revision>16</cp:revision>
  <dc:subject/>
  <dc:title>Programación en MATLAB</dc:title>
</cp:coreProperties>
</file>