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636-4605-47D5-A0EB-267B1262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3B3-2C53-48B2-AC30-C7C3C1F7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33F-7EA8-4112-BD7B-4058DF82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A94-3067-4064-9A32-D24FECA7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C16-0F05-4456-9309-41D500F8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60D-E7C0-4E2F-AABB-99B9DCA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9F9-11E6-44EF-BEB0-F73CB16A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135-3CD6-46CA-A96C-BA1D68DA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7D0-0031-4C3E-9D7F-DDE7CCC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5D2-96F0-4BC6-AA2E-5CB419E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5DA-D22A-4700-AC54-4AF15EE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090-DC0C-49C6-A696-E5CC42E6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C4DF-4D03-4B8E-9C12-75F1A086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7-06-18T18:37:55Z</dcterms:modified>
  <cp:revision>16</cp:revision>
  <dc:subject/>
  <dc:title>Programación en MATLAB</dc:title>
</cp:coreProperties>
</file>