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A1E5-300E-450D-A594-D83A15F1C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728B-472A-4414-978A-70B0367F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AC6D-A194-47AC-9178-966D707B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2770-4F42-4268-B4F6-D69FA3F9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0C2A-8D04-4DA2-B95D-80BB9C56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6D02-B8D6-4B40-ADD9-DF4B1FC2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FA14-B7AD-47A8-B93F-DD015AC6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3698-E98A-4543-8D7F-0A8D1195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B112-5760-4818-8F50-6CD5687B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24B7-3062-41A9-9B14-72243DFB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D108-10FE-4739-9384-C8676554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BA64-ED7A-43F2-98CF-0F958DD1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AF26-39DE-489E-9E2E-1832799926B3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4:32:44Z</dcterms:created>
  <dc:creator>Profesor</dc:creator>
  <dc:description/>
  <dc:language>en-US</dc:language>
  <cp:lastModifiedBy>Profesor</cp:lastModifiedBy>
  <dcterms:modified xsi:type="dcterms:W3CDTF">2007-06-19T18:23:46Z</dcterms:modified>
  <cp:revision>5</cp:revision>
  <dc:subject/>
  <dc:title>Diapositiva 1</dc:title>
</cp:coreProperties>
</file>