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C49-EF90-4E73-8A0D-AC69068F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4C3-A6C1-409F-B5F2-FD5A9478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47B-DDAB-453F-9600-9B11F225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34E-1CAA-4533-AA18-C36FEF39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EE7-A40C-41B1-9318-27FCD372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160-7FF4-45E0-AB43-05E6594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6240-66C2-4553-973F-BE8B0CC2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457-77EC-4F83-9697-7E93BBA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3A7-5337-4185-87AC-43E1D81B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60B-16A4-4CF1-8CE0-28FA8530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74B1-D10B-45A3-882E-1DC86E5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DC1-266F-41BD-95FC-9146BD6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4EEB-9112-49C7-BAE4-A8BD02764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ea: elegir 3 y entregarlos a principios de la proxima c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artes a las 1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04640"/>
          <a:ext cx="81644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81644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nbaloian</cp:lastModifiedBy>
  <cp:lastPrinted>2006-03-22T18:37:38Z</cp:lastPrinted>
  <dcterms:modified xsi:type="dcterms:W3CDTF">2007-04-20T15:22:27Z</dcterms:modified>
  <cp:revision>26</cp:revision>
  <dc:subject/>
  <dc:title>Sin título de diapositiva</dc:title>
</cp:coreProperties>
</file>