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87B-41C0-4036-93DB-8E848E76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835-646B-4D3A-83F2-A05ED3F8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C943-9029-4068-8640-CDA112F2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F67-EBED-43E3-BE20-CCAB0B03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0A7-1BD6-4CEF-BB0C-D9C2CE9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E40-536D-4B28-8CAA-28B4B6BE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026-BC4E-4D81-ABFA-DFC7110C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CC5-0843-491E-82F5-B5DBD0D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DDF-56CB-49C2-A845-E7C2DC61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B20-3D3D-4504-878E-3D4F1CF1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8EB-2581-4032-BF7C-8B20B21B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696-CDFF-47CB-95C9-9A77A47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B4BF-B1A9-4BB9-978B-32543629D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663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663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3320" y="554040"/>
          <a:ext cx="8253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4720" y="541440"/>
          <a:ext cx="85075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41440"/>
                    <a:ext cx="85075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71640" y="692280"/>
          <a:ext cx="741024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4102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66760" y="469800"/>
          <a:ext cx="765180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469800"/>
                    <a:ext cx="76518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7080" y="528480"/>
          <a:ext cx="8182080" cy="605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528480"/>
                    <a:ext cx="8182080" cy="60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63600" y="1155600"/>
          <a:ext cx="67737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155600"/>
                    <a:ext cx="67737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4720" y="528480"/>
          <a:ext cx="843444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28480"/>
                    <a:ext cx="843444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7-03-16T14:57:47Z</dcterms:modified>
  <cp:revision>18</cp:revision>
  <dc:subject/>
  <dc:title>Sin título de diapositiva</dc:title>
</cp:coreProperties>
</file>