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320-578C-45EB-BD15-CF996B83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011-901E-4290-9562-F0D540A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E27F-8B98-440A-B136-7759E2CF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C84-96BD-415C-B18B-8291A73B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358-DDC6-4BB4-8368-D8FBBA8C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905-872D-4993-AA55-1F36CFE1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EA3-E3F3-42E8-8146-4C1E65A3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160D-B11F-4EB2-AA73-DE5EF67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1B3B-FCA4-46C8-BFF7-A9CB5A4F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7F3-AD94-4255-AEF8-3FB77B39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6466-13A9-4161-91A8-6B964C6A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FBD8-FFCF-41ED-8CA3-BBECFCE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1E9D-255F-40C1-8551-4F58BA644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nbaloian</cp:lastModifiedBy>
  <cp:lastPrinted>2006-03-17T17:08:51Z</cp:lastPrinted>
  <dcterms:modified xsi:type="dcterms:W3CDTF">2007-03-15T12:21:17Z</dcterms:modified>
  <cp:revision>15</cp:revision>
  <dc:subject/>
  <dc:title>Sin título de diapositiva</dc:title>
</cp:coreProperties>
</file>