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D87-93A7-4D09-9F15-52AFA993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8C19-4C7F-414A-B6B6-D64190DD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E900-8FC6-455C-BE64-46547E94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9CA-39F7-4792-B7AA-7FDE6F5C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1778-AE1F-4162-B260-63E521D3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3DEF-CFC3-496A-89F5-CD95C570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CBEE-31DC-4A9C-B916-5E5410FA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CC0-3DF7-4951-A7E7-02AC4AC7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EC5-1C25-4A74-A916-7A8CC4F6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8360-E4F4-4756-9035-9BB58DEB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0A15-48B3-4FDF-A584-8454738D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6980-EFD8-4FCD-84D7-7768856F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4225-62CD-4B72-BC7D-E7C9F862B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76280" y="450720"/>
          <a:ext cx="8370720" cy="64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50720"/>
                    <a:ext cx="8370720" cy="64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43040" y="803160"/>
          <a:ext cx="8126280" cy="682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812628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27000" y="746280"/>
          <a:ext cx="77598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6280"/>
                    <a:ext cx="77598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3560" y="601560"/>
          <a:ext cx="844560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601560"/>
                    <a:ext cx="844560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81040" y="668160"/>
          <a:ext cx="838692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668160"/>
                    <a:ext cx="838692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14520" y="770040"/>
          <a:ext cx="82645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770040"/>
                    <a:ext cx="82645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52360" y="662040"/>
          <a:ext cx="865044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662040"/>
                    <a:ext cx="865044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44680" y="619200"/>
          <a:ext cx="82994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82994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5840" y="743040"/>
          <a:ext cx="7310520" cy="649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43040"/>
                    <a:ext cx="731052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03120" y="158760"/>
          <a:ext cx="8340840" cy="820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158760"/>
                    <a:ext cx="8340840" cy="82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730080"/>
          <a:ext cx="81644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730080"/>
                    <a:ext cx="81644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17680" y="649440"/>
          <a:ext cx="844524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44524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5800" y="709560"/>
          <a:ext cx="8242200" cy="539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09560"/>
                    <a:ext cx="824220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54040" y="685800"/>
          <a:ext cx="8373960" cy="56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685800"/>
                    <a:ext cx="83739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88960" y="554040"/>
          <a:ext cx="826596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554040"/>
                    <a:ext cx="826596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nbaloian</cp:lastModifiedBy>
  <cp:lastPrinted>2006-03-14T15:11:26Z</cp:lastPrinted>
  <dcterms:modified xsi:type="dcterms:W3CDTF">2007-03-13T12:31:40Z</dcterms:modified>
  <cp:revision>35</cp:revision>
  <dc:subject/>
  <dc:title>Sin título de diapositiva</dc:title>
</cp:coreProperties>
</file>