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39D-3BEF-4865-915B-E16B7149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E10-4656-4050-99A7-3C3EF02E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FC1-1CEB-49FA-9487-72392C09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B83-DC08-44C0-892A-F39F7AF8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9EB-2708-420E-8F16-5E08936B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349-5F57-4905-B9A4-3E478889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DC6-A1D5-4A5E-8A35-D9EAE05E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CBC-518E-4216-BDAD-2A420EF9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49E-DD23-41FE-B910-F0750AB2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9C5-CEDA-4422-9D59-A3948DE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11B-0198-446C-A6B1-7782643F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F95-5CD9-4111-B1CB-1B64FC21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9B6E-CB4F-4451-B64B-F58021AAB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792000"/>
          <a:ext cx="82882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92000"/>
                    <a:ext cx="82882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6600" y="730080"/>
          <a:ext cx="8262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30080"/>
                    <a:ext cx="8262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4720" y="722160"/>
          <a:ext cx="838692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722160"/>
                    <a:ext cx="838692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200" y="642960"/>
            <a:ext cx="7916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906480"/>
            <a:ext cx="7372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ea: elegir 3 y entregarlos a principios de la proxima c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artes a las 1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04640"/>
          <a:ext cx="81644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4640"/>
                    <a:ext cx="81644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nbaloian</cp:lastModifiedBy>
  <cp:lastPrinted>2006-03-22T18:37:38Z</cp:lastPrinted>
  <dcterms:modified xsi:type="dcterms:W3CDTF">2007-04-20T15:22:27Z</dcterms:modified>
  <cp:revision>26</cp:revision>
  <dc:subject/>
  <dc:title>Sin título de diapositiva</dc:title>
</cp:coreProperties>
</file>