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88FF-8272-4F6E-BC32-73398DCE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573E-F624-471A-BDA6-EAEFBE1D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930F-68E7-4EDF-B952-ED24D971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2410-857C-4F45-8DBC-07ED8DAE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BD6A-80DA-4B27-B18E-3DBF17CC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0BCD-D72E-43B5-AABB-BA7BAA12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518-FD47-4F04-8E49-B6075E31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DE75-BD29-48D9-A290-5A46AA18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0FAA-306F-4CE1-A754-DA3B449A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FFDE-C16A-49E9-A4BE-E30327FC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65CC-5543-48AD-B83E-C0696045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91A3-BAE2-4675-A667-D5265233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2FF2-86DB-4FEE-A906-1339B9995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88920" y="766800"/>
          <a:ext cx="7632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766800"/>
                    <a:ext cx="7632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33320" y="554040"/>
          <a:ext cx="826632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6632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33320" y="554040"/>
          <a:ext cx="825336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533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04720" y="541440"/>
          <a:ext cx="8507520" cy="59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41440"/>
                    <a:ext cx="8507520" cy="59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71640" y="692280"/>
          <a:ext cx="7410240" cy="535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692280"/>
                    <a:ext cx="7410240" cy="53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166760" y="469800"/>
          <a:ext cx="7651800" cy="606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469800"/>
                    <a:ext cx="7651800" cy="60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57080" y="528480"/>
          <a:ext cx="8182080" cy="605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528480"/>
                    <a:ext cx="8182080" cy="605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263600" y="1155600"/>
          <a:ext cx="6773760" cy="44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155600"/>
                    <a:ext cx="677376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601560"/>
          <a:ext cx="8193240" cy="551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1560"/>
                    <a:ext cx="819324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04720" y="528480"/>
          <a:ext cx="8434440" cy="59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28480"/>
                    <a:ext cx="843444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87360" y="685800"/>
          <a:ext cx="664236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7360" y="685800"/>
                    <a:ext cx="664236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07-03-16T14:57:47Z</dcterms:modified>
  <cp:revision>18</cp:revision>
  <dc:subject/>
  <dc:title>Sin título de diapositiva</dc:title>
</cp:coreProperties>
</file>