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C736-5197-4E5B-AEF4-00D9A1C99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B902-0EB3-4FD0-BF45-28BDA54A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D68F-E922-400A-982C-943CF475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1B1E-915D-4361-BF57-0F11C6C8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79D6-C78C-4CDB-9330-8308C343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A0F-C4A5-4E31-8A5B-BCC139A93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7A4-E546-4980-8E64-6674287D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DAC-AC0B-4DD9-869D-2048B39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E5E1-B51B-4426-B954-E7572753F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093A-08B7-4F6E-9FE7-5218FFC6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8663-0963-48BE-9246-C185C0DF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035F-BE98-4CA5-996C-F22FA4EE7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9548E-3567-4899-B2A2-F6163E459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95480" y="601560"/>
          <a:ext cx="7315200" cy="762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5480" y="601560"/>
                    <a:ext cx="7315200" cy="762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93800" y="722160"/>
          <a:ext cx="8121600" cy="617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722160"/>
                    <a:ext cx="812160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66800" y="681120"/>
          <a:ext cx="79912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681120"/>
                    <a:ext cx="79912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743040" y="803160"/>
          <a:ext cx="7904160" cy="52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790416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31720" y="792000"/>
          <a:ext cx="828828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720" y="792000"/>
                    <a:ext cx="828828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6600" y="730080"/>
          <a:ext cx="826272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30080"/>
                    <a:ext cx="826272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504720" y="722160"/>
          <a:ext cx="8386920" cy="689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722160"/>
                    <a:ext cx="8386920" cy="689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754200" y="642960"/>
            <a:ext cx="791676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042920" y="906480"/>
            <a:ext cx="737244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étodos (funciones) propuestos (iterativos y/o recurs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binario(13) escribe 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nverso(123) entrega 321 (fun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inimoComunMultiplo(3,4) entrega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erfecto(6)=true porque 1+2+3=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(7) entrega true, primo(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4,9)=tru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imosRelativos(3,9)=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rea: elegir 3 y entregarlos a principios de la proxima cla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martes a las 12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63600" y="793800"/>
          <a:ext cx="705024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793800"/>
                    <a:ext cx="705024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39680" y="779400"/>
          <a:ext cx="749628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779400"/>
                    <a:ext cx="749628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84360" y="404640"/>
          <a:ext cx="8164440" cy="57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404640"/>
                    <a:ext cx="81644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70040" y="480960"/>
          <a:ext cx="8169120" cy="62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169120" cy="62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70040" y="480960"/>
          <a:ext cx="8024760" cy="64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0040" y="480960"/>
                    <a:ext cx="8024760" cy="64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15840" y="619200"/>
          <a:ext cx="7372440" cy="6234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619200"/>
                    <a:ext cx="7372440" cy="623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130400" y="927000"/>
          <a:ext cx="7351560" cy="526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7000"/>
                    <a:ext cx="73515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alvarez</dc:creator>
  <dc:description/>
  <dc:language>en-US</dc:language>
  <cp:lastModifiedBy>nbaloian</cp:lastModifiedBy>
  <cp:lastPrinted>2006-03-22T18:37:38Z</cp:lastPrinted>
  <dcterms:modified xsi:type="dcterms:W3CDTF">2007-04-20T15:22:27Z</dcterms:modified>
  <cp:revision>26</cp:revision>
  <dc:subject/>
  <dc:title>Sin título de diapositiva</dc:title>
</cp:coreProperties>
</file>