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B72-0766-4F11-9E3E-6E137AB3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069-B1C9-45C1-A698-C27C6057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13C-A728-4449-93D3-2CB50243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3E0-4333-4B17-B84D-D8C76816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E12-B01B-4A39-91AB-D54E66D5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3A4-F5ED-42CC-8D90-E4571C43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9B0-7592-46EE-895D-96976BDD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6E9-FD81-4D0A-9FEE-F6BA74BD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279-F658-4F88-BD7E-B83821BD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79C-2CF9-4012-877B-55DD9458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BB3-0489-4105-9B19-4AEB5BA6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F85-D055-4012-B549-DCF6207C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D029-5D34-49BF-8DE3-687176B5B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457200"/>
          <a:ext cx="749628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749628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11240" y="757080"/>
          <a:ext cx="73152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757080"/>
                    <a:ext cx="73152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nbaloian</cp:lastModifiedBy>
  <cp:lastPrinted>2006-03-17T17:08:51Z</cp:lastPrinted>
  <dcterms:modified xsi:type="dcterms:W3CDTF">2007-03-15T12:21:17Z</dcterms:modified>
  <cp:revision>15</cp:revision>
  <dc:subject/>
  <dc:title>Sin título de diapositiva</dc:title>
</cp:coreProperties>
</file>