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436-3564-4B1F-A07A-479B84DB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0B7-E1D9-46FD-892C-480A0407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540-BA0F-4578-B4D2-F6A47286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940-25F8-4F20-A6FE-D46FA681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F83-A71D-43F8-B224-D23B423F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6EB-A782-437F-97D4-31761854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B2A-DC0F-441C-894A-E76865E4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2D5-84F6-490E-8380-389B2C60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349-B844-4068-BB0E-B3104A9E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ECC-52AA-45E1-B40A-81F92C00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07E-067D-4965-870E-08BAE11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044F-7CFD-4E85-9EFA-9A2D6F0A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6CC2-5333-453E-9039-F856EDE04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6632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663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3320" y="554040"/>
          <a:ext cx="8253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4720" y="541440"/>
          <a:ext cx="85075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41440"/>
                    <a:ext cx="85075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71640" y="692280"/>
          <a:ext cx="741024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41024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66760" y="469800"/>
          <a:ext cx="7651800" cy="60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469800"/>
                    <a:ext cx="765180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7080" y="528480"/>
          <a:ext cx="8182080" cy="605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528480"/>
                    <a:ext cx="8182080" cy="60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63600" y="1155600"/>
          <a:ext cx="677376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155600"/>
                    <a:ext cx="67737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4720" y="528480"/>
          <a:ext cx="843444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28480"/>
                    <a:ext cx="843444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7-03-16T14:57:47Z</dcterms:modified>
  <cp:revision>18</cp:revision>
  <dc:subject/>
  <dc:title>Sin título de diapositiva</dc:title>
</cp:coreProperties>
</file>