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F56-2903-4385-AEFC-12F5DD45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008-3C00-452C-AA46-9BF51FD4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18C-D30D-4C61-ACC8-CF6B5322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3CA-4B98-4F35-A283-156ACE3B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7C01-2C86-416E-9E8A-4FF5DE2A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E52-82E1-47EB-B295-EC5AFF97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758-A717-49C5-94B3-E5D33CC4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028-CA1D-4B0F-8D3A-14F080F8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0C2B-A02C-4C24-9069-234A7619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77B-0160-491D-875B-70405D89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3213-BAEB-4FB1-BED3-E1ADAFBE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8E6-334F-4080-A19B-2BCB8F54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F031-4648-40C3-9110-27BBE9896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457200"/>
          <a:ext cx="749628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7200"/>
                    <a:ext cx="749628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65160" y="606600"/>
          <a:ext cx="7867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67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011240" y="757080"/>
          <a:ext cx="731520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1240" y="757080"/>
                    <a:ext cx="731520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8400" y="457200"/>
          <a:ext cx="794088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57200"/>
                    <a:ext cx="7940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01560" y="469800"/>
          <a:ext cx="833760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69800"/>
                    <a:ext cx="833760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09560" y="433440"/>
          <a:ext cx="784548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33440"/>
                    <a:ext cx="784548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903240" y="692280"/>
          <a:ext cx="754560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692280"/>
                    <a:ext cx="75456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38280" y="746280"/>
          <a:ext cx="8361360" cy="75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746280"/>
                    <a:ext cx="8361360" cy="75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475560"/>
            <a:ext cx="842472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939960" y="792000"/>
          <a:ext cx="7929360" cy="53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92000"/>
                    <a:ext cx="792936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nbaloian</cp:lastModifiedBy>
  <cp:lastPrinted>2006-03-17T17:08:51Z</cp:lastPrinted>
  <dcterms:modified xsi:type="dcterms:W3CDTF">2007-03-15T12:21:17Z</dcterms:modified>
  <cp:revision>15</cp:revision>
  <dc:subject/>
  <dc:title>Sin título de diapositiva</dc:title>
</cp:coreProperties>
</file>