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C8CD-739E-46FD-8794-B398701FC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A4C0-041B-4C37-8FD1-D07146657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E61C-C329-4284-9133-57E6C73F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371F-18E7-4DFA-950F-583DA8A2F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3B27-D7B1-480E-9740-2362C475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D57A-E5AC-4479-B113-1FDF57C5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2D56-A105-433E-B033-E1AB8534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F5A8-7170-4410-B5DC-09F9FED0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0FA9-8FDE-460D-9813-6DF65BB41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B3E4-A5C2-4B22-8AFE-835EFC54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07A-04A9-4549-AFAB-76AD7BD4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9836-B257-4776-9527-CD942F37C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94BB8-417B-4D2D-BC95-4E653767B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457200"/>
          <a:ext cx="7496280" cy="60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457200"/>
                    <a:ext cx="7496280" cy="60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65160" y="606600"/>
          <a:ext cx="786780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606600"/>
                    <a:ext cx="786780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011240" y="757080"/>
          <a:ext cx="731520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1240" y="757080"/>
                    <a:ext cx="731520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698400" y="457200"/>
          <a:ext cx="7940880" cy="643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457200"/>
                    <a:ext cx="7940880" cy="64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601560" y="469800"/>
          <a:ext cx="8337600" cy="655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560" y="469800"/>
                    <a:ext cx="8337600" cy="655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709560" y="433440"/>
          <a:ext cx="784548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33440"/>
                    <a:ext cx="784548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638280" y="746280"/>
          <a:ext cx="8361360" cy="750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746280"/>
                    <a:ext cx="8361360" cy="75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475560"/>
            <a:ext cx="8424720" cy="60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 int 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y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1058760" y="685800"/>
          <a:ext cx="7759800" cy="6881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685800"/>
                    <a:ext cx="7759800" cy="688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914400" y="517680"/>
          <a:ext cx="7254720" cy="565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254720" cy="56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058760" y="806400"/>
          <a:ext cx="7543800" cy="543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8760" y="806400"/>
                    <a:ext cx="754380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nbaloian</cp:lastModifiedBy>
  <cp:lastPrinted>2006-03-17T17:08:51Z</cp:lastPrinted>
  <dcterms:modified xsi:type="dcterms:W3CDTF">2007-03-15T12:21:17Z</dcterms:modified>
  <cp:revision>15</cp:revision>
  <dc:subject/>
  <dc:title>Sin título de diapositiva</dc:title>
</cp:coreProperties>
</file>