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D25D-C8BF-4643-A7A3-33DABA42A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B4B-2A99-453B-AEF0-E08A60175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E3FF-E8ED-482D-807C-CDB813E59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B79-7D77-41BB-8228-85DE735C6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CC0-DF1B-4B8D-B262-82DDBC174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EB44-21C6-468A-AE8D-ED0D39A12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9D04-3903-4F67-8BA7-AC80300E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9458-72C4-4702-B288-111AE6B7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3783-EF4E-4F6B-A02F-A3298EDF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DFC2-FB63-42BE-97C0-8C9B4D96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BABD-46FD-4A1D-BF8D-935A2F28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2818-10B2-490E-BF8A-F4542D0F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5DF3A-AEAD-4FF7-94AE-9B685FC36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76280" y="450720"/>
          <a:ext cx="8370720" cy="64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6280" y="450720"/>
                    <a:ext cx="8370720" cy="64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43040" y="803160"/>
          <a:ext cx="8126280" cy="6829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3040" y="803160"/>
                    <a:ext cx="81262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927000" y="746280"/>
          <a:ext cx="77598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46280"/>
                    <a:ext cx="77598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93560" y="601560"/>
          <a:ext cx="8445600" cy="6075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560" y="601560"/>
                    <a:ext cx="8445600" cy="607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581040" y="668160"/>
          <a:ext cx="8386920" cy="6035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68160"/>
                    <a:ext cx="8386920" cy="603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09520" y="754200"/>
          <a:ext cx="8783640" cy="545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754200"/>
                    <a:ext cx="8783640" cy="54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14520" y="770040"/>
          <a:ext cx="8264520" cy="5811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770040"/>
                    <a:ext cx="8264520" cy="58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252360" y="662040"/>
          <a:ext cx="8650440" cy="618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662040"/>
                    <a:ext cx="8650440" cy="618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544680" y="619200"/>
          <a:ext cx="8299440" cy="594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8299440" cy="59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915840" y="743040"/>
          <a:ext cx="731052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43040"/>
                    <a:ext cx="731052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03120" y="158760"/>
          <a:ext cx="8340840" cy="8207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3120" y="158760"/>
                    <a:ext cx="8340840" cy="820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730080"/>
          <a:ext cx="816444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730080"/>
                    <a:ext cx="816444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17680" y="649440"/>
          <a:ext cx="844524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649440"/>
                    <a:ext cx="844524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544680"/>
          <a:ext cx="77691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544680"/>
                    <a:ext cx="77691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73200" y="504720"/>
          <a:ext cx="8084880" cy="612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504720"/>
                    <a:ext cx="8084880" cy="612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685800" y="709560"/>
          <a:ext cx="8242200" cy="539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709560"/>
                    <a:ext cx="8242200" cy="539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54040" y="685800"/>
          <a:ext cx="8373960" cy="569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685800"/>
                    <a:ext cx="83739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588960" y="554040"/>
          <a:ext cx="826596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554040"/>
                    <a:ext cx="826596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3:05:30Z</dcterms:created>
  <dc:creator>jalvarez</dc:creator>
  <dc:description/>
  <dc:language>en-US</dc:language>
  <cp:lastModifiedBy>nbaloian</cp:lastModifiedBy>
  <cp:lastPrinted>2006-03-14T15:11:26Z</cp:lastPrinted>
  <dcterms:modified xsi:type="dcterms:W3CDTF">2007-03-13T12:31:40Z</dcterms:modified>
  <cp:revision>35</cp:revision>
  <dc:subject/>
  <dc:title>Sin título de diapositiva</dc:title>
</cp:coreProperties>
</file>