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A94D-33E0-48BE-8623-65EF58F8C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5A02-C5DC-406A-BB50-E9F0A8FF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7E17-D693-40F9-9C39-2D2C9B35C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BCE7-F130-425C-83E8-A9212A024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8255-0C76-4FF8-B5CB-8ED8F790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5315-61D0-4459-8A58-09326FA2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C8A1-3CAC-4F18-8663-1F39BF04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6D2E-7B3F-4A57-AAD5-5BC0DD5A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CEA6-8E9D-4422-AD22-D95EA500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21FC-7503-48FA-B6CC-6B68AADB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3A4C-E722-4448-801F-230421F6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E6E5-9AFA-4C9E-96E2-189DBD3D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3491-B8BE-47C9-84AF-AA29122A3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95480" y="601560"/>
          <a:ext cx="7315200" cy="762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5480" y="601560"/>
                    <a:ext cx="7315200" cy="762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93800" y="722160"/>
          <a:ext cx="812160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722160"/>
                    <a:ext cx="81216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66800" y="681120"/>
          <a:ext cx="7991280" cy="707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681120"/>
                    <a:ext cx="7991280" cy="707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43040" y="803160"/>
          <a:ext cx="7904160" cy="524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803160"/>
                    <a:ext cx="790416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31720" y="792000"/>
          <a:ext cx="8288280" cy="572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792000"/>
                    <a:ext cx="8288280" cy="57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06600" y="730080"/>
          <a:ext cx="826272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730080"/>
                    <a:ext cx="826272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04720" y="722160"/>
          <a:ext cx="8386920" cy="689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722160"/>
                    <a:ext cx="8386920" cy="689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54200" y="642960"/>
            <a:ext cx="791676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42920" y="906480"/>
            <a:ext cx="737244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étodos (funciones) propuestos (iterativos y/o recursiv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inario(13) escribe 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verso(123) entrega 321 (fun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inimoComunMultiplo(3,4) entrega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erfecto(6)=true porque 1+2+3=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mo(7) entrega true, primo(9)=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mosRelativos(4,9)=tru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mosRelativos(3,9)=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rea: elegir 3 y entregarlos a principios de la proxima cl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martes a las 1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263600" y="793800"/>
          <a:ext cx="705024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3600" y="793800"/>
                    <a:ext cx="705024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39680" y="779400"/>
          <a:ext cx="749628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779400"/>
                    <a:ext cx="749628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84360" y="404640"/>
          <a:ext cx="8164440" cy="57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04640"/>
                    <a:ext cx="8164440" cy="57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70040" y="480960"/>
          <a:ext cx="8169120" cy="628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480960"/>
                    <a:ext cx="8169120" cy="62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70040" y="480960"/>
          <a:ext cx="8024760" cy="64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480960"/>
                    <a:ext cx="8024760" cy="64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46280" y="588960"/>
          <a:ext cx="8145360" cy="754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588960"/>
                    <a:ext cx="8145360" cy="75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915840" y="619200"/>
          <a:ext cx="7372440" cy="62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619200"/>
                    <a:ext cx="7372440" cy="62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130400" y="927000"/>
          <a:ext cx="7351560" cy="52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927000"/>
                    <a:ext cx="735156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9:33:58Z</dcterms:created>
  <dc:creator>jalvarez</dc:creator>
  <dc:description/>
  <dc:language>en-US</dc:language>
  <cp:lastModifiedBy>nbaloian</cp:lastModifiedBy>
  <cp:lastPrinted>2006-03-22T18:37:38Z</cp:lastPrinted>
  <dcterms:modified xsi:type="dcterms:W3CDTF">2007-04-20T15:22:27Z</dcterms:modified>
  <cp:revision>26</cp:revision>
  <dc:subject/>
  <dc:title>Sin título de diapositiva</dc:title>
</cp:coreProperties>
</file>