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322A-8420-432F-A100-E132D8DE9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3E7-4544-44C4-B9D6-FC2D67383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CEA0-5FB4-4F95-8C3A-CF582123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0131-6FD1-44E8-9698-17E8206F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54FD-AE5D-472A-821E-C12E18255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83E0-333D-49BA-BD6E-3BE66C88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3E91-8271-474F-A28C-56098C52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A9DB-B505-40DE-B1BB-ADA90542F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8D7-6C35-484D-BE8B-E17881FC8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EA7D-2D62-41DB-84E6-1DA78E82A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737A-FB68-4759-86F7-883F4BD3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1ECD-88CC-4D4F-AEBC-0B7B72CD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1FCB-23EA-44F2-92FE-2403DC080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88920" y="766800"/>
          <a:ext cx="7632720" cy="560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766800"/>
                    <a:ext cx="7632720" cy="560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33320" y="554040"/>
          <a:ext cx="826632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6632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3320" y="554040"/>
          <a:ext cx="825336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533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04720" y="541440"/>
          <a:ext cx="8507520" cy="597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41440"/>
                    <a:ext cx="8507520" cy="597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971640" y="692280"/>
          <a:ext cx="7410240" cy="535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692280"/>
                    <a:ext cx="7410240" cy="53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1166760" y="469800"/>
          <a:ext cx="7651800" cy="60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469800"/>
                    <a:ext cx="7651800" cy="60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757080" y="528480"/>
          <a:ext cx="8182080" cy="605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528480"/>
                    <a:ext cx="8182080" cy="605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263600" y="1155600"/>
          <a:ext cx="6773760" cy="447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3600" y="1155600"/>
                    <a:ext cx="67737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01560"/>
          <a:ext cx="8193240" cy="55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1560"/>
                    <a:ext cx="8193240" cy="55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55560"/>
          <a:ext cx="7336080" cy="582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336080" cy="582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30360" y="630360"/>
          <a:ext cx="8202600" cy="576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630360"/>
                    <a:ext cx="8202600" cy="57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 n=2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ln(…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(n&lt;=3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517680" y="517680"/>
          <a:ext cx="8350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350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4720" y="528480"/>
          <a:ext cx="843444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528480"/>
                    <a:ext cx="843444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87360" y="685800"/>
          <a:ext cx="664236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7360" y="685800"/>
                    <a:ext cx="664236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07-03-16T14:57:47Z</dcterms:modified>
  <cp:revision>18</cp:revision>
  <dc:subject/>
  <dc:title>Sin título de diapositiva</dc:title>
</cp:coreProperties>
</file>