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2037C-E8AC-40A9-9C2A-39A6230B6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9AAB6-9BD3-4442-93F1-72D884216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33025-F8B0-4A70-842D-75CD93E57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AC658-EC36-4444-8132-9DBEA9026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2360B-5C61-4B52-AE9B-DE5783165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7D431-6EC7-426A-B9BD-3EB04F177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E03AF-BA46-442A-8EFC-0E0113785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850D6-8095-4858-8CE2-2DE7E655B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1D2FD-4BCB-4828-92DC-D999BA20F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2EC2E-E02E-4C19-9247-7ADC7244E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0414D-DFA5-4557-8FE0-9F8D994CA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D9018-CB57-4D24-A76E-DA68AE592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1D187-B706-4333-ABB9-53DB537E4B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476280" y="450720"/>
          <a:ext cx="8370720" cy="6478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6280" y="450720"/>
                    <a:ext cx="8370720" cy="647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743040" y="803160"/>
          <a:ext cx="8126280" cy="6829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3040" y="803160"/>
                    <a:ext cx="8126280" cy="682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927000" y="746280"/>
          <a:ext cx="7759800" cy="5522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7000" y="746280"/>
                    <a:ext cx="7759800" cy="552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493560" y="601560"/>
          <a:ext cx="8445600" cy="6075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3560" y="601560"/>
                    <a:ext cx="8445600" cy="607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581040" y="668160"/>
          <a:ext cx="8386920" cy="6035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1040" y="668160"/>
                    <a:ext cx="8386920" cy="603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209520" y="754200"/>
          <a:ext cx="8783640" cy="5456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754200"/>
                    <a:ext cx="8783640" cy="545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614520" y="770040"/>
          <a:ext cx="8264520" cy="5811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4520" y="770040"/>
                    <a:ext cx="8264520" cy="58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252360" y="662040"/>
          <a:ext cx="8650440" cy="6183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2360" y="662040"/>
                    <a:ext cx="8650440" cy="618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544680" y="619200"/>
          <a:ext cx="8299440" cy="5949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4680" y="619200"/>
                    <a:ext cx="8299440" cy="594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915840" y="743040"/>
          <a:ext cx="7310520" cy="6492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5840" y="743040"/>
                    <a:ext cx="7310520" cy="649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"/>
          <p:cNvGraphicFramePr/>
          <p:nvPr/>
        </p:nvGraphicFramePr>
        <p:xfrm>
          <a:off x="303120" y="158760"/>
          <a:ext cx="8340840" cy="8207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3120" y="158760"/>
                    <a:ext cx="8340840" cy="820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704880" y="730080"/>
          <a:ext cx="8164440" cy="5418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4880" y="730080"/>
                    <a:ext cx="8164440" cy="541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517680" y="649440"/>
          <a:ext cx="8445240" cy="5859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7680" y="649440"/>
                    <a:ext cx="8445240" cy="585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692280" y="544680"/>
          <a:ext cx="7769160" cy="5789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2280" y="544680"/>
                    <a:ext cx="7769160" cy="578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673200" y="504720"/>
          <a:ext cx="8084880" cy="6124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3200" y="504720"/>
                    <a:ext cx="8084880" cy="612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673200" y="504720"/>
          <a:ext cx="8084880" cy="6124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3200" y="504720"/>
                    <a:ext cx="8084880" cy="612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685800" y="709560"/>
          <a:ext cx="8242200" cy="5391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709560"/>
                    <a:ext cx="8242200" cy="539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554040" y="685800"/>
          <a:ext cx="8373960" cy="5691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4040" y="685800"/>
                    <a:ext cx="8373960" cy="569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588960" y="554040"/>
          <a:ext cx="8265960" cy="5799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8960" y="554040"/>
                    <a:ext cx="8265960" cy="579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3:05:30Z</dcterms:created>
  <dc:creator>jalvarez</dc:creator>
  <dc:description/>
  <dc:language>en-US</dc:language>
  <cp:lastModifiedBy>nbaloian</cp:lastModifiedBy>
  <cp:lastPrinted>2006-03-14T15:11:26Z</cp:lastPrinted>
  <dcterms:modified xsi:type="dcterms:W3CDTF">2007-03-13T12:31:40Z</dcterms:modified>
  <cp:revision>35</cp:revision>
  <dc:subject/>
  <dc:title>Sin título de diapositiva</dc:title>
</cp:coreProperties>
</file>