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5AF-44F8-47DF-B9C3-1C0D914C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E80-C5BE-41B9-958D-8C2046F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D9D-B5FB-4E98-B55B-4514CB2F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9D5-DE12-4262-A526-15F718E4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70D-4874-43E0-9A6C-0B81BF09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334-A1E2-46A1-8F5F-FB25959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B1C-9ECE-45CA-B1BA-12C9C186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108-0432-4501-B954-46AC37F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DB3-A6CD-473A-95CC-A803545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BD8-9929-43AB-BC2F-45FB6FC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EAD-977C-4028-9960-1FAB952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5DF-BCB2-4FD9-8BEF-9BA0BBF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48B-DFB9-4407-9C70-57F8354C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nbaloian</cp:lastModifiedBy>
  <cp:lastPrinted>2006-03-17T17:08:51Z</cp:lastPrinted>
  <dcterms:modified xsi:type="dcterms:W3CDTF">2007-03-15T12:21:17Z</dcterms:modified>
  <cp:revision>15</cp:revision>
  <dc:subject/>
  <dc:title>Sin título de diapositiva</dc:title>
</cp:coreProperties>
</file>