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B47A-7BE4-4ECE-9109-8FB21036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9D69-80FD-4069-AB4F-B9538D4D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4459-17D2-4445-BBB4-428A51B3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E905-DC26-4617-8EE5-09D07B10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3174-834F-448F-9C01-65C1B6DE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669D-60C4-4E92-9B29-4918EEBB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4BB9-B96D-40D3-801F-6A8633C8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ECF9-C15F-4450-822A-9E13FF45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B1E6-7475-47E9-8500-10BF2E9C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C865-A66C-404E-9D4C-60FAE252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5A8F-C3E5-40F6-9A68-0A9C920C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24AC-A581-4FE4-A90C-B7555D2B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B1DD-35DA-434D-8B6B-164B9A6AB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95480" y="601560"/>
          <a:ext cx="7315200" cy="762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601560"/>
                    <a:ext cx="7315200" cy="762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93800" y="722160"/>
          <a:ext cx="812160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722160"/>
                    <a:ext cx="8121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66800" y="681120"/>
          <a:ext cx="7991280" cy="70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81120"/>
                    <a:ext cx="7991280" cy="70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43040" y="803160"/>
          <a:ext cx="790416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79041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1720" y="792000"/>
          <a:ext cx="8288280" cy="57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792000"/>
                    <a:ext cx="828828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06600" y="730080"/>
          <a:ext cx="82627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730080"/>
                    <a:ext cx="82627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04720" y="722160"/>
          <a:ext cx="8386920" cy="689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722160"/>
                    <a:ext cx="8386920" cy="689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4200" y="642960"/>
            <a:ext cx="79167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42920" y="906480"/>
            <a:ext cx="73724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étodos (funciones) propuestos (iterativos y/o recursiv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inario(13) escribe 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o(123) entrega 321 (fun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nimoComunMultiplo(3,4) entrega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fecto(6)=true porque 1+2+3=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(7) entrega true, primo(9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sRelativos(4,9)=tru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sRelativos(3,9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rea: elegir 3 y entregarlos a principios de la proxima cl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martes a las 1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263600" y="793800"/>
          <a:ext cx="705024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793800"/>
                    <a:ext cx="705024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39680" y="779400"/>
          <a:ext cx="7496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779400"/>
                    <a:ext cx="7496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4360" y="404640"/>
          <a:ext cx="816444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04640"/>
                    <a:ext cx="816444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70040" y="480960"/>
          <a:ext cx="8169120" cy="62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16912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70040" y="480960"/>
          <a:ext cx="8024760" cy="64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024760" cy="64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15840" y="619200"/>
          <a:ext cx="737244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19200"/>
                    <a:ext cx="737244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30400" y="927000"/>
          <a:ext cx="735156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7000"/>
                    <a:ext cx="73515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nbaloian</cp:lastModifiedBy>
  <cp:lastPrinted>2006-03-22T18:37:38Z</cp:lastPrinted>
  <dcterms:modified xsi:type="dcterms:W3CDTF">2007-04-20T15:22:27Z</dcterms:modified>
  <cp:revision>26</cp:revision>
  <dc:subject/>
  <dc:title>Sin título de diapositiva</dc:title>
</cp:coreProperties>
</file>