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356-D2AD-4BE7-AFEC-E1D87852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B78-8278-4779-902B-90FDE14F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41F-8C73-4F04-A2E3-57E5E738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CB0-CCC9-41CF-A397-5B1AB873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02D-41D5-42B1-8027-9BD3B7DA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40C-77FE-4400-BABC-20D0C059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51D-2F2B-48D1-8E10-3188ACAE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117-F860-42EA-B5FE-34159AF4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901-FA5B-4BB9-A69C-E6AA2121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0F3-CD12-43EB-BEB2-E58AB11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5D0-8FBD-44B1-8EA2-9C7C29D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8A9-2B90-4480-BB7D-F89A781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D417-8399-4CD9-8219-A4FC7CC48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6280" y="450720"/>
          <a:ext cx="837072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37072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3120" y="158760"/>
          <a:ext cx="8340840" cy="82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8760"/>
                    <a:ext cx="8340840" cy="82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7-03-13T12:31:40Z</dcterms:modified>
  <cp:revision>35</cp:revision>
  <dc:subject/>
  <dc:title>Sin título de diapositiva</dc:title>
</cp:coreProperties>
</file>