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370-2CA9-4323-A43F-BF76716F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868-1FFC-4A22-9DCC-26C89326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727-0540-408B-92A8-5EE238F6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D37-FC81-4E8E-9B7C-F57F03CF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763-34AA-4AE5-AA02-C96E1CC3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AAC-5403-4EA7-B69C-E11343F5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6F3-FFB2-48D1-BF40-F1111CA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C4E-DF6A-415A-A955-A2561F64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A05-3E53-4519-B4EC-51B67A7A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6D1-7982-42FF-B8B7-8446642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C70-667E-4E87-8622-A9FC785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D55-8D5C-428B-8812-48CE9DA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9EC-CC2A-4203-85EF-E83871D1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lson Baloian Tata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baloian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dcc.uchile.cl/nbaloian/cc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060640"/>
            <a:ext cx="44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 (con ayuda del comput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Java y sofware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07-03-06T13:39:38Z</dcterms:modified>
  <cp:revision>19</cp:revision>
  <dc:subject/>
  <dc:title>Un curso intensivo de Introducción a la Programación Orientada a Objetos en Java  para estudiantes de secundaria </dc:title>
</cp:coreProperties>
</file>