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260-ACB5-4E51-8A92-9FCAF32C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75A-3422-4719-A123-DFB68854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B3C-DF77-4CE0-A0D4-46E42A37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CE1-9BE3-4FBD-BF33-00ECA9A5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E13-5109-42FC-AF23-5956C3BF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13D-FF04-41DD-8FEC-B6208B3A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3B2-F464-42D2-B678-C6629F4E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C1D-DBBD-46EE-AABA-DC5F890E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3FE-677C-4007-894D-44EA5D09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FC7-5B5A-4633-939B-AA7D76B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9FD-09E4-4232-BB13-A2172CD5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1C4-2D6F-4DA2-A578-FFF29E77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1E29-A0B1-4134-91CC-AAC5E7DA6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27240"/>
          <a:ext cx="8566200" cy="49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7240"/>
                    <a:ext cx="8566200" cy="49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606600"/>
          <a:ext cx="795492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3640" y="531720"/>
          <a:ext cx="78915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7891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6120" y="754200"/>
            <a:ext cx="732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24080" y="952560"/>
            <a:ext cx="7310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65200" y="517680"/>
          <a:ext cx="8121600" cy="61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517680"/>
                    <a:ext cx="8121600" cy="61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65160" y="890640"/>
            <a:ext cx="68770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5440" y="662040"/>
          <a:ext cx="862632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662040"/>
                    <a:ext cx="862632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71720" y="757080"/>
          <a:ext cx="7194240" cy="55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57080"/>
                    <a:ext cx="719424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33320" y="504720"/>
          <a:ext cx="80247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04720"/>
                    <a:ext cx="802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93560" y="409680"/>
          <a:ext cx="831384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09680"/>
                    <a:ext cx="83138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7532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5920" y="649440"/>
          <a:ext cx="79279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649440"/>
                    <a:ext cx="7927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01560"/>
          <a:ext cx="82422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82422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601560"/>
          <a:ext cx="7446960" cy="56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01560"/>
                    <a:ext cx="74469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nbaloian</cp:lastModifiedBy>
  <cp:lastPrinted>2005-03-11T14:50:06Z</cp:lastPrinted>
  <dcterms:modified xsi:type="dcterms:W3CDTF">2007-03-07T18:32:48Z</dcterms:modified>
  <cp:revision>20</cp:revision>
  <dc:subject/>
  <dc:title>Soluciones Tarea</dc:title>
</cp:coreProperties>
</file>