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400-1C24-4EEE-B57B-08CB99BB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27F3-88AF-4923-8116-BF2A9091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25C-8228-473E-870E-27E86590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649-C078-475F-BC12-A21AC878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F0A-2CFC-4011-BCB5-C41DF72C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3BF-E664-4FF0-B6F6-59D4F737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FE8-1E97-43BD-87AD-88CF95F7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75A-900F-4AB6-B7FA-94E49C87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966-EC16-41FA-9C14-6942BFD0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FE9-2D0C-431D-8984-0A4B0FCA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A12-20D0-4311-9EBA-FEB1F23C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370-2B5A-4D92-9850-C16B2C29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6DC32290-7969-475A-BD11-584F7F224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8200" y="655560"/>
          <a:ext cx="6862680" cy="49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655560"/>
                    <a:ext cx="686268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2880" y="1025640"/>
          <a:ext cx="8058240" cy="53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1025640"/>
                    <a:ext cx="805824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6040" y="617400"/>
          <a:ext cx="8143920" cy="739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617400"/>
                    <a:ext cx="8143920" cy="739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88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breviatu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8062920" cy="518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1000"/>
          </a:bodyPr>
          <a:p>
            <a:pPr marL="290160" indent="-290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=U.readInt(“Ingresa un nº:”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(“Ingresa un nº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; n=U.readInt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-290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“Gano yo con el “)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“Gano yo con el “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+(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+1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-2426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+: operador de concatenación (añadidur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-2426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éntesis obligan a calcular primer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-290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n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“Gano yo con el “+(n+1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println (print line): escribe y después posiciona el cur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al comienzo de la siguiente línea en la pantal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3920" y="988920"/>
          <a:ext cx="777852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988920"/>
                    <a:ext cx="777852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6520" y="506520"/>
          <a:ext cx="8291520" cy="704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291520" cy="70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rrores” po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3000"/>
          </a:bodyPr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seguir fielmente el diálogo pro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escribir línea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con mayús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ínea de título con print y no print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pregunta con println y no con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ar inadecuadamente la variable (n y no r o ra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a letra griega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3,1416 y no 3.14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vocarse en valor de л (Ej: 3.41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operador de multiplicación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ar notación inexistente para elevar al cuadrado (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o r^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716040"/>
          <a:ext cx="8575920" cy="59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716040"/>
                    <a:ext cx="8575920" cy="59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58920"/>
          <a:ext cx="8710560" cy="61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7105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298800"/>
            <a:ext cx="8964720" cy="63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 U: clase de la U con métodos para leer y escribir nú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return Double.parseDouble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19120" y="704880"/>
          <a:ext cx="788364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704880"/>
                    <a:ext cx="788364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51040" y="870120"/>
          <a:ext cx="744516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870120"/>
                    <a:ext cx="744516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15840" y="841320"/>
          <a:ext cx="7645680" cy="58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841320"/>
                    <a:ext cx="764568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533520"/>
          <a:ext cx="6632640" cy="73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6632640" cy="73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803160"/>
          <a:ext cx="772308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803160"/>
                    <a:ext cx="7723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print, read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nguaje Java: característic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rmAutofit/>
          </a:bodyPr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ado (diseñado) en 1994 en empresa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conjunto” del lenguaje C (19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conjunto” del lenguaje C++ (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modelar/simular problema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mueve herencia (reutilización) de 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redes y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insertar programas en páginas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 concurrente y distribu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6800" y="901800"/>
          <a:ext cx="7610400" cy="50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16040" y="792000"/>
          <a:ext cx="826920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792000"/>
                    <a:ext cx="826920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nelson baloian</cp:lastModifiedBy>
  <cp:lastPrinted>2006-03-07T16:10:21Z</cp:lastPrinted>
  <dcterms:modified xsi:type="dcterms:W3CDTF">2007-02-28T19:34:10Z</dcterms:modified>
  <cp:revision>46</cp:revision>
  <dc:subject/>
  <dc:title>Sin título de diapositiva</dc:title>
</cp:coreProperties>
</file>