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7FB-4365-4994-BD8F-BDF95848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B0B-C9B2-45F7-9880-EB78AAE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FDF-B28E-4730-8DAD-10A92BFE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CDC-AC54-4DA7-8060-FED2534D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356-090C-4206-8923-0403053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0B3-5D74-4678-BD82-05FE6E6F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025-E486-480C-B641-19AB2C33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C24-32BF-44D3-A4BE-DAA3E51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C34-0DDA-485F-9A83-89BE4ED0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9C3-265B-4E86-894B-3FB504A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4A1-68D2-492A-A02F-AB0CF55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DE1-BFD3-475F-AAF8-7F068EC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CEB5321-5311-4184-885E-4AB1C50A4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1000"/>
          </a:bodyPr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U: 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elson baloian</cp:lastModifiedBy>
  <cp:lastPrinted>2006-03-07T16:10:21Z</cp:lastPrinted>
  <dcterms:modified xsi:type="dcterms:W3CDTF">2007-02-28T19:34:10Z</dcterms:modified>
  <cp:revision>46</cp:revision>
  <dc:subject/>
  <dc:title>Sin título de diapositiva</dc:title>
</cp:coreProperties>
</file>