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09478-5861-4B30-BD5E-D9B303B8F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1DDCE-A72F-444C-9BD0-91A3D263D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2C16E-899E-4CBB-9EE2-E9022DD91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D34BD-9441-40D0-84C7-8A7F0F13A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B9365-EC65-438A-9FC3-9E3BD7953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43607-0E20-4D8E-B8FE-D87CBF608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4D6D2-DB8A-46D2-9CF1-36199A535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60406-724D-41EC-891C-26B70DAAE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1029E-F907-4513-A1BE-E4C41ED2C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CCDD2-2846-462D-AEFA-23D266A98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74E94-C0EF-4C7F-AA8F-D8FFA0821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1348F-CBDE-4254-B42A-265335F26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CBF8D-6575-4E83-966E-5A8B440759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oluciones Tar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457200" y="1227240"/>
          <a:ext cx="8566200" cy="4992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227240"/>
                    <a:ext cx="8566200" cy="499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939960" y="606600"/>
          <a:ext cx="7954920" cy="6159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9960" y="606600"/>
                    <a:ext cx="7954920" cy="615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593640" y="531720"/>
          <a:ext cx="7891560" cy="5875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3640" y="531720"/>
                    <a:ext cx="7891560" cy="587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816120" y="754200"/>
            <a:ext cx="73231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324080" y="952560"/>
            <a:ext cx="7310160" cy="50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565200" y="517680"/>
          <a:ext cx="8121600" cy="6148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5200" y="517680"/>
                    <a:ext cx="8121600" cy="614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614520" y="614520"/>
          <a:ext cx="8169120" cy="5654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4520" y="614520"/>
                    <a:ext cx="8169120" cy="565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614520" y="614520"/>
          <a:ext cx="8169120" cy="5654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4520" y="614520"/>
                    <a:ext cx="8169120" cy="565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965160" y="890640"/>
            <a:ext cx="6877080" cy="42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325440" y="662040"/>
          <a:ext cx="8626320" cy="5859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440" y="662040"/>
                    <a:ext cx="8626320" cy="585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"/>
          <p:cNvGraphicFramePr/>
          <p:nvPr/>
        </p:nvGraphicFramePr>
        <p:xfrm>
          <a:off x="1071720" y="757080"/>
          <a:ext cx="7194240" cy="5583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757080"/>
                    <a:ext cx="7194240" cy="558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733320" y="504720"/>
          <a:ext cx="8024760" cy="6400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3320" y="504720"/>
                    <a:ext cx="8024760" cy="640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493560" y="409680"/>
          <a:ext cx="8313840" cy="6316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3560" y="409680"/>
                    <a:ext cx="8313840" cy="631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965160" y="668160"/>
            <a:ext cx="7532640" cy="640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385920" y="649440"/>
          <a:ext cx="7927920" cy="5811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5920" y="649440"/>
                    <a:ext cx="7927920" cy="58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457200" y="601560"/>
          <a:ext cx="8242200" cy="6004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601560"/>
                    <a:ext cx="8242200" cy="600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698400" y="601560"/>
          <a:ext cx="7446960" cy="5641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8400" y="601560"/>
                    <a:ext cx="7446960" cy="564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4T14:27:06Z</dcterms:created>
  <dc:creator>jalvarez</dc:creator>
  <dc:description/>
  <dc:language>en-US</dc:language>
  <cp:lastModifiedBy>nbaloian</cp:lastModifiedBy>
  <cp:lastPrinted>2005-03-11T14:50:06Z</cp:lastPrinted>
  <dcterms:modified xsi:type="dcterms:W3CDTF">2007-03-07T18:32:48Z</dcterms:modified>
  <cp:revision>20</cp:revision>
  <dc:subject/>
  <dc:title>Soluciones Tarea</dc:title>
</cp:coreProperties>
</file>