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FE0D-D70F-4C6D-8E31-55F8C067D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4D81-9767-4B91-B8E5-ADEF810F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2824-B648-454D-BB15-CE90BF683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9CD6-952A-4837-A359-FE46BF819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DA50-9DC2-425E-BBA3-262E1948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A3BD-326D-4775-B641-B0FA0CB8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6A84-1AE2-4AEA-B1C2-2CDC8246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CC7D-D63E-4EEA-973C-C1D218E8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EC87-626F-4A32-BE9B-F6E750ED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2243-D8CD-405F-B3DA-0B0B14BD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2276-5430-48ED-9522-46CBBEC5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3750-6D48-4E9A-91F1-7CC067EC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6F24-8E09-4B83-9A71-FDA1D4D25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elson Baloian Tatary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pto Ciencias de la Compu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baloian@dcc.uchile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ttp://www.dcc.uchile.cl/nbaloian/cc1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2060640"/>
            <a:ext cx="448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7" idx="6"/>
          </p:cNvCxnSpPr>
          <p:nvPr/>
        </p:nvCxnSpPr>
        <p:spPr>
          <a:xfrm flipV="1">
            <a:off x="5790960" y="3809520"/>
            <a:ext cx="153000" cy="6105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58" idx="0"/>
            <a:endCxn id="44" idx="2"/>
          </p:cNvCxnSpPr>
          <p:nvPr/>
        </p:nvCxnSpPr>
        <p:spPr>
          <a:xfrm flipH="1" flipV="1" rot="5400000">
            <a:off x="6162480" y="3952440"/>
            <a:ext cx="1067400" cy="62928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1" name="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 (con ayuda del computad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905120"/>
            <a:ext cx="8001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dag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rientación al aprendiz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lases de cátedra (con profesor) y clases auxiliares (con profesor auxiliar) centradas en problemas y alum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ecnol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enguaje Java y sofware Mat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mbiente Internet/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 Fundamentos de progra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 Programación orientada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Interfaces de usu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 Listas y tablas de val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Computación numé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6. Búsqueda y ordenamiento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4247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 (nota final): 70%NC+30%NT (NC,NT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T (nota tareas): promedio t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C (nota control): prom ponderado cont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971640" y="3573360"/>
          <a:ext cx="6985080" cy="2808360"/>
        </p:xfrm>
        <a:graphic>
          <a:graphicData uri="http://schemas.openxmlformats.org/drawingml/2006/table">
            <a:tbl>
              <a:tblPr/>
              <a:tblGrid>
                <a:gridCol w="1523880"/>
                <a:gridCol w="1932120"/>
                <a:gridCol w="1584360"/>
                <a:gridCol w="194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i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y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y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a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alvarez</dc:creator>
  <dc:description/>
  <dc:language>en-US</dc:language>
  <cp:lastModifiedBy>nbaloian</cp:lastModifiedBy>
  <cp:lastPrinted>2006-03-02T13:33:10Z</cp:lastPrinted>
  <dcterms:modified xsi:type="dcterms:W3CDTF">2007-03-06T13:39:38Z</dcterms:modified>
  <cp:revision>19</cp:revision>
  <dc:subject/>
  <dc:title>Un curso intensivo de Introducción a la Programación Orientada a Objetos en Java  para estudiantes de secundaria </dc:title>
</cp:coreProperties>
</file>