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1329-8480-425B-879D-A2EC6363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5EEC-5F2E-48FC-B298-A2AAE0DC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A24C-7A9B-4A91-A3D1-2DA4EB35D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2F62-39DA-42FA-95EF-2067DCA38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E0F8-0A54-4FB4-917F-9EC99623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86B2-D905-4B6D-8BF9-0225971B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770D-4C6F-48F7-8236-F2E1D854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F834-5982-4F5A-B8FD-937EE09F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4A84-DE1E-4FC7-83CE-F93CFB67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23BF-EDE1-4FE3-AFC5-DE0E144D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2CCD-68FF-4483-A20B-D6D0CB58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E3D1-5477-4084-BCBF-6629A6D8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fld id="{3F82AAD9-0793-48B3-A584-CB47170FA0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08200" y="655560"/>
          <a:ext cx="6862680" cy="499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8200" y="655560"/>
                    <a:ext cx="686268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42880" y="1025640"/>
          <a:ext cx="8058240" cy="537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1025640"/>
                    <a:ext cx="8058240" cy="53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16040" y="617400"/>
          <a:ext cx="8143920" cy="739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617400"/>
                    <a:ext cx="8143920" cy="739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4880" y="306000"/>
            <a:ext cx="7770960" cy="684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breviatur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907560"/>
            <a:ext cx="8062920" cy="5187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1000"/>
          </a:bodyPr>
          <a:p>
            <a:pPr marL="290160" indent="-290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=U.readInt(“Ingresa un nº:”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0160" indent="0">
              <a:spcBef>
                <a:spcPts val="55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s equivalente 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01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.print(“Ingresa un nº: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01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; n=U.readInt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01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0160" indent="-290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.print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“Gano yo con el “);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.print(n+1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9640" indent="0">
              <a:spcBef>
                <a:spcPts val="55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s equivalente 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9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.print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“Gano yo con el “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+(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n+1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9640" indent="-2426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+: operador de concatenación (añadidur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9640" indent="-2426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éntesis obligan a calcular primer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+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9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160" indent="-290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.prin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n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“Gano yo con el “+(n+1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0160" indent="0">
              <a:spcBef>
                <a:spcPts val="55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println (print line): escribe y después posiciona el curs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0160" indent="0">
              <a:spcBef>
                <a:spcPts val="55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</a:rPr>
              <a:t>al comienzo de la siguiente línea en la pantall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223920" y="988920"/>
          <a:ext cx="7778520" cy="503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988920"/>
                    <a:ext cx="7778520" cy="50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06520" y="506520"/>
          <a:ext cx="8291520" cy="704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06520"/>
                    <a:ext cx="8291520" cy="704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rrores” pos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3000"/>
          </a:bodyPr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seguir fielmente el diálogo pro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lvidar escribir línea de tít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con mayúsc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línea de título con print y no print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pregunta con println y no con 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mbrar inadecuadamente la variable (n y no r o rad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la letra griega 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ribir 3,1416 y no 3.14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quivocarse en valor de л (Ej: 3.41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lvidar operador de multiplicación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6280" indent="-296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ar notación inexistente para elevar al cuadrado (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o r^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31640" y="716040"/>
          <a:ext cx="8575920" cy="596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716040"/>
                    <a:ext cx="8575920" cy="59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47680" y="358920"/>
          <a:ext cx="8710560" cy="616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58920"/>
                    <a:ext cx="871056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9280" y="298800"/>
            <a:ext cx="8964720" cy="63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e U: clase de la U con métodos para leer y escribir núm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U{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en archivo U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BufferedRead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clad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BufferedReader(new InputStreamRead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Integer.parseInt(teclado.readLine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(x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(x);return Double.parseDouble(teclado.readLine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(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519120" y="704880"/>
          <a:ext cx="788364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704880"/>
                    <a:ext cx="788364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51040" y="870120"/>
          <a:ext cx="7445160" cy="456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870120"/>
                    <a:ext cx="7445160" cy="45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15840" y="841320"/>
          <a:ext cx="7645680" cy="580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841320"/>
                    <a:ext cx="7645680" cy="58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5800" y="533520"/>
          <a:ext cx="6632640" cy="739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33520"/>
                    <a:ext cx="6632640" cy="73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4200" y="803160"/>
          <a:ext cx="772308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803160"/>
                    <a:ext cx="77230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Java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int, print, rea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n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print(...), 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terminan c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t, print, read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5335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ctr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enguaje Java: características 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rmAutofit/>
          </a:bodyPr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eado (diseñado) en 1994 en empresa 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perconjunto” del lenguaje C (197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bconjunto” del lenguaje C++ (198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nguaje orientado a ob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400" indent="-247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ilidades para modelar/simular problemas r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400" indent="-247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mueve herencia (reutilización) de progra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nguaje orientado a redes y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400" indent="-247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ilidades para insertar programas en páginas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4400" indent="-247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 concurrente y distribui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7000" indent="-297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66800" y="901800"/>
          <a:ext cx="7610400" cy="504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901800"/>
                    <a:ext cx="7610400" cy="50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16040" y="792000"/>
          <a:ext cx="8269200" cy="591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792000"/>
                    <a:ext cx="8269200" cy="59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nelson baloian</cp:lastModifiedBy>
  <cp:lastPrinted>2006-03-07T16:10:21Z</cp:lastPrinted>
  <dcterms:modified xsi:type="dcterms:W3CDTF">2007-02-28T19:34:10Z</dcterms:modified>
  <cp:revision>46</cp:revision>
  <dc:subject/>
  <dc:title>Sin título de diapositiva</dc:title>
</cp:coreProperties>
</file>