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B7F-9744-42F0-8E44-0D8D8813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AC9-0665-407A-9827-96ADBA7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E7D-95AB-48A6-8D62-F38412C3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605-1EB5-46F3-B2B6-11179962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A15-7B3C-45FB-A891-60506CC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288-EE23-4774-8D17-D56A5E1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9C9-4289-49FF-A695-9CC4503F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ECA-CD93-4EE1-BF83-7340ACC0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F25-39F0-4870-AC74-0D2D9CBB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B22-2AC4-4C92-895E-8B38456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9CC-810B-41CD-B68B-C3CD30CB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F92-87ED-4709-8FC0-03802B5B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4ADF-49CB-409E-85BD-842750C1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66200" cy="49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6620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65200" y="517680"/>
          <a:ext cx="8121600" cy="61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517680"/>
                    <a:ext cx="8121600" cy="61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65160" y="890640"/>
            <a:ext cx="68770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62632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62632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71720" y="757080"/>
          <a:ext cx="7194240" cy="55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7080"/>
                    <a:ext cx="719424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33320" y="504720"/>
          <a:ext cx="80247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04720"/>
                    <a:ext cx="802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nbaloian</cp:lastModifiedBy>
  <cp:lastPrinted>2005-03-11T14:50:06Z</cp:lastPrinted>
  <dcterms:modified xsi:type="dcterms:W3CDTF">2007-03-07T18:32:48Z</dcterms:modified>
  <cp:revision>20</cp:revision>
  <dc:subject/>
  <dc:title>Soluciones Tarea</dc:title>
</cp:coreProperties>
</file>