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2497-927C-407F-8512-C878424AE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44B5-0149-4A87-A4B5-B3D6790D8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3090-6113-45AA-9F12-43D1915F4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42BB-5CAE-4567-88B0-7D7DD632B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F30B-5E79-4C01-A0A3-A7633988F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A221-BB53-41AA-B506-BD284745C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E909-BE03-4A68-A281-C0F2C8949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84EF-840B-4922-821A-EA1E9FD11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043A-4BB3-48E1-9145-81666AD07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3457-8E09-4120-8B62-B6ED1B7D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1828-3391-4BBB-9AC2-F38A5684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EC55-ED45-4E39-8AD9-ACC43ACA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03B5A-E1B6-4143-A42C-374FFB1218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76280" y="450720"/>
          <a:ext cx="8370720" cy="647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450720"/>
                    <a:ext cx="8370720" cy="64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43040" y="803160"/>
          <a:ext cx="8126280" cy="682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803160"/>
                    <a:ext cx="8126280" cy="682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927000" y="746280"/>
          <a:ext cx="7759800" cy="552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7000" y="746280"/>
                    <a:ext cx="7759800" cy="55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93560" y="601560"/>
          <a:ext cx="8445600" cy="607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601560"/>
                    <a:ext cx="8445600" cy="60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581040" y="668160"/>
          <a:ext cx="8386920" cy="603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668160"/>
                    <a:ext cx="8386920" cy="603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209520" y="754200"/>
          <a:ext cx="8783640" cy="545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754200"/>
                    <a:ext cx="8783640" cy="54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14520" y="770040"/>
          <a:ext cx="8264520" cy="581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770040"/>
                    <a:ext cx="8264520" cy="58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252360" y="662040"/>
          <a:ext cx="8650440" cy="618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360" y="662040"/>
                    <a:ext cx="8650440" cy="61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44680" y="619200"/>
          <a:ext cx="8299440" cy="594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619200"/>
                    <a:ext cx="8299440" cy="59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915840" y="743040"/>
          <a:ext cx="7310520" cy="649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743040"/>
                    <a:ext cx="7310520" cy="649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303120" y="158760"/>
          <a:ext cx="8340840" cy="820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3120" y="158760"/>
                    <a:ext cx="8340840" cy="820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04880" y="730080"/>
          <a:ext cx="8164440" cy="541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730080"/>
                    <a:ext cx="8164440" cy="541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17680" y="649440"/>
          <a:ext cx="8445240" cy="585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649440"/>
                    <a:ext cx="8445240" cy="58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92280" y="544680"/>
          <a:ext cx="776916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544680"/>
                    <a:ext cx="776916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73200" y="504720"/>
          <a:ext cx="8084880" cy="612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504720"/>
                    <a:ext cx="8084880" cy="61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73200" y="504720"/>
          <a:ext cx="8084880" cy="612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504720"/>
                    <a:ext cx="8084880" cy="61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85800" y="709560"/>
          <a:ext cx="8242200" cy="539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709560"/>
                    <a:ext cx="8242200" cy="539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54040" y="685800"/>
          <a:ext cx="8373960" cy="5691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040" y="685800"/>
                    <a:ext cx="8373960" cy="56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588960" y="554040"/>
          <a:ext cx="8265960" cy="579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8960" y="554040"/>
                    <a:ext cx="8265960" cy="579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3:05:30Z</dcterms:created>
  <dc:creator>jalvarez</dc:creator>
  <dc:description/>
  <dc:language>en-US</dc:language>
  <cp:lastModifiedBy>nbaloian</cp:lastModifiedBy>
  <cp:lastPrinted>2006-03-14T15:11:26Z</cp:lastPrinted>
  <dcterms:modified xsi:type="dcterms:W3CDTF">2007-03-13T12:31:40Z</dcterms:modified>
  <cp:revision>35</cp:revision>
  <dc:subject/>
  <dc:title>Sin título de diapositiva</dc:title>
</cp:coreProperties>
</file>