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3A8-D0CF-451D-9C44-FF338A28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744-D04A-4094-8238-44BE6E2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E05-43F4-42BF-AB9B-BD8347F3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7AA-8F01-4FF3-BBC0-A1CE3285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564-2775-4BF7-906A-BED948E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D98-D7E7-45A0-A560-92F9EE87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CC2-CE8F-4B9D-8C2F-B43DECC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9E5-AD39-498A-8546-E9E4F330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ED3-B108-4DCC-8689-290AF58D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EAE-2497-4330-92FE-2352B45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41C-01FC-4027-803E-77DFC3A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521-B7DF-41FE-9F9E-9539A7DA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C933-F667-4F3B-BF1F-9A8659B0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66200" cy="49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6620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65200" y="517680"/>
          <a:ext cx="8121600" cy="61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17680"/>
                    <a:ext cx="812160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5160" y="890640"/>
            <a:ext cx="6877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62632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62632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71720" y="757080"/>
          <a:ext cx="7194240" cy="55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7080"/>
                    <a:ext cx="719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3320" y="504720"/>
          <a:ext cx="8024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04720"/>
                    <a:ext cx="802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nbaloian</cp:lastModifiedBy>
  <cp:lastPrinted>2005-03-11T14:50:06Z</cp:lastPrinted>
  <dcterms:modified xsi:type="dcterms:W3CDTF">2007-03-07T18:32:48Z</dcterms:modified>
  <cp:revision>20</cp:revision>
  <dc:subject/>
  <dc:title>Soluciones Tarea</dc:title>
</cp:coreProperties>
</file>