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036-B113-42C7-BC05-FE222F72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AE7E-6169-47DE-AEEE-C5E9AE0F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38A6-4DA6-42A7-B45D-BEA6D24D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661E-5531-44E4-B22C-87B5CB83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A618-F8C4-481E-A94A-CB3BDDA9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A92-E234-4EEE-88D2-D583A129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889-7C4E-4342-9726-6DF8787E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2C9F-29C3-4BAD-B5E9-FA07EBC4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963A-D09B-47BF-BB81-30321005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616-1A83-4B3F-A729-D7FB889C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0119-310F-48DA-AEBA-D83FCD2A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9FC-8367-4355-A9F8-669F4EBF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74D4B608-095E-46E3-A7AC-D3D446F00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8200" y="655560"/>
          <a:ext cx="6862680" cy="49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655560"/>
                    <a:ext cx="686268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2880" y="1025640"/>
          <a:ext cx="8058240" cy="53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1025640"/>
                    <a:ext cx="805824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6040" y="617400"/>
          <a:ext cx="8143920" cy="739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617400"/>
                    <a:ext cx="8143920" cy="739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488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breviatu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907560"/>
            <a:ext cx="8062920" cy="518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1000"/>
          </a:bodyPr>
          <a:p>
            <a:pPr marL="290160" indent="-290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=U.readInt(“Ingresa un nº:”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 equivalente 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(“Ingresa un nº: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; n=U.readInt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-290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“Gano yo con el “);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(n+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9640" indent="0"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 equivalente 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9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“Gano yo con el “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+(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+1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9640" indent="-2426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+: operador de concatenación (añadidur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9640" indent="-2426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éntesis obligan a calcular primer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+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9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-290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n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“Gano yo con el “+(n+1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println (print line): escribe y después posiciona el cur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al comienzo de la siguiente línea en la pantal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23920" y="988920"/>
          <a:ext cx="7778520" cy="50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988920"/>
                    <a:ext cx="777852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06520" y="506520"/>
          <a:ext cx="8291520" cy="704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06520"/>
                    <a:ext cx="8291520" cy="704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rrores” po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3000"/>
          </a:bodyPr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seguir fielmente el diálogo pro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 escribir línea de 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con mayús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línea de título con print y no print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pregunta con println y no con 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mbrar inadecuadamente la variable (n y no r o rad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la letra griega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3,1416 y no 3.14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quivocarse en valor de л (Ej: 3.41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 operador de multiplicación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ar notación inexistente para elevar al cuadrado (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o r^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716040"/>
          <a:ext cx="8575920" cy="596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716040"/>
                    <a:ext cx="8575920" cy="59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47680" y="358920"/>
          <a:ext cx="8710560" cy="61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71056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298800"/>
            <a:ext cx="8964720" cy="63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 U: clase de la U con métodos para leer y escribir nú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teclado.read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return Double.parseDouble(teclado.read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19120" y="704880"/>
          <a:ext cx="788364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704880"/>
                    <a:ext cx="788364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51040" y="870120"/>
          <a:ext cx="7445160" cy="45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870120"/>
                    <a:ext cx="744516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15840" y="841320"/>
          <a:ext cx="7645680" cy="580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841320"/>
                    <a:ext cx="7645680" cy="58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5800" y="533520"/>
          <a:ext cx="6632640" cy="73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6632640" cy="73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803160"/>
          <a:ext cx="772308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803160"/>
                    <a:ext cx="7723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print, read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533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enguaje Java: característic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rmAutofit/>
          </a:bodyPr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ado (diseñado) en 1994 en empresa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conjunto” del lenguaje C (19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bconjunto” del lenguaje C++ (19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uaje orientado a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dades para modelar/simular problemas 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mueve herencia (reutilización) de 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uaje orientado a redes y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dades para insertar programas en páginas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 concurrente y distribu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66800" y="901800"/>
          <a:ext cx="7610400" cy="50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16040" y="792000"/>
          <a:ext cx="8269200" cy="59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792000"/>
                    <a:ext cx="826920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nelson baloian</cp:lastModifiedBy>
  <cp:lastPrinted>2006-03-07T16:10:21Z</cp:lastPrinted>
  <dcterms:modified xsi:type="dcterms:W3CDTF">2007-02-28T19:34:10Z</dcterms:modified>
  <cp:revision>46</cp:revision>
  <dc:subject/>
  <dc:title>Sin título de diapositiva</dc:title>
</cp:coreProperties>
</file>