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483-DC11-4A64-837C-F19A5A9F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31D-39CA-4493-8A91-1B767F6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AA1-D836-4A29-A0BA-F54902E9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840-7556-42CC-9FFD-8C0CF7BB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8BA-589E-46AC-864B-0DE13A1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051-339A-4B64-9C98-73A5C20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194-A91D-4FA9-99F9-D99442D7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BF8-5C11-4BB2-B37F-26156B2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AB2-64BD-40BF-BAD4-99514515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80C-993B-4301-AF54-626D3B4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3DE-A6B3-4EED-85A3-A68F111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197-CDE2-4737-BE48-4081EA9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4E6-8CDE-4540-837F-20D710A4D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lson Baloian Tata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baloian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dcc.uchile.cl/nbaloian/cc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060640"/>
            <a:ext cx="44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 (con ayuda del comput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Java y sofware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07-03-06T13:39:38Z</dcterms:modified>
  <cp:revision>19</cp:revision>
  <dc:subject/>
  <dc:title>Un curso intensivo de Introducción a la Programación Orientada a Objetos en Java  para estudiantes de secundaria </dc:title>
</cp:coreProperties>
</file>