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31F-7186-4020-9C76-8FF676A0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15A-1B3F-4F58-BCBB-ABECB5EB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CF5-7331-496E-901F-2F4E1713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24D-89C5-4375-89BF-132BD734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569-A898-4FF6-9A28-BC88D18F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AF82-8AF0-4AC9-96CE-F46E496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759-6BFB-4BD8-9AC9-4BA5BDA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365-C933-4C82-89DC-C63CC22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B0A-8172-4BDA-9631-6552F751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F76-2824-4F82-944E-AE820ADA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FCA-419C-4382-9446-2F1164E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174-161A-42BD-BACD-E1CAE94E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2100-1B09-498E-9201-06EB0F2E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lson Baloian Tatary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baloian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ttp://www.dcc.uchile.cl/nbaloian/cc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060640"/>
            <a:ext cx="44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 (con ayuda del computa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 Java y sofware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nbaloian</cp:lastModifiedBy>
  <cp:lastPrinted>2006-03-02T13:33:10Z</cp:lastPrinted>
  <dcterms:modified xsi:type="dcterms:W3CDTF">2007-03-06T13:39:38Z</dcterms:modified>
  <cp:revision>19</cp:revision>
  <dc:subject/>
  <dc:title>Un curso intensivo de Introducción a la Programación Orientada a Objetos en Java  para estudiantes de secundaria </dc:title>
</cp:coreProperties>
</file>