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608D-8F7C-492E-93F0-F37F66E7D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6D24-EE71-4380-BEB0-E2197F92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ADE9-5653-4DB7-A969-870788A42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D2AC-044E-45AE-918F-7BE75D073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6AC1-5198-4C9B-AF2D-399E7D55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AC0F-41CB-4A05-80E5-42CC20A1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FE95-6551-472C-A8A6-6751BF6F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A209-BFAE-4A23-83E2-DB04CB59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C9FC-AEE9-4B5B-8602-145666D0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4445-F305-499A-82D0-D5BF5002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E713-4430-4646-8765-7BE49720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22CA-F010-4808-BB37-FC83BC66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175E-78E5-471D-8C41-7A43EF257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76280" y="450720"/>
          <a:ext cx="8370720" cy="64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450720"/>
                    <a:ext cx="8370720" cy="64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43040" y="803160"/>
          <a:ext cx="8126280" cy="682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803160"/>
                    <a:ext cx="8126280" cy="682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927000" y="746280"/>
          <a:ext cx="775980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746280"/>
                    <a:ext cx="775980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93560" y="601560"/>
          <a:ext cx="8445600" cy="607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601560"/>
                    <a:ext cx="844560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81040" y="668160"/>
          <a:ext cx="8386920" cy="603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668160"/>
                    <a:ext cx="838692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209520" y="754200"/>
          <a:ext cx="8783640" cy="545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754200"/>
                    <a:ext cx="878364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14520" y="770040"/>
          <a:ext cx="8264520" cy="58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770040"/>
                    <a:ext cx="826452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252360" y="662040"/>
          <a:ext cx="8650440" cy="618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360" y="662040"/>
                    <a:ext cx="8650440" cy="61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44680" y="619200"/>
          <a:ext cx="8299440" cy="594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619200"/>
                    <a:ext cx="8299440" cy="59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915840" y="743040"/>
          <a:ext cx="7310520" cy="649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743040"/>
                    <a:ext cx="7310520" cy="64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303120" y="158760"/>
          <a:ext cx="8340840" cy="820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120" y="158760"/>
                    <a:ext cx="8340840" cy="820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04880" y="730080"/>
          <a:ext cx="816444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730080"/>
                    <a:ext cx="816444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17680" y="649440"/>
          <a:ext cx="8445240" cy="585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649440"/>
                    <a:ext cx="8445240" cy="58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92280" y="544680"/>
          <a:ext cx="776916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44680"/>
                    <a:ext cx="776916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85800" y="709560"/>
          <a:ext cx="8242200" cy="539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709560"/>
                    <a:ext cx="8242200" cy="539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54040" y="685800"/>
          <a:ext cx="8373960" cy="569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685800"/>
                    <a:ext cx="8373960" cy="56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88960" y="554040"/>
          <a:ext cx="8265960" cy="57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8960" y="554040"/>
                    <a:ext cx="826596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alvarez</dc:creator>
  <dc:description/>
  <dc:language>en-US</dc:language>
  <cp:lastModifiedBy>nbaloian</cp:lastModifiedBy>
  <cp:lastPrinted>2006-03-14T15:11:26Z</cp:lastPrinted>
  <dcterms:modified xsi:type="dcterms:W3CDTF">2007-03-13T12:31:40Z</dcterms:modified>
  <cp:revision>35</cp:revision>
  <dc:subject/>
  <dc:title>Sin título de diapositiva</dc:title>
</cp:coreProperties>
</file>