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312-EDBA-4876-B1C8-3182871D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17F-ED7B-4136-B0CD-46FDEFF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9B9-B59E-4081-8836-94B7DAFE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400-D903-4666-99F9-281F5978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DC-D233-4DC6-9707-1981137C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231-98C6-470A-88C3-457C1AA3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D0E-E977-49FA-8986-65D77AEF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A85-FA15-484C-8ECC-5D93C6B1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240-4911-4A29-8EA8-21679AA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303-1638-48BA-A85F-B4CCC30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707-EDA6-44CA-88C6-4DF6B3C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5A1-896A-4226-9ECE-3D0EFF9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52D-A634-4BBB-9186-C7D33BC7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Modificaciones del Quimosta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ltivos de Perfusión-Recirculación de Cél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act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0526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élulas entran – Células que salen + Crecimiento celular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8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4920" y="4149720"/>
                <a:ext cx="883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2280" y="4876920"/>
            <a:ext cx="54104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292720" y="6040440"/>
                <a:ext cx="2438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95280" y="2276640"/>
            <a:ext cx="792468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Supue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en solución dan células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inmovilizadas dan células en suspensión que se extraen del medio, de manera que x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se mantiene constan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el balance de masa queda de la siguiente for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quí, despej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90720" y="1143000"/>
                <a:ext cx="6705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24080" y="2819520"/>
                <a:ext cx="281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42920" y="4221000"/>
            <a:ext cx="6172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≠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íf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gt;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lastslide"/>
          </p:cNvPr>
          <p:cNvSpPr/>
          <p:nvPr/>
        </p:nvSpPr>
        <p:spPr>
          <a:xfrm>
            <a:off x="8153280" y="6324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39465" y="10800"/>
                </a:moveTo>
                <a:lnTo>
                  <a:pt x="28960" y="17806"/>
                </a:lnTo>
                <a:lnTo>
                  <a:pt x="28960" y="3794"/>
                </a:lnTo>
                <a:close/>
              </a:path>
              <a:path fill="darken" w="71932" h="21600">
                <a:moveTo>
                  <a:pt x="41310" y="3794"/>
                </a:moveTo>
                <a:lnTo>
                  <a:pt x="41310" y="17806"/>
                </a:lnTo>
                <a:lnTo>
                  <a:pt x="42973" y="17806"/>
                </a:lnTo>
                <a:lnTo>
                  <a:pt x="42973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16360" y="5300640"/>
                <a:ext cx="1896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125360"/>
            <a:ext cx="853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97720" cy="74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657600" y="4419720"/>
                <a:ext cx="105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82760" y="5345280"/>
                <a:ext cx="55404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657600"/>
            <a:ext cx="8001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57200"/>
            <a:ext cx="86104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V y reagrup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x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ecuación [2.7]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43280" y="1268280"/>
                <a:ext cx="3112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56000" y="5157720"/>
                <a:ext cx="2849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7380360" y="501336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7524720" y="278136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03280" y="3213000"/>
                <a:ext cx="4897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11280" y="4653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56720" y="5300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.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4572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de crecimiento tipo Monod y la ecuación [2.8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484360" y="1844640"/>
                <a:ext cx="3886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24720" y="2133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.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533520"/>
          <a:ext cx="693396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93396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00200" y="22860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808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914400"/>
            <a:ext cx="2438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590920"/>
            <a:ext cx="2971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79132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elocidad de Dilución, D, hr</a:t>
            </a:r>
            <a:r>
              <a:rPr b="0" lang="es-E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962520"/>
            <a:ext cx="2362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227640" y="1267920"/>
            <a:ext cx="649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s de Perfus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066680"/>
            <a:ext cx="464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a concentración de células siempre puede aumentarse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irculando al reactor parte de la biomasa existente en la corriente de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ermite mantener un inóculo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ta concent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yor estabilidad y menor efecto de las perturb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rástico incremento en la productiv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530064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0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49760" y="83808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1557360"/>
            <a:ext cx="37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4681440" cy="547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76720" y="465300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dor que separa sólo y parcialmente las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419640" y="4149360"/>
            <a:ext cx="129672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2349360"/>
            <a:ext cx="1441440" cy="273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700280"/>
            <a:ext cx="3384720" cy="4321080"/>
          </a:xfrm>
          <a:prstGeom prst="rect">
            <a:avLst/>
          </a:prstGeom>
          <a:noFill/>
          <a:ln w="5724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l Balanc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2860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638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,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762120"/>
          <a:ext cx="32497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3249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638680" y="167652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ótese que la corriente de reciclo contiene sustrato, en igual concentración que la que sale del reactor, debido a que el separador tiene efecto sobre sust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élulas inmovilizadas: son las células físicamente confinadas o localizadas en una región definida del espacio con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tención de su actividad catalític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y, si es posible o necesario de su viabilidad, pudiéndose usar en forma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petitiva o continu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so: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roducción de vinagre por el proceso Shutzenbach (18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ratamiento de efluente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(biofiltros y lodos activ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ultivo de células mamí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836640"/>
            <a:ext cx="79246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élulas entran – Células que salen + Crecimiento celular – Muerte celular  = Acumulación Cel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76360" y="1773360"/>
                <a:ext cx="66945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48360" y="4303800"/>
                <a:ext cx="1511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58920" y="5445000"/>
                <a:ext cx="601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0000" y="3789360"/>
                <a:ext cx="3733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971640" y="522936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c&gt;1 y 0&lt;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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+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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D &gt;</a:t>
            </a:r>
            <a:r>
              <a:rPr b="1" lang="es-MX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7885080" y="400536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6360" y="620640"/>
                <a:ext cx="6039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0560" y="1989000"/>
                <a:ext cx="5689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187280" y="14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endo p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rde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306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3860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143000"/>
            <a:ext cx="8381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09480" y="3016080"/>
                <a:ext cx="79250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564000" y="5516640"/>
                <a:ext cx="1442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11280" y="4292640"/>
            <a:ext cx="7848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 (cont..)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88960"/>
            <a:ext cx="8381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on esto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3] en [3.6] se tiene (Prob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1484280"/>
                <a:ext cx="5327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03640" y="2565360"/>
                <a:ext cx="2092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780000" y="4221000"/>
                <a:ext cx="21762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7093080" y="27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7621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un modelo de crecimiento tipo Monod  (Pro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65480" y="1676520"/>
                <a:ext cx="3316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28600" y="3733920"/>
                <a:ext cx="6732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7543800" y="205740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8381880" y="41911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47640" y="2060640"/>
          <a:ext cx="619308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6193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484360" y="83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iles de los cultivos de per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1400" y="617220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puede trabajar a D mayores que el Dc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*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2666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53352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B y C Co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y E: si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943600" cy="4884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504120" y="2286000"/>
            <a:ext cx="2639880" cy="3086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5640" y="2637000"/>
            <a:ext cx="2087640" cy="1871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373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 re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332000" y="4508640"/>
            <a:ext cx="712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jemplo (Tare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epa de levadura es cultivada en un fermentador de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l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de separación ha sido diseñado de tal manera que se recircula el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%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flujo de alimentación al reactor y la concentración de biomasa que se recircula es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4 vec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que entra al separadaor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crecimiento de esta levadura se puede representar por una expresión tipo Monod, cuyos parámetros s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s = 0.05 g/l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x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x/s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la concentración de biomasa y sustrato a la salida del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parado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idere que la alimentación fresca al fermentador tiene una concentración de sustrat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0 g/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 fluj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0 l/h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los valores obtenidos con un sistema sin recicl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2286000"/>
            <a:ext cx="4800600" cy="3809520"/>
            <a:chOff x="2133720" y="2286000"/>
            <a:chExt cx="4800600" cy="3809520"/>
          </a:xfrm>
        </p:grpSpPr>
        <p:sp>
          <p:nvSpPr>
            <p:cNvPr id="177" name=""/>
            <p:cNvSpPr/>
            <p:nvPr/>
          </p:nvSpPr>
          <p:spPr>
            <a:xfrm>
              <a:off x="2312640" y="5531400"/>
              <a:ext cx="4472640" cy="56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133720" y="2286000"/>
            <a:ext cx="480060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2286000"/>
                      <a:ext cx="480060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0" name=""/>
          <p:cNvSpPr/>
          <p:nvPr/>
        </p:nvSpPr>
        <p:spPr>
          <a:xfrm>
            <a:off x="4267080" y="3429000"/>
            <a:ext cx="1295640" cy="16002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638320" y="29718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Una cepa de levadura es cultivada en un fermentador de 30 lt. El sistema de separación ha sido diseñado de tal manera que la concentración de biomasa a la salida del separador es un 30% de la biomasa que entra en éste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La velocidad de crecimiento de esta levadura se puede representar por una expresión tipo Monod, cuyos parámetr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05 g/l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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x/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Calcule la concentración de biomasa y sustrato a la salida del fermentador,. Considere que la alimentación fresca al fermentador tiene una concentración de sustrato de 10 g/l y un flujo de 20 l/hr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d.  Planteé un balance general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(cont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alcanzar elevadas concentraciones celulares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Altas productividades por unidad de volu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eliminar las etapas de separación desde el medio líquido después de la fermentación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Reducción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ermite trabajar a velocidad de dilución mayores que la velocidad critica (Dc). ¿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43200" y="1295280"/>
            <a:ext cx="2800440" cy="3657600"/>
            <a:chOff x="2743200" y="1295280"/>
            <a:chExt cx="2800440" cy="3657600"/>
          </a:xfrm>
        </p:grpSpPr>
        <p:sp>
          <p:nvSpPr>
            <p:cNvPr id="186" name=""/>
            <p:cNvSpPr/>
            <p:nvPr/>
          </p:nvSpPr>
          <p:spPr>
            <a:xfrm>
              <a:off x="2847600" y="4411080"/>
              <a:ext cx="2609280" cy="54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2743200" y="1295280"/>
            <a:ext cx="2800440" cy="310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295280"/>
                      <a:ext cx="2800440" cy="31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"/>
          <p:cNvSpPr/>
          <p:nvPr/>
        </p:nvSpPr>
        <p:spPr>
          <a:xfrm>
            <a:off x="2438280" y="1752480"/>
            <a:ext cx="2133720" cy="289584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781200"/>
            <a:ext cx="8458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dea en colocar dos o más fermentadores en serie. De esta manera se pu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 productos formados después del crecimiento (Sólo hay crecimiento en el primer ferment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problemas fisiológicos interesantes (se agrega algún tipo de agen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04840" y="3581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8088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alimentación al seg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4290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alimentación al segundo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`: es el mismo sustrato o podría ser un inhibidor o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381560" y="3809880"/>
            <a:ext cx="4762440" cy="202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4229280" y="533520"/>
          <a:ext cx="491472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533520"/>
                    <a:ext cx="4914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914400"/>
            <a:ext cx="7543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 el prime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 los balances son análogos a un solo fermentador, considerando todos los supuestos antes mencion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nc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2904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0400" y="4641840"/>
                <a:ext cx="3505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228600"/>
            <a:ext cx="838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Segundo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86040" y="6019920"/>
                <a:ext cx="1343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85800" y="3733920"/>
            <a:ext cx="77724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95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0" y="2514600"/>
                <a:ext cx="894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334120" y="0"/>
          <a:ext cx="35431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0"/>
                    <a:ext cx="35431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685800"/>
            <a:ext cx="84582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7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1789200"/>
                <a:ext cx="5486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290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68640" y="2744640"/>
                <a:ext cx="2798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">
            <a:hlinkClick r:id="" action="ppaction://hlinkshowjump?jump=lastslide"/>
          </p:cNvPr>
          <p:cNvSpPr/>
          <p:nvPr/>
        </p:nvSpPr>
        <p:spPr>
          <a:xfrm>
            <a:off x="7848720" y="335268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640" y="4572000"/>
            <a:ext cx="784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hay ingreso de biomasa, 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228600"/>
            <a:ext cx="85345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362320" y="4343400"/>
                <a:ext cx="4195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5486400"/>
                <a:ext cx="3733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808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ej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228600"/>
            <a:ext cx="723924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2: Alimentación adicional en el 2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´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ustrato, no biomasa (x’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umple la condición qu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lance de Masa Globa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F + F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lastslide"/>
          </p:cNvPr>
          <p:cNvSpPr/>
          <p:nvPr/>
        </p:nvSpPr>
        <p:spPr>
          <a:xfrm>
            <a:off x="7772400" y="55627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962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oportes utilizados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la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moviliz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ión de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él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066680"/>
          <a:ext cx="8305560" cy="4865400"/>
        </p:xfrm>
        <a:graphic>
          <a:graphicData uri="http://schemas.openxmlformats.org/drawingml/2006/table">
            <a:tbl>
              <a:tblPr/>
              <a:tblGrid>
                <a:gridCol w="2209680"/>
                <a:gridCol w="2666880"/>
                <a:gridCol w="34290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organ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p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.ac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obacter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ta de Mad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n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 cereviasi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de cal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óg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baena cilind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 Por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uerpos monoclo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id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polilis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tam aguas residu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ivo 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rac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4572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iente adicional no contien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91120" y="4267080"/>
                <a:ext cx="13572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29580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00200" y="5562720"/>
                <a:ext cx="594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080" y="457200"/>
            <a:ext cx="78487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’)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19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97240" y="2046240"/>
                <a:ext cx="2243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">
            <a:hlinkClick r:id="" action="ppaction://hlinkshowjump?jump=lastslide"/>
          </p:cNvPr>
          <p:cNvSpPr/>
          <p:nvPr/>
        </p:nvSpPr>
        <p:spPr>
          <a:xfrm>
            <a:off x="7924680" y="23623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962520"/>
            <a:ext cx="746748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trabajar a alta velocidad de crecimiento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2296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976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51040" y="4584600"/>
                <a:ext cx="6099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325600" y="1521000"/>
                <a:ext cx="3681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7924680" y="198108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m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867280" y="2286000"/>
                <a:ext cx="2133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429000" y="3429000"/>
                <a:ext cx="1895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3419640"/>
                <a:ext cx="22096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352680" y="4648320"/>
                <a:ext cx="1905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562720" y="4419720"/>
                <a:ext cx="243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609480" y="1143000"/>
            <a:ext cx="7408800" cy="4495320"/>
            <a:chOff x="609480" y="1143000"/>
            <a:chExt cx="7408800" cy="4495320"/>
          </a:xfrm>
        </p:grpSpPr>
        <p:grpSp>
          <p:nvGrpSpPr>
            <p:cNvPr id="251" name=""/>
            <p:cNvGrpSpPr/>
            <p:nvPr/>
          </p:nvGrpSpPr>
          <p:grpSpPr>
            <a:xfrm>
              <a:off x="615240" y="1149840"/>
              <a:ext cx="7396200" cy="4480200"/>
              <a:chOff x="615240" y="1149840"/>
              <a:chExt cx="7396200" cy="44802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15240" y="1149840"/>
                <a:ext cx="2464920" cy="979560"/>
                <a:chOff x="615240" y="1149840"/>
                <a:chExt cx="2464920" cy="979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6996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524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080520" y="1149840"/>
                <a:ext cx="2465640" cy="979560"/>
                <a:chOff x="3080520" y="1149840"/>
                <a:chExt cx="2465640" cy="979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13560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Biomasa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080520" y="114984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46520" y="1149840"/>
                <a:ext cx="2464920" cy="979560"/>
                <a:chOff x="5546520" y="1149840"/>
                <a:chExt cx="2464920" cy="979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60124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Sustrato</a:t>
                  </a:r>
                  <a:r>
                    <a:rPr b="1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4652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15240" y="2129760"/>
                <a:ext cx="2464920" cy="979560"/>
                <a:chOff x="615240" y="2129760"/>
                <a:chExt cx="2464920" cy="979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6996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1524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080520" y="2129760"/>
                <a:ext cx="2465640" cy="979560"/>
                <a:chOff x="3080520" y="2129760"/>
                <a:chExt cx="2465640" cy="979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13560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= F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V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 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0520" y="212976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546520" y="2129760"/>
                <a:ext cx="2464920" cy="979560"/>
                <a:chOff x="5546520" y="2129760"/>
                <a:chExt cx="2464920" cy="979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60124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54652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15240" y="3110040"/>
                <a:ext cx="2464920" cy="1259280"/>
                <a:chOff x="615240" y="3110040"/>
                <a:chExt cx="2464920" cy="1259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6996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sin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524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080520" y="3110040"/>
                <a:ext cx="2465640" cy="1259280"/>
                <a:chOff x="3080520" y="3110040"/>
                <a:chExt cx="2465640" cy="1259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13560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80520" y="3110040"/>
                  <a:ext cx="246564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46520" y="3110040"/>
                <a:ext cx="2464920" cy="1259280"/>
                <a:chOff x="5546520" y="3110040"/>
                <a:chExt cx="2464920" cy="1259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60124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4652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15240" y="4370040"/>
                <a:ext cx="2464920" cy="1260000"/>
                <a:chOff x="615240" y="4370040"/>
                <a:chExt cx="2464920" cy="1260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6996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con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1524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080520" y="4370040"/>
                <a:ext cx="2465640" cy="1260000"/>
                <a:chOff x="3080520" y="4370040"/>
                <a:chExt cx="2465640" cy="1260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13560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80520" y="4370040"/>
                  <a:ext cx="246564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546520" y="4370040"/>
                <a:ext cx="2464920" cy="1260000"/>
                <a:chOff x="5546520" y="4370040"/>
                <a:chExt cx="2464920" cy="1260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60124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4652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609480" y="1143000"/>
              <a:ext cx="7408800" cy="449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04920" y="6019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erde los supuestos considerado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457200"/>
            <a:ext cx="7086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O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binación que requiere el menor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r el 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bajo sus condiciones óptimas, 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2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hasta alcanzar los niveles de conversión desead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590920" y="2666880"/>
                <a:ext cx="3348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tiene un microorganismo que sigue una cinética del tipo Monod, 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7 hr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g/l    Y 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lujo de alimentación es de 500 l/hr con 85 g/l de sustrato, la concentración de sustrato y biomasa a la salida debe ser de 5 g/l y 52 g/l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utilizan 2 fermentadores continuos perfectamente agitados en serie,¿Qué tamaño debe tener cada uno de los fermentadores, si se utiliza la configuración ópti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14400" y="4394160"/>
            <a:ext cx="7421040" cy="2463840"/>
            <a:chOff x="914400" y="4394160"/>
            <a:chExt cx="7421040" cy="2463840"/>
          </a:xfrm>
        </p:grpSpPr>
        <p:grpSp>
          <p:nvGrpSpPr>
            <p:cNvPr id="295" name=""/>
            <p:cNvGrpSpPr/>
            <p:nvPr/>
          </p:nvGrpSpPr>
          <p:grpSpPr>
            <a:xfrm>
              <a:off x="3124080" y="4394160"/>
              <a:ext cx="5211360" cy="2463840"/>
              <a:chOff x="3124080" y="4394160"/>
              <a:chExt cx="5211360" cy="2463840"/>
            </a:xfrm>
          </p:grpSpPr>
          <p:sp>
            <p:nvSpPr>
              <p:cNvPr id="296" name=""/>
              <p:cNvSpPr/>
              <p:nvPr/>
            </p:nvSpPr>
            <p:spPr>
              <a:xfrm>
                <a:off x="4312440" y="4846320"/>
                <a:ext cx="191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320" y="640080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4200" y="658368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2 = 52 g/l, s2=5 g/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6600" y="521208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3124080" y="4394160"/>
                <a:ext cx="1828440" cy="1640880"/>
                <a:chOff x="3124080" y="4394160"/>
                <a:chExt cx="1828440" cy="164088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4312440" y="4846320"/>
                  <a:ext cx="0" cy="3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24080" y="4485600"/>
                  <a:ext cx="1828440" cy="27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F = 500l/h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s-E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85 g/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946680" y="4394160"/>
                  <a:ext cx="0" cy="82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89480" y="5486400"/>
                  <a:ext cx="914040" cy="54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??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592600" y="566424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32680" y="484632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75480" y="5852160"/>
                <a:ext cx="914040" cy="54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 ?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92600" y="448056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, x1, s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914400" y="5181480"/>
                  <a:ext cx="22096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óptim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2 fermentadores FPA es utilizado para la producción de un metabolito secundario. El volumen del primer reactor es de 0.5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está siendo operado de tal modo que en el prime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 sólo se produce el crecimiento de biomasa y  el segundo  es utilizado para la síntesis del producto. La concentración de sustrato en la alimentación es de 1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s parámetros cinéticos y de recupera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 kg/k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2 h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025 kg/kg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6 kg/kg h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85 k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umiendo que la síntesis de producto es despreciable en el primer fermentador y que el crecimiento bacteriano es despreciable en el segundo reactor.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304920"/>
            <a:ext cx="76201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olumen del segundo fermentador si se desea una conversión global de sustrato superior al 9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ción de producto a la salida del segundo fermen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e supone que en el 1 fermentador se consume el 40% del sustrato se cumpl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.78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6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= 0.051 m</a:t>
            </a:r>
            <a:r>
              <a:rPr b="0" lang="es-C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09680" y="3124080"/>
            <a:ext cx="5211360" cy="2463840"/>
            <a:chOff x="2209680" y="3124080"/>
            <a:chExt cx="5211360" cy="2463840"/>
          </a:xfrm>
        </p:grpSpPr>
        <p:sp>
          <p:nvSpPr>
            <p:cNvPr id="314" name=""/>
            <p:cNvSpPr/>
            <p:nvPr/>
          </p:nvSpPr>
          <p:spPr>
            <a:xfrm>
              <a:off x="3398040" y="3576240"/>
              <a:ext cx="191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6920" y="513072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49800" y="531360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da F, x2, 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92200" y="394200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209680" y="3124080"/>
              <a:ext cx="1828440" cy="1640880"/>
              <a:chOff x="2209680" y="3124080"/>
              <a:chExt cx="1828440" cy="164088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3398040" y="357624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3215520"/>
                <a:ext cx="18284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limentación Fresca, F, 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32280" y="312408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75080" y="4216320"/>
                <a:ext cx="914040" cy="54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ólo crecimiento  de Bioma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678200" y="439416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18280" y="357624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1080" y="4582080"/>
              <a:ext cx="914040" cy="54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ólo Formación de Produ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78200" y="321048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 x1, 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mparación entre comportamiento teórico v/s comportamiento rea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295280"/>
          <a:ext cx="8229600" cy="503892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sorción superfi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, virutas de madera, resinas de intercambio, celulosas, sílica activ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erencia de las células a la </a:t>
                      </a: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perfici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l soporte inert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permanente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vas y activas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herencia débi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que está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mitad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 el área del sopor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greg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 unen entre si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in la participación de un soporte sólido, formando agregad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</a:rPr>
              <a:t>Dependiendo de cual es el nutriente limitante se pueden producir diferentes desvia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Carbon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Nitrógeno y sul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Potasio, magnesio y fos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Medios complejos o indefi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bon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1430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tasa de dilución inferiores al 25% de la tasa de dilución crítica (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lt; 0.25 * Dc = D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odo el carbono se utiliza en crecimiento, hay una par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-10%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utiliza en mantención. Esto implica que e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rmino de mantención 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be depreci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638680" y="1143000"/>
          <a:ext cx="32767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791320" y="47242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244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570560"/>
            <a:ext cx="49528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a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otros metabolitos intermedios (acetato, piruvato, etanol, etc.)  debido a la gran cantidad de carbono disponible, esto hace que se produzca una acumulación de ellos, pero no todo es crecimiento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1371600"/>
            <a:ext cx="76176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72400" y="1523880"/>
            <a:ext cx="7621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trógeno y sulf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1916280"/>
            <a:ext cx="464796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una acumulación de carbohidratos y lípidos que no se utilizan por carencia de N y S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provoca un aumento en el tamaño de las células y se genera un incremento aparente del yie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hay un aumento del número de células o de las proteínas en la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410080" y="1600200"/>
          <a:ext cx="37339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00200"/>
                    <a:ext cx="3733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5562720" y="525312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2096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otasio, magnesio y fosfato limitan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825560"/>
            <a:ext cx="510552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rtamiento análogo al caso anterior, las células bajo condiciones de limitación de nutrientes utilizan sólo la cantidad estrictamente necesaria para su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n directamente asociados al contenido de ácidos nucleicos. Las células que crecen a una baja velocidad necesitan menos RNA que las que crecen a una alta velocidad de crecimiento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lo cual se tienen má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638680" y="1676520"/>
          <a:ext cx="32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32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0" y="260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50292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24382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dios complejos o indefin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724280" y="2133720"/>
          <a:ext cx="422928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422928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4920" y="22096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tiene claro cual es el nutriente limitante, según el crecimiento de los micoorganismos se producen cambios en sus neces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41008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blemas en cultivo continu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aminació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de los principales falencias asociadas al cultivo continuo es la contaminación que aumenta su probabilidad con el tiem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posible diseñar procesos que minimicen la contaminación al máximo posible,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Trabajando a temperaturas extr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pH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entes de alimentación inusuales (hidrocarburos, etan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Medios mínimos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4724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producir tre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 el contaminante crezca más lento que el m.o. d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Que el contaminante crezca más rápido que el m.o.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4572000" y="2133720"/>
          <a:ext cx="43052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43052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914400" y="22860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trabajar a una cualquier concentración de sustrato, inferior a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contaminante crece más lento que el m.o. de interés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32004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4724280"/>
            <a:ext cx="73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315200" y="449532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54100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2666880"/>
            <a:ext cx="1676520" cy="1981440"/>
          </a:xfrm>
          <a:prstGeom prst="ellipse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228600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eliminar el conta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se puede trab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taminante crece más rápido que el m.o.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7432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5638680"/>
            <a:ext cx="3124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: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1981080"/>
          <a:ext cx="375264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7526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1752480"/>
            <a:ext cx="44956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 de la velocidad de dilución a la que se este trabaj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ltivo batch cualquier m.o que tenga los nutrientes necesarios será capaz de crecer y acumularse, pero en continuo 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es dependiendo de la tasa de di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800600" y="1523880"/>
          <a:ext cx="4086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4086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6019920" y="5029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209680" y="2666880"/>
            <a:ext cx="4343400" cy="2730600"/>
            <a:chOff x="2209680" y="2666880"/>
            <a:chExt cx="4343400" cy="2730600"/>
          </a:xfrm>
        </p:grpSpPr>
        <p:sp>
          <p:nvSpPr>
            <p:cNvPr id="384" name=""/>
            <p:cNvSpPr/>
            <p:nvPr/>
          </p:nvSpPr>
          <p:spPr>
            <a:xfrm>
              <a:off x="5105520" y="2666880"/>
              <a:ext cx="1447560" cy="1524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5029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Zona en que conviene trabaj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8320" y="4038480"/>
              <a:ext cx="6858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1066680"/>
          <a:ext cx="8229600" cy="580716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namiento mediante barr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ción de las células por medio de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rrera semipermeabl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que permite el paso selectivo de los nutrientes y productos de metabolism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encapsulación, emulsificación, membranas de microfiltración, ultrafiltración y diali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rapamiento en matriz poro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ámicas, carbón activado,  vidrio poroso, agar, alginato de cal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son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rapadas en una matriz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osa, polimérica que las retiene. En dichas matrices tanto los nutrientes como los productos pueden atravesarl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utacion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105264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lica de DNA es un proceso complejo y de alta prec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error en 10</a:t>
            </a:r>
            <a:r>
              <a:rPr b="1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licacione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i en un cultivo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élulas/ 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cultivos continuos son larg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llegar a tener un número significativo de células mutada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estas mutaciones no son dañinas, dado que puede no alterar el crecimiento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 el mutante aprovecha mejor el sustrato que el m.o original, puede producirse la eliminación del m.o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s mutaciones más complejas son cuando se producen pérdidas de plasmidios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Tipo de Bioreac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1066680"/>
          <a:ext cx="8229600" cy="312444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luid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por 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imos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ores de Fibra Hu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715000" y="609480"/>
            <a:ext cx="3429000" cy="4343400"/>
            <a:chOff x="5715000" y="609480"/>
            <a:chExt cx="3429000" cy="4343400"/>
          </a:xfrm>
        </p:grpSpPr>
        <p:sp>
          <p:nvSpPr>
            <p:cNvPr id="61" name=""/>
            <p:cNvSpPr/>
            <p:nvPr/>
          </p:nvSpPr>
          <p:spPr>
            <a:xfrm>
              <a:off x="5715000" y="4284720"/>
              <a:ext cx="34290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5715000" y="609480"/>
            <a:ext cx="3000240" cy="35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609480"/>
                      <a:ext cx="3000240" cy="35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"/>
          <p:cNvSpPr/>
          <p:nvPr/>
        </p:nvSpPr>
        <p:spPr>
          <a:xfrm>
            <a:off x="152280" y="1447920"/>
            <a:ext cx="5562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r células inmovilizan que no salen del re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susp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inmovi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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429000"/>
            <a:ext cx="56386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élulas inmovilizadas la velocidad de crecimiento será igual que las células suspendida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s-ES" sz="3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im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 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9154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ecto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que las células se encuentran inmovilizadas se presentan resistencia a la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a resistencia se puede evaluar en base a un “Factor de efectividad”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lim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limitación, las células adheridas no aportan dado que cuesta mucho que  los nutrientes y/o productos difun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9400" y="2792520"/>
                <a:ext cx="8542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de reacción incluyendo efecto de la resistencia a la transferencia de ma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reacción sin incluir el efecto de la resistencia a la transferencia de ma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Ing Quimica</cp:lastModifiedBy>
  <dcterms:modified xsi:type="dcterms:W3CDTF">2007-05-16T19:22:34Z</dcterms:modified>
  <cp:revision>61</cp:revision>
  <dc:subject/>
  <dc:title>Cultivo Continuo</dc:title>
</cp:coreProperties>
</file>