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6D3F-CDF9-4C50-B513-47410DE54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2C60C-693C-41F6-B22D-9BD3A31C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340C-58E9-4DC3-85FD-8BE7818A1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C28B3-D15C-455F-BBCF-D69ED13F7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E4CD-E128-4452-9D97-83C6FEBC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7025-583C-4ACA-873F-824D36532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BDF-A30B-4309-BE46-49438EDB5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4471-F389-4737-82C0-4852CB4A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3CA9-61F9-4761-8277-00DC344A7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4D69-F093-4BE9-9452-F72CD7B6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E51D-1DEE-4ABF-A6C1-2AEA8A2B6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32EBC-402E-484C-B166-10C89EBDD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BA67-9343-4AFB-8ACA-ADBA79263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mlienque@ing.uchile.c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3276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Diseño de Bio-reactores</a:t>
            </a:r>
            <a:br>
              <a:rPr sz="4400"/>
            </a:b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Introducción</a:t>
            </a:r>
            <a:br>
              <a:rPr sz="4400"/>
            </a:br>
            <a:br>
              <a:rPr sz="4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.Elena Lienqueo</a:t>
            </a:r>
            <a:br>
              <a:rPr sz="2400"/>
            </a:br>
            <a:r>
              <a:rPr b="0" lang="es-E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mlienque@ing.uchile.cl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Oficina 1 CIBy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91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rmentación e Ingeniería Metaból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817560" y="-5025960"/>
            <a:ext cx="2626920" cy="2057760"/>
            <a:chOff x="817560" y="-5025960"/>
            <a:chExt cx="2626920" cy="2057760"/>
          </a:xfrm>
        </p:grpSpPr>
        <p:sp>
          <p:nvSpPr>
            <p:cNvPr id="82" name=""/>
            <p:cNvSpPr/>
            <p:nvPr/>
          </p:nvSpPr>
          <p:spPr>
            <a:xfrm>
              <a:off x="1272600" y="-4454280"/>
              <a:ext cx="1371600" cy="1486080"/>
            </a:xfrm>
            <a:prstGeom prst="can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17560" y="-4911480"/>
              <a:ext cx="1143000" cy="800280"/>
            </a:xfrm>
            <a:prstGeom prst="uturnArrow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301480" y="-5025960"/>
              <a:ext cx="1143000" cy="799920"/>
            </a:xfrm>
            <a:prstGeom prst="uturnArrow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958760" y="-5025960"/>
              <a:ext cx="0" cy="171468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61568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958760" y="-3425400"/>
              <a:ext cx="34272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"/>
          <p:cNvSpPr/>
          <p:nvPr/>
        </p:nvSpPr>
        <p:spPr>
          <a:xfrm>
            <a:off x="588960" y="-5162400"/>
            <a:ext cx="457200" cy="10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989440" y="-5102280"/>
            <a:ext cx="457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1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389240" y="-5048280"/>
            <a:ext cx="1143000" cy="571680"/>
            <a:chOff x="1389240" y="-5048280"/>
            <a:chExt cx="1143000" cy="571680"/>
          </a:xfrm>
        </p:grpSpPr>
        <p:sp>
          <p:nvSpPr>
            <p:cNvPr id="91" name=""/>
            <p:cNvSpPr/>
            <p:nvPr/>
          </p:nvSpPr>
          <p:spPr>
            <a:xfrm>
              <a:off x="2075040" y="-5048280"/>
              <a:ext cx="4572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389240" y="-4819320"/>
              <a:ext cx="4572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475160" y="-5025960"/>
            <a:ext cx="21718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 y Fs: Flujos Volumétricos de entrada y sali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,xo y po: Concentración de sustrato, biomasa y producto a la entrad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,x y p: Concentración de sustrato, biomasa y producto a la salida y al interior del fermentador o bioreac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-5176800"/>
            <a:ext cx="9144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imensionamiento del biorrea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dimensionamiento  de un biorreactor no sólo implica el volumen del bioreactor, sino que  la potencia que  se le debe entregar a los agitadores y soplador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determinar el volumen del bioreactor es necesario plantear los balances de masa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-3624120"/>
            <a:ext cx="9144000" cy="35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5400" rIns="90000" tIns="46800" bIns="0" anchor="t">
            <a:spAutoFit/>
          </a:bodyPr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masa total o glob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Biomasa,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sustrato, 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ance de producto de interés, p (PROPUEST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estos balance solo 3 son independien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-52228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6095880" cy="208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masa glob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asa de Entrada – Masa de Salida = Acumulación de Ma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125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MX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262160" y="1433520"/>
                <a:ext cx="3233520" cy="77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09480" y="4648320"/>
                <a:ext cx="4524480" cy="7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sSub>
                          <m:e>
                            <m:r>
                              <m:t xml:space="preserve">dρ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5880" y="3657600"/>
            <a:ext cx="262908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Concentración de sustrato, biomasa y producto en el tiempo inicial,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, x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 y p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: Concentración de sustrato, biomasa y producto en el tiempo final, t</a:t>
            </a:r>
            <a:r>
              <a:rPr b="0" lang="es-ES" sz="1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129528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1219320"/>
            <a:ext cx="533160" cy="195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0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2362320"/>
            <a:ext cx="525780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lang="es-MX" sz="18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Densidad de entrada y sali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ensidades se mantienen constantes:       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s-MX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s-MX" sz="20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MX" sz="20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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sistema opera sin flujos de entrada ni salida </a:t>
            </a:r>
            <a:r>
              <a:rPr b="0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477120" y="838080"/>
          <a:ext cx="1819080" cy="2381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7120" y="838080"/>
                    <a:ext cx="181908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228600" y="5943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hay variación de volume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V = Const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0"/>
            <a:ext cx="8686800" cy="50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Balance de Bioma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0" lang="es-ES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élulas entran – Células salen + Crecimiento celular – Muerte celular  = Acumulación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 </a:t>
            </a:r>
            <a:r>
              <a:rPr b="0" lang="es-MX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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locidad de Crecimiento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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Velocidad de muerte de los m.o [hr</a:t>
            </a:r>
            <a:r>
              <a:rPr b="0" lang="es-ES" sz="1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o hay entrada ni salida de células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erte celular despreciable, 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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es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979560" y="2127240"/>
                <a:ext cx="493380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F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r>
                      <m:t xml:space="preserve">α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010280" y="1905120"/>
          <a:ext cx="1819440" cy="238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905120"/>
                    <a:ext cx="1819440" cy="23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209680" y="4419720"/>
                <a:ext cx="365940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x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57200" y="228600"/>
            <a:ext cx="8153280" cy="38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Biomasa (cont.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icando  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i </a:t>
            </a:r>
            <a:r>
              <a:rPr b="0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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</a:t>
            </a:r>
            <a:r>
              <a:rPr b="0" lang="es-ES" sz="18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tante, entonces la expresión anterior es integrable, considerando  que  la concentración inicial de biomasa en t=0 es x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 situación ocurre principalmente en  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las fase de crecimiento exponencial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1359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3505320" y="2743200"/>
                <a:ext cx="163512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∗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μ</m:t>
                        </m:r>
                        <m:r>
                          <m:t xml:space="preserve">∗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-92160" y="484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982880" y="4495680"/>
            <a:ext cx="1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2895480" y="1547640"/>
                <a:ext cx="24368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∗</m:t>
                    </m:r>
                    <m:r>
                      <m:t xml:space="preserve">x</m:t>
                    </m:r>
                    <m:r>
                      <m:t xml:space="preserve">∗</m:t>
                    </m:r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t xml:space="preserve">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429000" y="5105520"/>
                <a:ext cx="169236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μ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ln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609480" y="4343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 tiempo del batch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28600" y="228600"/>
            <a:ext cx="8686800" cy="18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strato entran – Sustrato salen -  Sustrato consumido crecimiento – Sustrato utilizado  mantención –   Formación de producto = 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cumulació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762120" y="2057400"/>
                <a:ext cx="7302240" cy="106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s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57200" y="3886200"/>
            <a:ext cx="8001000" cy="26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Velocidad específica o Coeficiente de consumo de sustrato por mantención, relaciona los moles de sustrato consumidos para mantener la biomas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x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célula/gr sustrato] : Rendimiento o Conversión  (yield) de células referida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s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sustrato] : Rendimiento o Conversión de producto producido referidos a nutriente consumido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533520" y="533520"/>
            <a:ext cx="80010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/gr célula hora] : Velocidad específica de formación de product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r</a:t>
            </a:r>
            <a:r>
              <a:rPr b="0" lang="es-E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: : Velocidad específica o Coeficiente de formación de producto debido a la  manten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</a:t>
            </a:r>
            <a:r>
              <a:rPr b="0" lang="es-ES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[gr producto /gr biomasa] : Rendimiento o Conversión de producto producido referidos a biomasa.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276720" y="1447920"/>
                <a:ext cx="23414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b>
                    </m:sSub>
                    <m:r>
                      <m:t xml:space="preserve">⋅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609480" y="2590920"/>
                <a:ext cx="7497720" cy="106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t xml:space="preserve">μ</m:t>
                        </m:r>
                        <m:r>
                          <m:t xml:space="preserve">⋅</m:t>
                        </m:r>
                        <m:r>
                          <m:t xml:space="preserve">x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</m:num>
                      <m:den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s</m:t>
                                </m:r>
                              </m:den>
                            </m:f>
                          </m:sub>
                        </m:sSub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−</m:t>
                    </m:r>
                    <m:sSub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x</m:t>
                            </m:r>
                            <m:r>
                              <m:t xml:space="preserve">⋅</m:t>
                            </m:r>
                            <m:r>
                              <m:t xml:space="preserve">V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p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s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s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990720" y="1219320"/>
            <a:ext cx="457200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o hay entrada ni salida de sustrato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51160" y="228600"/>
            <a:ext cx="76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Nutriente limitante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2541600" y="4648320"/>
                <a:ext cx="3817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1" name=""/>
          <p:cNvSpPr/>
          <p:nvPr/>
        </p:nvSpPr>
        <p:spPr>
          <a:xfrm>
            <a:off x="609480" y="38862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dV/dt =0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3181320" y="3048120"/>
                <a:ext cx="180648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609480" y="2362320"/>
            <a:ext cx="4419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iendo que se opera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mplaz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409840" y="685800"/>
                <a:ext cx="38178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4419720" y="2286000"/>
                <a:ext cx="1204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1897200" y="4419720"/>
                <a:ext cx="490536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q</m:t>
                                    </m:r>
                                  </m:e>
                                  <m:sub>
                                    <m:r>
                                      <m:t xml:space="preserve">p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f>
                                      <m:fPr>
                                        <m:type m:val="lin"/>
                                      </m:fPr>
                                      <m:num>
                                        <m:r>
                                          <m:t xml:space="preserve">p</m:t>
                                        </m:r>
                                      </m:num>
                                      <m:den>
                                        <m:r>
                                          <m:t xml:space="preserve">s</m:t>
                                        </m:r>
                                      </m:den>
                                    </m:f>
                                  </m:sub>
                                </m:sSub>
                              </m:den>
                            </m:f>
                          </m:e>
                          <m:sub/>
                        </m:sSub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s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1143000" y="2438280"/>
                <a:ext cx="6248520" cy="220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q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  <m:r>
                                      <m:t xml:space="preserve">⋅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p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38" name=""/>
          <p:cNvSpPr/>
          <p:nvPr/>
        </p:nvSpPr>
        <p:spPr>
          <a:xfrm>
            <a:off x="762120" y="76212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ordenando, suponiendo que todos los términos dentro del paréntesis son constante e Integrando entre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 0  s=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y  t=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=s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tiene que la siguiente ecu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5257800"/>
            <a:ext cx="7696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onde 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n el tiempo del cultivo bat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09680" y="2971800"/>
                <a:ext cx="4664160" cy="207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x</m:t>
                                        </m:r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m</m:t>
                                        </m:r>
                                      </m:e>
                                      <m:sub>
                                        <m:r>
                                          <m:t xml:space="preserve">s</m:t>
                                        </m:r>
                                      </m:sub>
                                    </m:sSub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μ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max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  <m:r>
                              <m:t xml:space="preserve">⋅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762120" y="1523880"/>
            <a:ext cx="769608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no se forman productos (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spcBef>
                <a:spcPts val="1500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producción está directamente asociada al metabolismo energé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os particul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2286000" y="3276720"/>
                <a:ext cx="410832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f>
                                  <m:fPr>
                                    <m:type m:val="lin"/>
                                  </m:fPr>
                                  <m:num>
                                    <m:r>
                                      <m:t xml:space="preserve">x</m:t>
                                    </m:r>
                                  </m:num>
                                  <m:den>
                                    <m:r>
                                      <m:t xml:space="preserve">s</m:t>
                                    </m:r>
                                  </m:den>
                                </m:f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762120" y="1523880"/>
            <a:ext cx="769608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) Si no se forman productos (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 o si la producción está directamente asociada al metabolismo energético y se pueden despreciar los requerimientos de mantención (m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=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85800" y="53352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asos particular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266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e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rtes y Jueves 10:15-12:00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rcicio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ernes: 14:30-16:00 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22240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28600" y="228600"/>
            <a:ext cx="8686800" cy="15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roducto entran – Producto salen +  Formación de producto =  Acumulación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041560" y="2362320"/>
                <a:ext cx="47386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⋅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s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685800" y="3657600"/>
            <a:ext cx="70866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ue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umen constante, V = cte, entonc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entrada ni salida de producto F =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hay consumo de produc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29080" y="228600"/>
            <a:ext cx="556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733920" y="3124080"/>
                <a:ext cx="1504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609480" y="281952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ero dV/dt =0 </a:t>
            </a:r>
            <a:r>
              <a:rPr b="0" lang="es-E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2082960" y="1447920"/>
                <a:ext cx="465444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⋅</m:t>
                    </m:r>
                    <m:r>
                      <m:t xml:space="preserve">x</m:t>
                    </m:r>
                    <m:r>
                      <m:t xml:space="preserve">⋅</m:t>
                    </m:r>
                    <m:sSub>
                      <m:e>
                        <m:r>
                          <m:t xml:space="preserve">V</m:t>
                        </m:r>
                      </m:e>
                      <m:sub/>
                    </m:sSub>
                    <m:r>
                      <m:t xml:space="preserve">=</m:t>
                    </m:r>
                    <m:f>
                      <m:num>
                        <m:r>
                          <m:t xml:space="preserve">d</m:t>
                        </m:r>
                        <m:r>
                          <m:t xml:space="preserve">(</m:t>
                        </m:r>
                        <m:r>
                          <m:t xml:space="preserve">p</m:t>
                        </m:r>
                        <m:r>
                          <m:t xml:space="preserve">⋅</m:t>
                        </m:r>
                        <m:r>
                          <m:t xml:space="preserve">V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p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t xml:space="preserve">V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3" name=""/>
          <p:cNvSpPr/>
          <p:nvPr/>
        </p:nvSpPr>
        <p:spPr>
          <a:xfrm>
            <a:off x="762120" y="4419720"/>
            <a:ext cx="7772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 la muerte es despreciable y se está crecien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onc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7162920" y="4343400"/>
                <a:ext cx="120492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μ</m:t>
                    </m:r>
                    <m:r>
                      <m:t xml:space="preserve">=</m:t>
                    </m:r>
                    <m:r>
                      <m:t xml:space="preserve">μ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581280" y="5410080"/>
                <a:ext cx="180684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71840" y="228600"/>
            <a:ext cx="56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Balance de producto  (cont.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079800" y="1752480"/>
                <a:ext cx="250812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⋅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  <m:r>
                          <m:t xml:space="preserve">⋅</m:t>
                        </m:r>
                        <m:r>
                          <m:t xml:space="preserve">t</m:t>
                        </m:r>
                      </m:sup>
                    </m:sSup>
                    <m:r>
                      <m:t xml:space="preserve">⋅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609480" y="11430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emplazand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2743200"/>
            <a:ext cx="777240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q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es constante, se puede integrar entre t=0   p=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 y  t=t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, con es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1989000" y="4092480"/>
                <a:ext cx="4552920" cy="86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sub>
                        </m:sSub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max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⋅</m:t>
                            </m:r>
                            <m:r>
                              <m:t xml:space="preserve">q</m:t>
                            </m:r>
                          </m:den>
                        </m:f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f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80880" y="228600"/>
            <a:ext cx="8534520" cy="612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jemplo B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utiliz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ara convertir la glucosa en etanol en un fermentador batch  en condiciones anaerobias. El rendimiento de biomasa a partir de sustrato 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0.06g/g;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</a:t>
            </a:r>
            <a:r>
              <a:rPr b="0" lang="es-ES_tradnl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p/x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de  7.7 g/g. El coeficiente de mantenimiento es 2.2g/g h y la velocidad específica de formación de producto debido a mantenimiento es 1.1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La velocidad específica máxima de crecimiento de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ymomonas mobilis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aproximadamente 0.3 h</a:t>
            </a:r>
            <a:r>
              <a:rPr b="0" lang="es-ES_tradnl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Se inoculan 5 g de bacterias en 50 L de cultivo que contienen 12 g/L de glucosa. Determine los tiempos de cultivo par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) Producir 10 g y 30 g de biomas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) Alcanzar una conversión de sustrato del 90% y 100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) Producir 100 g de etanol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: Considere que la síntesis de etanol está directamente asociada al metabolismos energético de la célul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uestionario 1</a:t>
            </a:r>
            <a:br>
              <a:rPr sz="3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me grupos y responda las siguientes pregunta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iempo 10 minutos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1. Indique en la producción de que tipo de productos se utilizan los bio-react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2. ¿Cuáles pueden ser las formas de operar un bio-re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3. ¿Qué elementos se deben considerar en el diseño de un bio-re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4. ¿Qué diferencias hay entre un reactor químico y un bio-reacto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5. En un cultivo BATCH, ¿cuanta glucosa pueden soportar los m.o? 2, 20, 200g/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0000"/>
                </a:solidFill>
                <a:latin typeface="Times New Roman"/>
              </a:rPr>
              <a:t>6. En un cultivo BATCH ¿A cuanto puede llegar la concentración de biomasa? 10, 50, 100 g/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álisis y Diseño de Reactores Biológ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Cultivo Batch, Continu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Modificaciones del Quimiost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Fermentadores Fed-batch, alimentaciones, ecuaciones dinámicas;</a:t>
            </a:r>
            <a:br>
              <a:rPr sz="2400"/>
            </a:b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formación de produc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Relación entre batch y contínu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ireación  y  agit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cala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Instrum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Uso de computadores en control de fermentacion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trategias de contr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Optim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 algn="just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Esteri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0"/>
            <a:ext cx="8686800" cy="6819840"/>
            <a:chOff x="228600" y="0"/>
            <a:chExt cx="8686800" cy="681984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304920" y="228600"/>
              <a:ext cx="4572000" cy="2973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2"/>
            <a:stretch/>
          </p:blipFill>
          <p:spPr>
            <a:xfrm>
              <a:off x="4800600" y="0"/>
              <a:ext cx="4114800" cy="4114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3"/>
            <a:stretch/>
          </p:blipFill>
          <p:spPr>
            <a:xfrm>
              <a:off x="228600" y="3429000"/>
              <a:ext cx="4038480" cy="3390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"/>
          <p:cNvGrpSpPr/>
          <p:nvPr/>
        </p:nvGrpSpPr>
        <p:grpSpPr>
          <a:xfrm>
            <a:off x="3352680" y="1752480"/>
            <a:ext cx="5457960" cy="5105520"/>
            <a:chOff x="3352680" y="1752480"/>
            <a:chExt cx="5457960" cy="5105520"/>
          </a:xfrm>
        </p:grpSpPr>
        <p:grpSp>
          <p:nvGrpSpPr>
            <p:cNvPr id="55" name=""/>
            <p:cNvGrpSpPr/>
            <p:nvPr/>
          </p:nvGrpSpPr>
          <p:grpSpPr>
            <a:xfrm>
              <a:off x="3352680" y="2971800"/>
              <a:ext cx="5457960" cy="3886200"/>
              <a:chOff x="3352680" y="2971800"/>
              <a:chExt cx="5457960" cy="3886200"/>
            </a:xfrm>
          </p:grpSpPr>
          <p:pic>
            <p:nvPicPr>
              <p:cNvPr id="56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029200" y="2971800"/>
                <a:ext cx="3781440" cy="3886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7" name=""/>
              <p:cNvSpPr/>
              <p:nvPr/>
            </p:nvSpPr>
            <p:spPr>
              <a:xfrm>
                <a:off x="3352680" y="5029200"/>
                <a:ext cx="1524240" cy="533520"/>
              </a:xfrm>
              <a:prstGeom prst="rightArrow">
                <a:avLst>
                  <a:gd name="adj1" fmla="val 50000"/>
                  <a:gd name="adj2" fmla="val 71424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6858000" y="1752480"/>
              <a:ext cx="304920" cy="1295640"/>
            </a:xfrm>
            <a:prstGeom prst="downArrow">
              <a:avLst>
                <a:gd name="adj1" fmla="val 50000"/>
                <a:gd name="adj2" fmla="val 106228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685800" y="304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ora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33720" y="6172200"/>
            <a:ext cx="1828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dust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334120" y="304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la lixiv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6400800"/>
            <a:ext cx="3810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QUE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1295280" y="1219320"/>
            <a:ext cx="7515360" cy="5638680"/>
            <a:chOff x="1295280" y="1219320"/>
            <a:chExt cx="7515360" cy="5638680"/>
          </a:xfrm>
        </p:grpSpPr>
        <p:grpSp>
          <p:nvGrpSpPr>
            <p:cNvPr id="64" name=""/>
            <p:cNvGrpSpPr/>
            <p:nvPr/>
          </p:nvGrpSpPr>
          <p:grpSpPr>
            <a:xfrm>
              <a:off x="3352680" y="1752480"/>
              <a:ext cx="5457960" cy="5105520"/>
              <a:chOff x="3352680" y="1752480"/>
              <a:chExt cx="5457960" cy="5105520"/>
            </a:xfrm>
          </p:grpSpPr>
          <p:grpSp>
            <p:nvGrpSpPr>
              <p:cNvPr id="65" name=""/>
              <p:cNvGrpSpPr/>
              <p:nvPr/>
            </p:nvGrpSpPr>
            <p:grpSpPr>
              <a:xfrm>
                <a:off x="3352680" y="2971800"/>
                <a:ext cx="5457960" cy="3886200"/>
                <a:chOff x="3352680" y="2971800"/>
                <a:chExt cx="5457960" cy="388620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029200" y="2971800"/>
                  <a:ext cx="3781440" cy="388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3352680" y="5029200"/>
                  <a:ext cx="1524240" cy="533520"/>
                </a:xfrm>
                <a:prstGeom prst="rightArrow">
                  <a:avLst>
                    <a:gd name="adj1" fmla="val 50000"/>
                    <a:gd name="adj2" fmla="val 71424"/>
                  </a:avLst>
                </a:prstGeom>
                <a:solidFill>
                  <a:srgbClr val="00cc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8" name=""/>
              <p:cNvSpPr/>
              <p:nvPr/>
            </p:nvSpPr>
            <p:spPr>
              <a:xfrm>
                <a:off x="6858000" y="1752480"/>
                <a:ext cx="304920" cy="1295640"/>
              </a:xfrm>
              <a:prstGeom prst="downArrow">
                <a:avLst>
                  <a:gd name="adj1" fmla="val 50000"/>
                  <a:gd name="adj2" fmla="val 106228"/>
                </a:avLst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1295280" y="1219320"/>
              <a:ext cx="411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squem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Cultivo BATCH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Times New Roman"/>
              </a:rPr>
              <a:t>Ecuaciones de Diseñ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3414600" cy="45561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3809880" y="3124080"/>
            <a:ext cx="5065920" cy="27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ltivo BATC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os bio-reactores operan en forma discontinua (carga, fermentación, descarga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533520" y="2743200"/>
            <a:ext cx="5486400" cy="3881520"/>
            <a:chOff x="533520" y="2743200"/>
            <a:chExt cx="5486400" cy="3881520"/>
          </a:xfrm>
        </p:grpSpPr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>
              <a:off x="533520" y="3276720"/>
              <a:ext cx="5333760" cy="33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914400" y="2743200"/>
              <a:ext cx="5105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urva de Crecimiento en forma ba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6095880" y="2743200"/>
          <a:ext cx="2667240" cy="3929040"/>
        </p:xfrm>
        <a:graphic>
          <a:graphicData uri="http://schemas.openxmlformats.org/drawingml/2006/table">
            <a:tbl>
              <a:tblPr/>
              <a:tblGrid>
                <a:gridCol w="1333800"/>
                <a:gridCol w="1333440"/>
              </a:tblGrid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s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locidad de crecimiento específic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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ler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ci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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757500"/>
                        </a:gs>
                        <a:gs pos="50000">
                          <a:srgbClr val="ffff00"/>
                        </a:gs>
                        <a:gs pos="100000">
                          <a:srgbClr val="757500"/>
                        </a:gs>
                      </a:gsLst>
                      <a:lin ang="5400000"/>
                    </a:gradFill>
                  </a:tcPr>
                </a:tc>
              </a:tr>
              <a:tr h="106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clinació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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Comic Sans MS"/>
                        </a:rPr>
                        <a:t>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stacionar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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er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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cuaciones de Diseño de un Bioreactor se obtienen a partir de los Balance de Masa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sa To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s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du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8T09:44:33Z</dcterms:created>
  <dc:creator>Maria Elena Lienqueo C.</dc:creator>
  <dc:description/>
  <dc:language>en-US</dc:language>
  <cp:lastModifiedBy>Ing Quimica</cp:lastModifiedBy>
  <dcterms:modified xsi:type="dcterms:W3CDTF">2007-05-08T16:17:08Z</dcterms:modified>
  <cp:revision>70</cp:revision>
  <dc:subject/>
  <dc:title>Cultivo Continuo</dc:title>
</cp:coreProperties>
</file>