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A5E-5612-4BCC-A709-760DD974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0CE-84A8-418C-AF00-C6B3F20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7F2-7008-46B8-BAA3-8A4C5CB7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BDB-A86A-4078-A499-BDF5C0D0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A9D-A488-472C-B506-1AC5268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233-E8BA-4E21-AE3C-1BC96D1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2E5-8EA3-45A9-99BB-E08F38E4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959-B503-4CAA-BABA-A1AA6F89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2D0-2DE7-4DDB-8598-D8F355F5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B11-E8FA-4F86-A832-734FAB5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1FC-A649-48E9-8A26-88F71A3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C8E-B39D-4AFF-8CA6-EF3CE8C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626-9DB1-4222-B10A-F6FEE4D2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VERSIDAD PROCARIÓT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MINIO 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LOGÍA DE BACTERIAS FOTOSINTÉTICAS ANAER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entes sulfurosas, a pocos cm. de superficie del agua por actividad de reductoras de sulf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entes no termales en zonas intermareales formando tapetes microbiano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FOTOSINTÉTICAS ANOXIGÉNIC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Un grupo muy variado de bacterias tanto por su morfología como por su filogenia, manteniendo en común sólo su capacidad para producir fotofosfori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ontienen distintos tipos de clorofila, y de  carotenoi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u sistema fotosintético se encuentra en tubos, clorosomas o en la membrana plasmát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S ROJAS DEL AZU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1709640"/>
            <a:ext cx="66294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S ROJAS DEL AZU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048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S VERDES DEL AZU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682640"/>
            <a:ext cx="64008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S FOTOTRÓFICAS VERDES DEL AZUFRE Y NO DEL AZU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812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RANAS FOTOSINTÉTICAS: a)EN VAINAS PLANAS b)VESÍCULA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68600" y="1981080"/>
            <a:ext cx="58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ROSOMAS EN BACTERI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9120" y="1981080"/>
            <a:ext cx="756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IOBACTERIUM (BACTERIA VERDE) QUE NO TIENE MEMBRANA FOTOSINTÉTICA (PIGMENTOS EN LA MEMBRA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66920" y="2362320"/>
            <a:ext cx="6410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FOTOSINTÉTICAS ANOXIGÉN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os fotótrofos anoxigénicos no liberan oxígeno y sus pigmentos no actúan en presencia de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ara fijar el CO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utilizan alguna sustancia reducida del ambiente, que puede ser un compuesto orgánico, un compuesto reducido de azufre o 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S ROJAS NO DEL AZU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IANO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cianobacterias comprenden un grupo grande y heterogéneo de fotótrofos oxigé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mo fuente de nitrógeno pueden utilizar nitrato, amonio y algunas pueden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lgunas cianobacterias pueden utilizar compuestos orgánicos como fuente de carbo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uando se acumulan en fuentes de agua producen olor a tierra, por la presencia de un compuesto: geosm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VERSIDAD MORFOLÓGICA ENTRE CIANO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86320" y="1752480"/>
            <a:ext cx="3362400" cy="2438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434340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LOGÍA DE CIANO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mpliamente distribuídas en en ambientes terrestres y acuá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mbientes extremos (sala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ocas, suelos desérticos (costra) desarrollándose luego de las lluv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gunas costeras poco profundas, lagos de agua dulce, con muchos nutr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gunas en simbiosis con plantas, líque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QUIMIOLITÓTROF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Utilizan donadores inorgánicos de electrones, la mayor parte de ellas son autotrof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os quimiolitótrofos mejor estudiados son los que pueden reducir compuestos de azufre y nitrógeno, así como las bacterias oxidadoras de hidrógen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QUIMIOLITÓTROF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que oxidan azufre y hi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oxidantes de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NITRIFICA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amonio hasta nitrato es un proceso en varios pasos que realiz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oxidantes de amonio hasta ácido nitroso o nitrito y l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oxidantes de nitrito o nitrificantes propiamente tal pues llevan el nitrito hasta nitra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bacterias nitrificantes fueron las primeras en las cuales se reconoció la quimiolitotrofía, en células a las cuales se les aporta oxíge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NITRIFIC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 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 N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4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 + 4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Nitrosomon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1/2 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Nitrobac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ncuentran ampliamente distribuídas en suelos y aguas; en hábitats abundantes en amoníaco, producido por la degradación proteica (amonificación), en lagos que reciben aguas residuales. El amoníaco se puede acumular en ambientes anóx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nitrificación produce acidificación (HN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QUE OXIDAN AZUFRE Y HI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Un grupo diverso de organismos son capaces de crecer quimiolitotróficamente en compuestos de azuf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e distinguen dos grupos ecológicos de bacter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as que viven a pH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as que viven a pH ácido, muchas de estas últimas también pueden oxidar Fe(II). (Thiobacil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QUE OXIDAN AZUFRE Y HI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 + 2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+    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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 : -798.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½ 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          :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209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 + 1/2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+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- 587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 +2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+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- 822.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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 en kJ/reac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os Thiobacillus se pueden obtener a partir de cultivos conteniendo suelo o lo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AJES O REINOS (12) RESUELTOS POR SECUENCIACIÓN DEL RNA RIBOSOMAL (1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quifex/ Hydrogenbacteri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grupo más antiguo, cercano al antepasado universa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imiolitótrofos hipertermóf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xidan hidrógeno o reducen compuestos de azuf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quifex puede crecer a 95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LOGÍA DE BACTERIAS AZUFRE OXID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s en aguas te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s en minerales sulfu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s en aguas ácidas y en minas de carb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n ácido sulfúrico inhibidor de otros mi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mportancia económica y ambien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OXIDANTES DE HID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na gran variedad de bacterias pueden obtener energía de la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+1/2  O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acción requiere la presencia de hidrogenasa.  Crecen autotrófic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yoría son quimiolitótrofas facultativas por lo que también pueden ser quimioorganótrof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conocen Gram negativas y Gram positiv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CALIGENES EUTROF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NA BACTERIA QUE OXIDA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3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ANOTROFOS Y METILO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tano es muy abundante en la naturaleza, es producido en ambientes anóxicos por bacterias metanogé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 el principal gas en ambientes anóxicos, lodos, pantanos, rumen e intestino de los mamiferos. Es el principal constituyente del gas natu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 relativamente estable, pero un variado grupo de bacterias, los metanotrofos  lo oxidan, lo mismo que a otros compuestos relacion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ANOTROFOS Y METILO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s sustratos que utilizan no presentan enlace carbono-carbono. Lo que es semejante al caso de los autótrofos, que utilizan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pero el metilo es más reducido que el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CHO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O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nen dos vías para asimilar el met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n bacterias 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TANOTROFOS Y METILO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xisten asociaciones simbióticas entre bacterias metanótrofas y bivalvos marinos y también con determinadas tipos de esponjas marin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n bacterias cocoides que oxidan metano en las células del animal en las branquias. Los bivalvos viven cerca de filtraciones de hidrocarbur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EDUCTORAS DE SULFATO Y AZUF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 condiciones anaeróbicas el sulfato es utilizado como aceptor final de electrones por un grupo heterogéneo de bacterias que usan distintos compuestos como donadores de electrones: ácidos orgánicos, ácidos grasos, alcoholes e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todas anaerobias estric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 encuentran muy esparcidas en ambientes acuáticos y terrestres, que se vuelven anóxicos debido a procesos microbianos de des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EDUCTORAS DE 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mayor parte de las bacterias sulfato reductoras son quimioorganótrofas, utilizando compuestos orgánicos como fuente de carbono y donadores de electr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+  S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pt-B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6 C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bacterias sulfato reductoras que utilizan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como donador de electrones, requieren C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como fuente de carbono, por lo que son autótrofas. 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pt-BR" sz="2800" spc="-1" strike="noStrike" baseline="30000">
                <a:solidFill>
                  <a:srgbClr val="000000"/>
                </a:solidFill>
                <a:latin typeface="Times New Roman"/>
              </a:rPr>
              <a:t>-2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1" lang="pt-B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  +4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ILOS AERÓBICOS FACULTATIVOS , GRAM NEG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cterias entér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Grupo de bacterias Gram negativas, no esporuladas, inmóviles o móviles por flagelación perítrica, aerobios facultativos, oxidasa negativos y con requerimientos nutricionales muy sencil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mprende: Escherichia (coli) , Enterobacter, Shigella, Edwardsiella, Salmonella (typhi, Klebsiella, Arizona, Proteus, Yersinia (pestis)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uchas son patógenas para el hombre, para animales y para pla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dicadores de contam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AJES O REINOS (12) RESUELTOS POR SECUENCIACIÓN DEL RNA RIBOSOMAL (1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motog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ipertermofílico, fermentativo, aeróbico, quimiolitótro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terias verdes no del azufre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otosintéticas y no fotosintéticas, todos los organismos termofilos, pero no hipertermófilos. Se habrían desarrollado en una época en que la tierra estaba aún bastante caliente, pero no en extrem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6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 NEGATIVOS: RICKETTSI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arásitos intracelulares de pequeño tamaño (0.3-0.7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µm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, con morfología normal: con membrana y pared, tienen DNA y RNA, división por fisión bin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tilizarían NAD y Coenzimo A de la célula hospedado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los agentes etiológicos del tifus exantemático, de la fiebre de las montañas Rocallosas y sus hospedadores son: pulgas, piojos, garrapatas, etc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MID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también parásitos estrictos que han perdido más funciones metabólicas que las rickett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us paredes son Gram negativas aunque no tienen peptidoglicanos, tienen DNA y RNA. Se reproducen por fisión b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parásitos energéticos. Es posible que tengan las capacidades bioquímicas más sencillas de todos los organismos celulares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 transmiten por el a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on los agentes etiológicos de psitacosis (parecido a la neumonia) y tracoma (cegu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OPLAS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e encuentran filogenéticamente relacionados con las bacterias Gram positivas, a pesar de que no tienen peptidoglic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ienen esteroles en la membrana, que les confiere algo de rig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No tienen forma definida.Tamaño de 0.1-0.3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µ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eben ser mantenidos en medio especial que los protege de la lisis osmótica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OPLAS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PIRILLUM VOLU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706400"/>
            <a:ext cx="6705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TERIA PROSTEC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24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IROCHAETA ZUELZERA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 FIBRILLAS AX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7057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NIA DEL ACTINOMYCETE DEL GÉNERO NOCARD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585800"/>
            <a:ext cx="6400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ERPO EN FLORACIÓN DE LA MIXOBACTERI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GMATELLA AURANTIA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629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AJES O REINOS (12) RESUELTOS POR SECUENCIACIÓN DEL RNA RIBOSOMAL (1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9680"/>
            <a:ext cx="8839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inococc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parientes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ólo algunos   termofí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istentes a las radiaciones. Thermus aquati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piroquet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:  Morfología especial, se encuentran en ambientes acuáticos y en el cuerpo de animales.  (sífil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cterias verdes del azufr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fotosintét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5256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AJES O REINOS (12) RESUELTOS POR SECUENCIACIÓN DEL RNA RIBOSOMAL (1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oides : Variedad de tipos fisiológicos desde anaerobios estrictos hasta aerobios estric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ntomyc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y parientes: no contienen peptidoglicano en su pared y se reproducen por gem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mydeas: parásitos intracelulares obligad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AJES O REINOS (12) RESUELTOS POR SECUENCIACIÓN DEL RNA RIBOSOMAL (1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terias Gram positiva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incluye cocos y bacilos, grupo muy heterogén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anobacteria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fototróficas aerobias u oxigé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cterias rojas (púrpuras) o Proteobacteria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 el grupo más heterogéneo de todos: fototróficas, anaerobias, quimioorganotróficas, quimiolitótrofas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FOTOSINTÉ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tosintéticas anaerob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púrp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cterias ver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lio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tosintéticas aerob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iano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COLOGÍA DE BACTERIAS FOTOSINTÉTICAS ANAEROB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s verdes y rojas se desarrollan en el fondo de lagos en aguas claras que dejan pasar luz. Con aporte de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 fotosintética en zonas profundas puede ser mayor que en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entes term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0-7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s muy sulfurosas y ácid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04:26:05Z</dcterms:created>
  <dc:creator>Blanca Escobar</dc:creator>
  <dc:description/>
  <dc:language>en-US</dc:language>
  <cp:lastModifiedBy>Blanca Escobar</cp:lastModifiedBy>
  <dcterms:modified xsi:type="dcterms:W3CDTF">2007-06-08T18:51:38Z</dcterms:modified>
  <cp:revision>28</cp:revision>
  <dc:subject/>
  <dc:title>DIVERSIDAD PROCARIÓTICA </dc:title>
</cp:coreProperties>
</file>