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968-F963-4BBF-822B-CC676E95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3F5-EDEC-4070-BEC6-CD1034C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0A7-039C-4F02-9519-30A7804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BA2-8641-4226-B6D8-DC94BDA1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C14-E981-4C35-AE9C-42FF071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940-DB78-4DAF-AE5C-02572C2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919-EE27-4642-902C-4C55E25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691-8678-486A-8079-2F4B075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78A-1C18-40D8-B207-997668D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C43-103E-4B85-9B36-8D0423D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310-99B6-48F4-AA5A-31F95CF8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564-50E0-402F-BFB3-24AD484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1B2-F56D-4753-B7BE-59C90CE5B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395280"/>
            <a:ext cx="6291360" cy="84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6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637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668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671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72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9920" y="334800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5948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0880" y="228600"/>
            <a:ext cx="5791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Restreo de genotecas de DNA ge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DNA como sond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2362320"/>
            <a:ext cx="5943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1600200"/>
            <a:ext cx="57150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9480" y="15238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gión regula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19520" y="1600200"/>
            <a:ext cx="312408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95480" y="15238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dad trascrip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13000" y="1187280"/>
            <a:ext cx="129564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57720" y="1116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/>
          <p:nvPr/>
        </p:nvCxnSpPr>
        <p:spPr>
          <a:xfrm flipH="1" rot="16200000">
            <a:off x="5561640" y="1676160"/>
            <a:ext cx="53388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3" name=""/>
          <p:cNvCxnSpPr/>
          <p:nvPr/>
        </p:nvCxnSpPr>
        <p:spPr>
          <a:xfrm flipH="1" rot="16200000">
            <a:off x="152280" y="1676160"/>
            <a:ext cx="53388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2362320" y="5638680"/>
            <a:ext cx="38088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276720" y="571500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43200" y="5867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1800" y="5867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6400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57400" y="6705720"/>
            <a:ext cx="304920" cy="30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6705720"/>
            <a:ext cx="304920" cy="3045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6629400"/>
            <a:ext cx="380880" cy="380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6400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6400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9880" y="6400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95680" y="6629400"/>
            <a:ext cx="381240" cy="380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62520" y="68580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7080" y="6858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038480" y="716292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23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767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81080" y="7010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43200" y="7010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81280" y="7010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95680" y="7010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7620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0880" y="830592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7086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2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28800" y="5638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563868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3276720"/>
            <a:ext cx="15228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96252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66880" y="396252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441972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909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666880" y="3276720"/>
            <a:ext cx="15264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95480" y="335268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3920" y="327672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7924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0" y="731520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731520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28800" y="731520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66880" y="731520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33526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3733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51055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436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89000" y="334800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89000" y="428472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" y="1258920"/>
            <a:ext cx="68346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Tahoma"/>
              </a:rPr>
              <a:t>Alternativas para seleccionar o enriquecer el DNA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Modificación de la hebra molde o de la recién sintetiz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para alterar su degradación por nucl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(Ej enzimas de restri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- Metilación (Enzimas de restricción sensibles a meti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- Incorporación de U en lugar de T en la hebra m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degradación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n viv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- Incorporación de análogos de dNTPs (Ej fosforotioa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no degradables enzimáticam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Usar selección positiva mediante antibió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(reparación de gen de resistencia a antibióticos defectuo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2819520"/>
            <a:ext cx="594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579132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57640" y="562752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76920" y="594360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05120" y="5867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24280" y="6095880"/>
            <a:ext cx="31932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14600" y="579132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71800" y="56386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71800" y="594360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14600" y="617220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19720" y="594360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7238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73152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708660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048120" y="617148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71629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09880" y="67816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09880" y="670572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67080" y="723888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200400" y="67816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685800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9000" y="6172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809880" y="60199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733920" y="761940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05320" y="739152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048120" y="670536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76720" y="655308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019840" y="496872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86240" y="500688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72120" y="512136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38880" y="515952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34120" y="487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066680" y="457200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16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219320" y="480060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38080" y="487692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43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4800240" y="548640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50292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5715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5181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562720" y="49528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54864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195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523520" y="43434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99840" y="4572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218960" y="4572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" y="510552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3868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09880" y="8077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90920" y="8534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0880" y="42670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62120" y="441972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581280" y="441972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90720" y="457200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76520" y="457200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09680" y="457200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320" y="419112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808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2120" y="3886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62120" y="54100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2120" y="66294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505320" y="66294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990720" y="70102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33920" y="70102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657600" y="445788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581280" y="5410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0880" y="754380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746748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52480" y="205740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81080" y="662040"/>
          <a:ext cx="7216920" cy="7799400"/>
        </p:xfrm>
        <a:graphic>
          <a:graphicData uri="http://schemas.openxmlformats.org/drawingml/2006/table">
            <a:tbl>
              <a:tblPr/>
              <a:tblGrid>
                <a:gridCol w="216000"/>
                <a:gridCol w="7000920"/>
              </a:tblGrid>
              <a:tr h="77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360" y="1886040"/>
            <a:ext cx="9720" cy="8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360" y="2022480"/>
            <a:ext cx="972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4360" y="3192480"/>
            <a:ext cx="9720" cy="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76280" y="971640"/>
            <a:ext cx="6073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43000"/>
            <a:ext cx="670572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791320"/>
            <a:ext cx="99000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47800">
            <a:off x="1066680" y="58669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10665000">
            <a:off x="1069560" y="5784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269600">
            <a:off x="1223640" y="5843520"/>
            <a:ext cx="6084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5486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47800">
            <a:off x="4800600" y="5562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 rot="10665000">
            <a:off x="4844880" y="5596560"/>
            <a:ext cx="76176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8311200">
            <a:off x="2189160" y="5521320"/>
            <a:ext cx="61524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621400">
            <a:off x="2282760" y="5516640"/>
            <a:ext cx="60876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621400">
            <a:off x="4499640" y="5429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7440" y="5411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47800">
            <a:off x="2362320" y="54860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867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47800">
            <a:off x="3429000" y="5943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10665000">
            <a:off x="3431880" y="58600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269600">
            <a:off x="3585240" y="5920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701028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9907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iguale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mente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 Madariaga</cp:lastModifiedBy>
  <cp:lastPrinted>2001-06-01T18:55:41Z</cp:lastPrinted>
  <dcterms:modified xsi:type="dcterms:W3CDTF">2007-05-16T22:01:49Z</dcterms:modified>
  <cp:revision>73</cp:revision>
  <dc:subject/>
  <dc:title>No Slide Title</dc:title>
</cp:coreProperties>
</file>