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1DB-9A50-4D23-9E45-B354AEA6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DA6C-CC8E-49C6-A725-0305EDF6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8D7-28AD-4C66-BCEF-FE1E2497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155-9C77-48F8-92C7-B456F371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AC3-D8FF-4312-BC47-95033217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51B-1471-4EF6-9F6D-EA2D50D2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C4D-475F-4D4D-BD2F-FCB8D212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29C-51C7-47C8-9130-01995EB0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847-4476-4A02-A4CB-A2EB9AE7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88F0-4620-4E6F-9BE7-946931C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7850-047E-4B96-8FB2-722D7AD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A11-12A8-4A67-8065-8FD36C68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4C1B-CF14-4DE1-BD84-FA3780DB0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1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16000" y="306864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6396120" cy="5284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24000" y="2421000"/>
            <a:ext cx="1726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800" y="3933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404640"/>
            <a:ext cx="909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ea                                            donde D es un conju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bierto. La existencia de las derivadas primeras no implica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bilidad cuando f es función de dos o más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cordemos que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 existen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y son continua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sus derivadas parciales pri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260280"/>
          <a:ext cx="338472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60280"/>
                    <a:ext cx="3384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27640" y="1484280"/>
          <a:ext cx="30240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484280"/>
                    <a:ext cx="30240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48040" y="4653000"/>
            <a:ext cx="85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Solo demostraremos en el caso particular de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real de dos variables. El caso general de función v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varias variables, se demuestra en forma similar, co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ponente a componente de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32767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276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24360" y="0"/>
          <a:ext cx="52196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0"/>
                    <a:ext cx="52196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0" y="836640"/>
          <a:ext cx="9144000" cy="17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836640"/>
                    <a:ext cx="914400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0" y="2637000"/>
          <a:ext cx="9144000" cy="422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37000"/>
                    <a:ext cx="91440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08360" y="549360"/>
          <a:ext cx="6336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49360"/>
                    <a:ext cx="633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27520" y="279360"/>
            <a:ext cx="89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EJEMPL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bar que la siguiente función f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todos los puntos d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50920" y="1197000"/>
          <a:ext cx="496908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197000"/>
                    <a:ext cx="4969080" cy="766800"/>
                  </a:xfrm>
                  <a:prstGeom prst="rect">
                    <a:avLst/>
                  </a:prstGeom>
                  <a:ln w="9360">
                    <a:solidFill>
                      <a:srgbClr val="00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11280" y="2492280"/>
          <a:ext cx="8172360" cy="33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492280"/>
                    <a:ext cx="81723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2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332000" y="54936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549360"/>
                    <a:ext cx="63961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4920" y="63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720" y="128736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OBSERVA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773360"/>
          <a:ext cx="662472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773360"/>
                    <a:ext cx="66247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4292640"/>
          <a:ext cx="86756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6600" y="2943360"/>
            <a:ext cx="83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JEMPLO: Verificar que la siguiente función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clase C1 en un entorno de (0,0), pero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n (0,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867564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4360" y="1773360"/>
          <a:ext cx="7848360" cy="49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773360"/>
                    <a:ext cx="784836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3360"/>
            <a:ext cx="179280" cy="1366920"/>
          </a:xfrm>
          <a:custGeom>
            <a:avLst/>
            <a:gdLst>
              <a:gd name="textAreaLeft" fmla="*/ 114480 w 179280"/>
              <a:gd name="textAreaRight" fmla="*/ 179640 w 179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50000" y="61833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s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773360"/>
          <a:ext cx="91440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258920" y="0"/>
          <a:ext cx="554508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0"/>
                    <a:ext cx="55450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1:26:51Z</dcterms:created>
  <dc:creator>Enrich</dc:creator>
  <dc:description/>
  <dc:language>en-US</dc:language>
  <cp:lastModifiedBy>Heber Enrich</cp:lastModifiedBy>
  <dcterms:modified xsi:type="dcterms:W3CDTF">2006-08-27T12:51:13Z</dcterms:modified>
  <cp:revision>682</cp:revision>
  <dc:subject/>
  <dc:title>Diapositiva 1</dc:title>
</cp:coreProperties>
</file>