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DB7-0E9D-489A-9DFF-456B5EFE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539-F50D-4E79-B540-018E02C3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966-070B-46FD-AAEE-04FDC5E1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4CE-1715-4F45-9FD9-86AFCA3F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E22-411F-42AF-86D3-144486F0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9E0-A127-4FCE-B7E7-F42B95A6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28A-BE4D-4184-A9F2-A9B02820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87C-79A2-494D-9C45-CA83BB98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DAD-8879-49D9-86C8-7FF42C8F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A3A-9FC3-4E6A-8E60-4D666DC4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1F2-054D-4A84-A030-4F0451F5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ACE-CC83-4D6F-837A-C9ABCDAB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05EF-1BAB-4920-B944-8D5DEF8B1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1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16000" y="306864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6396120" cy="5284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24000" y="2421000"/>
            <a:ext cx="1726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800" y="3933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404640"/>
            <a:ext cx="909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ea                                            donde D es un conju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bierto. La existencia de las derivadas primeras no implica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bilidad cuando f es función de dos o más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cordemos que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 existen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y son continua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sus derivadas parciales pri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260280"/>
          <a:ext cx="338472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60280"/>
                    <a:ext cx="3384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27640" y="1484280"/>
          <a:ext cx="30240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484280"/>
                    <a:ext cx="30240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48040" y="4653000"/>
            <a:ext cx="85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Solo demostraremos en el caso particular de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real de dos variables. El caso general de función v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varias variables, se demuestra en forma similar, co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ponente a componente de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32767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276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24360" y="0"/>
          <a:ext cx="52196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0"/>
                    <a:ext cx="52196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0" y="836640"/>
          <a:ext cx="9144000" cy="17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836640"/>
                    <a:ext cx="914400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0" y="2637000"/>
          <a:ext cx="9144000" cy="422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37000"/>
                    <a:ext cx="91440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08360" y="549360"/>
          <a:ext cx="6336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49360"/>
                    <a:ext cx="633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27520" y="279360"/>
            <a:ext cx="89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EJEMPL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bar que la siguiente función f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todos los puntos d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50920" y="1197000"/>
          <a:ext cx="496908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197000"/>
                    <a:ext cx="4969080" cy="766800"/>
                  </a:xfrm>
                  <a:prstGeom prst="rect">
                    <a:avLst/>
                  </a:prstGeom>
                  <a:ln w="9360">
                    <a:solidFill>
                      <a:srgbClr val="00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11280" y="2492280"/>
          <a:ext cx="8172360" cy="33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492280"/>
                    <a:ext cx="81723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2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332000" y="54936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549360"/>
                    <a:ext cx="63961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4920" y="63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720" y="128736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OBSERVA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773360"/>
          <a:ext cx="662472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773360"/>
                    <a:ext cx="66247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4292640"/>
          <a:ext cx="86756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6600" y="2943360"/>
            <a:ext cx="83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JEMPLO: Verificar que la siguiente función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clase C1 en un entorno de (0,0), pero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n (0,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867564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4360" y="1773360"/>
          <a:ext cx="7848360" cy="49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773360"/>
                    <a:ext cx="784836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3360"/>
            <a:ext cx="179280" cy="1366920"/>
          </a:xfrm>
          <a:custGeom>
            <a:avLst/>
            <a:gdLst>
              <a:gd name="textAreaLeft" fmla="*/ 114480 w 179280"/>
              <a:gd name="textAreaRight" fmla="*/ 179640 w 179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50000" y="61833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s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773360"/>
          <a:ext cx="91440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258920" y="0"/>
          <a:ext cx="554508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0"/>
                    <a:ext cx="55450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1:26:51Z</dcterms:created>
  <dc:creator>Enrich</dc:creator>
  <dc:description/>
  <dc:language>en-US</dc:language>
  <cp:lastModifiedBy>Heber Enrich</cp:lastModifiedBy>
  <dcterms:modified xsi:type="dcterms:W3CDTF">2006-08-27T12:51:13Z</dcterms:modified>
  <cp:revision>682</cp:revision>
  <dc:subject/>
  <dc:title>Diapositiva 1</dc:title>
</cp:coreProperties>
</file>