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3880-8D99-4F5E-B39F-422C2976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5D21-403E-4DF6-8DA3-4B601633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B4C-CE80-4BDA-BDFC-B9E3E1DB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37E5-24A1-4820-929D-3030A4FB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C39-ED83-4F3D-8E6F-D2B75472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2A1B-6B79-4A62-BC19-F5D07328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CEC-E256-49B6-BA8E-1836DD68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93B7-A070-434A-8665-479ECC2E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48C-7536-4EED-B49E-4722BB79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32E-2B18-47FB-A3AB-9CC90514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D82F-6FDA-4EB7-8BAF-232D93AF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BB70-52EE-4C39-8961-E2FF42C7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D79A-CD2E-491E-A20D-849971969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79480" y="568440"/>
            <a:ext cx="66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35280" y="260280"/>
            <a:ext cx="640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CLASE 14 PARTE 1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FUNCIONES DE CLASE 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Y DIFERENCI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9120" y="6113520"/>
            <a:ext cx="808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álculo Diferencial e Integral II.       Eleonora Catsig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MERL. Fac. de Ingeniería. UdelaR. J. Herrera y Reissig 565. Montevideo. Uruguay. Setiembre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erechos reservados.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79640" y="436572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jercicios para las clase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Práctico 4 del año 2006, ejercicio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2349360"/>
            <a:ext cx="686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de la Clase 14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Juan de Burgos: Cálculo Infinitesimal en Varias Variables. Capítulo 2,  sección 2.3, parágrafo 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116000" y="3068640"/>
          <a:ext cx="639612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68640"/>
                    <a:ext cx="6396120" cy="52848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324000" y="2421000"/>
            <a:ext cx="17269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800" y="3933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D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1520" y="404640"/>
            <a:ext cx="909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ea                                            donde D es un conju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abierto. La existencia de las derivadas primeras no implica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ferenciabilidad cuando f es función de dos o más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cordemos que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 existen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y son continuas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sus derivadas parciales prim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03280" y="260280"/>
          <a:ext cx="338472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260280"/>
                    <a:ext cx="33847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427640" y="1484280"/>
          <a:ext cx="30240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1484280"/>
                    <a:ext cx="30240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48040" y="4653000"/>
            <a:ext cx="85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Solo demostraremos en el caso particular de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real de dos variables. El caso general de función vec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de varias variables, se demuestra en forma similar, com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ponente a componente de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32767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2767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924360" y="0"/>
          <a:ext cx="521964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0"/>
                    <a:ext cx="521964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0" y="836640"/>
          <a:ext cx="9144000" cy="179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836640"/>
                    <a:ext cx="914400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0" y="2637000"/>
          <a:ext cx="9144000" cy="4221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637000"/>
                    <a:ext cx="914400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708360" y="549360"/>
          <a:ext cx="633600" cy="5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549360"/>
                    <a:ext cx="6336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27520" y="279360"/>
            <a:ext cx="895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EJEMPLO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bar que la siguiente función f es diferenc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todos los puntos d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050920" y="1197000"/>
          <a:ext cx="496908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1197000"/>
                    <a:ext cx="4969080" cy="766800"/>
                  </a:xfrm>
                  <a:prstGeom prst="rect">
                    <a:avLst/>
                  </a:prstGeom>
                  <a:ln w="9360">
                    <a:solidFill>
                      <a:srgbClr val="003399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611280" y="2492280"/>
          <a:ext cx="8172360" cy="332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492280"/>
                    <a:ext cx="817236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79480" y="568440"/>
            <a:ext cx="66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260280"/>
            <a:ext cx="640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CLASE 14 PARTE 2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FUNCIONES DE CLASE C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3300"/>
                </a:solidFill>
                <a:latin typeface="Arial"/>
              </a:rPr>
              <a:t>Y DIFERENCI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9120" y="6113520"/>
            <a:ext cx="808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álculo Diferencial e Integral II.       Eleonora Catsige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MERL. Fac. de Ingeniería. UdelaR. J. Herrera y Reissig 565. Montevideo. Uruguay. Setiembre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erechos reservados.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79640" y="436572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Ejercicios para las clase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ff"/>
                </a:solidFill>
                <a:latin typeface="Arial"/>
              </a:rPr>
              <a:t>Práctico 4 del año 2006, ejercicio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2349360"/>
            <a:ext cx="686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bliografía de la Clase 14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Juan de Burgos: Cálculo Infinitesimal en Varias Variables. Capítulo 2,  sección 2.3, parágrafo 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332000" y="549360"/>
          <a:ext cx="6396120" cy="52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549360"/>
                    <a:ext cx="639612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04920" y="6336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Teorema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720" y="128736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OBSERVA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03280" y="1773360"/>
          <a:ext cx="6624720" cy="82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1773360"/>
                    <a:ext cx="66247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0" y="4292640"/>
          <a:ext cx="8675640" cy="180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86756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516600" y="2943360"/>
            <a:ext cx="83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EJEMPLO: Verificar que la siguiente función no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de clase C1 en un entorno de (0,0), pero es diferenc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en (0,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0"/>
          <a:ext cx="867564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756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4360" y="1773360"/>
          <a:ext cx="7848360" cy="49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773360"/>
                    <a:ext cx="784836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0" y="333360"/>
            <a:ext cx="179280" cy="1366920"/>
          </a:xfrm>
          <a:custGeom>
            <a:avLst/>
            <a:gdLst>
              <a:gd name="textAreaLeft" fmla="*/ 114480 w 179280"/>
              <a:gd name="textAreaRight" fmla="*/ 179640 w 17928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50000" y="618336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Arial"/>
              </a:rPr>
              <a:t>s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1773360"/>
          <a:ext cx="9144000" cy="49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91440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258920" y="0"/>
          <a:ext cx="5545080" cy="13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0"/>
                    <a:ext cx="554508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11:26:51Z</dcterms:created>
  <dc:creator>Enrich</dc:creator>
  <dc:description/>
  <dc:language>en-US</dc:language>
  <cp:lastModifiedBy>Heber Enrich</cp:lastModifiedBy>
  <dcterms:modified xsi:type="dcterms:W3CDTF">2006-08-27T12:51:13Z</dcterms:modified>
  <cp:revision>682</cp:revision>
  <dc:subject/>
  <dc:title>Diapositiva 1</dc:title>
</cp:coreProperties>
</file>