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A22-E21A-45BF-AF16-14A53279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BCF-0FB9-4D28-8534-E4BD1DCB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3DC-965D-4AF5-8B62-14563293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8F4-E403-4D67-A10E-3DF23A68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4EF6-8E8A-425E-87E7-B77CD9B9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3011-6A35-40AE-A750-50587D60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D2BF-1699-4A20-ADFE-685209A6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5AA4-54B3-4BED-AA41-484D5D4F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9C46-7EE7-45DF-A713-0D5D1601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C63F-B313-4F8F-AB68-034B65B6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3B88-0F82-4894-ADD1-3830CAF8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F5C-BF22-4B40-8C3D-11559931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D3D6-CEE5-4B90-B366-D1548EA5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8BA4-E50B-46DF-A58E-A9D5D80C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3BD4-FAAA-4D29-8A3F-219BBC92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A494-4E13-486E-B082-DA0DE572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D4B3-1C51-4894-90F7-BBD1E1EE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547-3333-48B9-973F-58788E1D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D906-2D81-4B7A-B445-A5059452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602-FDDD-4213-B717-5F90CA6E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5AB-FE79-4D35-BA72-C0C338C6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FF5-B2B7-4721-8ED9-38B38A05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E9B-E56D-48EA-8D09-7E2059A1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96E-5BB6-4621-B7BF-656FF471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F890-C47F-41F2-BEAA-4AA6C42E3F7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29C7-BFB0-416E-B137-ADECF8FCDC2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373040"/>
            <a:ext cx="793764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uando tomamos decisiones interactuamos estratégicamente con alguien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a teoría de juegos se dedica al estudio de la toma de decisiones estratégica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Empresa : El gerente fija el precio tomando en cuenta el precio que fijará su competenci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“Guerra del multicarrier”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artido político : Los candidatos se definen tomando en cuenta los candidatos del partido opositor y del propio sector político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stema binominal de 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19480" y="256716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19480" y="256716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19480" y="392580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40240" y="256716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53200" y="256716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19480" y="393876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60400" y="286056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84440" y="43848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Baj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6920" y="2022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Al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9240" y="202248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Baj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13240" y="3241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13240" y="45370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46600" y="45370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70640" y="331776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27640" y="2708280"/>
            <a:ext cx="83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85040" y="27082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03600" y="41562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4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61000" y="407988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74600" y="35463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T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56240" y="1488960"/>
            <a:ext cx="152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Ent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7240" y="1373040"/>
            <a:ext cx="8150400" cy="46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Tipos de jueg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secutivos: cada jugador juega luego de que el otro jugó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incipi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ada  jugador debe calcular cuáles van a ser las jugadas de los demás participantes y utilizar esto para determinar cuál es en cada momento su mejor jugad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gl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Mire hacia adelante y razone hacia atrá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81200" y="3817800"/>
            <a:ext cx="2919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903320" y="2820600"/>
            <a:ext cx="1524240" cy="12193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3680" y="2674800"/>
            <a:ext cx="29232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7360" y="282096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3320" y="4116240"/>
            <a:ext cx="4802400" cy="992160"/>
          </a:xfrm>
          <a:custGeom>
            <a:avLst/>
            <a:gdLst/>
            <a:ahLst/>
            <a:rect l="l" t="t" r="r" b="b"/>
            <a:pathLst>
              <a:path w="2929" h="625">
                <a:moveTo>
                  <a:pt x="0" y="0"/>
                </a:moveTo>
                <a:lnTo>
                  <a:pt x="830" y="624"/>
                </a:lnTo>
                <a:lnTo>
                  <a:pt x="2928" y="624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20606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183204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Guerra de pre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1120" y="221292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24680" y="22129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3127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31273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47275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77320" y="472752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2120" y="2440080"/>
            <a:ext cx="2897280" cy="38088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240"/>
                </a:moveTo>
                <a:lnTo>
                  <a:pt x="288" y="0"/>
                </a:lnTo>
                <a:lnTo>
                  <a:pt x="1728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2120" y="2973240"/>
            <a:ext cx="2897280" cy="45900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0"/>
                </a:moveTo>
                <a:lnTo>
                  <a:pt x="288" y="240"/>
                </a:lnTo>
                <a:lnTo>
                  <a:pt x="1728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152712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77320" y="1527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3508200"/>
            <a:ext cx="26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como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518472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3240" y="1684440"/>
            <a:ext cx="0" cy="3644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7600" y="2058840"/>
            <a:ext cx="1587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813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5640" y="2592360"/>
            <a:ext cx="236232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4878360"/>
            <a:ext cx="335304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81200" y="3817800"/>
            <a:ext cx="2919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903320" y="2820600"/>
            <a:ext cx="1524240" cy="12193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33680" y="2674800"/>
            <a:ext cx="29232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27360" y="282096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3320" y="4116240"/>
            <a:ext cx="4802400" cy="992160"/>
          </a:xfrm>
          <a:custGeom>
            <a:avLst/>
            <a:gdLst/>
            <a:ahLst/>
            <a:rect l="l" t="t" r="r" b="b"/>
            <a:pathLst>
              <a:path w="2929" h="625">
                <a:moveTo>
                  <a:pt x="0" y="0"/>
                </a:moveTo>
                <a:lnTo>
                  <a:pt x="830" y="624"/>
                </a:lnTo>
                <a:lnTo>
                  <a:pt x="2928" y="624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20606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183204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Guerra de pre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1120" y="221292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22129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62920" y="3127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31273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47275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77320" y="472752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32120" y="2440080"/>
            <a:ext cx="2897280" cy="38088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240"/>
                </a:moveTo>
                <a:lnTo>
                  <a:pt x="288" y="0"/>
                </a:lnTo>
                <a:lnTo>
                  <a:pt x="1728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32120" y="2973240"/>
            <a:ext cx="2897280" cy="45900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0"/>
                </a:moveTo>
                <a:lnTo>
                  <a:pt x="288" y="240"/>
                </a:lnTo>
                <a:lnTo>
                  <a:pt x="1728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10280" y="152712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1527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3508200"/>
            <a:ext cx="26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como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518472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23240" y="1684440"/>
            <a:ext cx="0" cy="3644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7600" y="2058840"/>
            <a:ext cx="1587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3813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5640" y="2592360"/>
            <a:ext cx="236232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4920" y="4878360"/>
            <a:ext cx="335304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2749680"/>
            <a:ext cx="424152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2749680"/>
            <a:ext cx="424152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59280" y="4108320"/>
            <a:ext cx="424152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8004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9264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5928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30430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456732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205000"/>
            <a:ext cx="159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008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28908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43387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2624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3716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174780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99160" y="3117960"/>
            <a:ext cx="1447560" cy="0"/>
          </a:xfrm>
          <a:prstGeom prst="line">
            <a:avLst/>
          </a:prstGeom>
          <a:ln w="57240">
            <a:solidFill>
              <a:srgbClr val="402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99160" y="4413240"/>
            <a:ext cx="1447560" cy="0"/>
          </a:xfrm>
          <a:prstGeom prst="line">
            <a:avLst/>
          </a:prstGeom>
          <a:ln w="57240">
            <a:solidFill>
              <a:srgbClr val="402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960720" y="3650760"/>
            <a:ext cx="0" cy="121932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08640" y="3651120"/>
            <a:ext cx="0" cy="1371600"/>
          </a:xfrm>
          <a:prstGeom prst="line">
            <a:avLst/>
          </a:prstGeom>
          <a:ln w="57240">
            <a:solidFill>
              <a:srgbClr val="cd33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780240" y="1517760"/>
            <a:ext cx="1676520" cy="1066320"/>
            <a:chOff x="6780240" y="1517760"/>
            <a:chExt cx="1676520" cy="1066320"/>
          </a:xfrm>
        </p:grpSpPr>
        <p:sp>
          <p:nvSpPr>
            <p:cNvPr id="279" name=""/>
            <p:cNvSpPr/>
            <p:nvPr/>
          </p:nvSpPr>
          <p:spPr>
            <a:xfrm>
              <a:off x="6856560" y="151776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80240" y="2127240"/>
              <a:ext cx="0" cy="4568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751040" y="1441440"/>
            <a:ext cx="1600200" cy="1143000"/>
            <a:chOff x="1751040" y="1441440"/>
            <a:chExt cx="1600200" cy="1143000"/>
          </a:xfrm>
        </p:grpSpPr>
        <p:sp>
          <p:nvSpPr>
            <p:cNvPr id="282" name=""/>
            <p:cNvSpPr/>
            <p:nvPr/>
          </p:nvSpPr>
          <p:spPr>
            <a:xfrm>
              <a:off x="1751040" y="144144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4920" y="2127240"/>
              <a:ext cx="0" cy="45720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23840" y="43178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90640" y="4322880"/>
            <a:ext cx="292320" cy="44424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089080" y="3401640"/>
            <a:ext cx="1447920" cy="1143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38240" y="34034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72360" y="1773360"/>
            <a:ext cx="7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09000" y="1854360"/>
            <a:ext cx="0" cy="3873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53360" y="2228760"/>
            <a:ext cx="2349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38240" y="52322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43480" y="3179880"/>
            <a:ext cx="291960" cy="44424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00360" y="256536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29160" y="23367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41920" y="2868480"/>
            <a:ext cx="1830240" cy="3826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41920" y="3478320"/>
            <a:ext cx="1906560" cy="38232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29160" y="340344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95760" y="5313240"/>
            <a:ext cx="291960" cy="44460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81440" y="4470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70520" y="5078520"/>
            <a:ext cx="1904760" cy="3808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94200" y="5611680"/>
            <a:ext cx="2058840" cy="45900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81440" y="55371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89080" y="4621320"/>
            <a:ext cx="1600200" cy="99036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64360" y="1700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76680" y="462276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21120" y="245736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01920" y="4214880"/>
            <a:ext cx="291960" cy="44460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776680" y="3293640"/>
            <a:ext cx="1371600" cy="1143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49520" y="329580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00720" y="17002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80360" y="2133720"/>
            <a:ext cx="0" cy="3873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81720" y="2155680"/>
            <a:ext cx="2349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49520" y="512460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54400" y="3071880"/>
            <a:ext cx="292320" cy="44460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40440" y="22287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52840" y="2836800"/>
            <a:ext cx="1982880" cy="38124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52840" y="3446640"/>
            <a:ext cx="2059200" cy="38232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40440" y="32958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07040" y="5205240"/>
            <a:ext cx="291960" cy="44460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92720" y="4362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05480" y="4970520"/>
            <a:ext cx="1982520" cy="3808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05480" y="5504040"/>
            <a:ext cx="2058840" cy="45864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92720" y="54291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00360" y="4437000"/>
            <a:ext cx="1600200" cy="1067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21120" y="46674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4040" y="423540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64360" y="1700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1373040"/>
            <a:ext cx="7866000" cy="30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El resultado de la interacción estratégica depende del poder de negociación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tratación de servicios : ¿Cuando pagar?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Mejoras en la viviend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Negociaciones laborales :  ¿Paralizar actividades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373040"/>
            <a:ext cx="786600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Decisiones interdepend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o que me conviene hacer depende de lo que espero que haga 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o que le conviene al otro depende de lo que él espera que yo hag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mbos sabemos que somos interdepend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373040"/>
            <a:ext cx="763272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tuaciones estratégic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flictos de interés: lo que uno gana lo pierde 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operación: permite aumentar las ganancias para ambas par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oblemas de Coordina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1373040"/>
            <a:ext cx="7937640" cy="39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Tipos de jueg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multáneos: cada jugador juega sin conocer la jugada d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incipi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ada  jugador debe descubrir la estrategia del otro, cada uno tiene que ponerse simultáneamente en el lugar del otro y en el propio, luego determinar la mejor jugada para amb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4" marL="22860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068480"/>
            <a:ext cx="779472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glas para juegos simultáneo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: Si tiene una estrategia dominante, úsel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I: Ignore cualquier estrategia dominada y continúe ignorándolas a medida que vayan apareciend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II: Una vez agotadas I y II el siguiente paso es buscar un equilibrio en el juego, es decir, un par de estrategias en las que la acción de cada jugador es la mejor respuesta a la jugada del otr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0560" y="2678040"/>
            <a:ext cx="4241880" cy="271800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30560" y="2678040"/>
            <a:ext cx="4241880" cy="2718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0560" y="403704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1320" y="2678040"/>
            <a:ext cx="0" cy="2718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64280" y="2678040"/>
            <a:ext cx="2108160" cy="13464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0560" y="4049640"/>
            <a:ext cx="2108160" cy="13464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213372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No 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0320" y="213372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4320" y="3352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1680" y="472428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Li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2560" y="46465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2560" y="3352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38720" y="28195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3480" y="281952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Li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4680" y="426708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2080" y="419112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85680" y="365760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isionero 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2400" y="1600200"/>
            <a:ext cx="197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Prisionero 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2880" y="3048120"/>
            <a:ext cx="205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95520" y="449568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22320" y="1370160"/>
            <a:ext cx="1600200" cy="1143000"/>
            <a:chOff x="1822320" y="1370160"/>
            <a:chExt cx="1600200" cy="1143000"/>
          </a:xfrm>
        </p:grpSpPr>
        <p:sp>
          <p:nvSpPr>
            <p:cNvPr id="123" name=""/>
            <p:cNvSpPr/>
            <p:nvPr/>
          </p:nvSpPr>
          <p:spPr>
            <a:xfrm>
              <a:off x="1822320" y="137016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46200" y="2055960"/>
              <a:ext cx="0" cy="45720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004160" y="1370160"/>
            <a:ext cx="1675800" cy="1066320"/>
            <a:chOff x="7004160" y="1370160"/>
            <a:chExt cx="1675800" cy="1066320"/>
          </a:xfrm>
        </p:grpSpPr>
        <p:sp>
          <p:nvSpPr>
            <p:cNvPr id="126" name=""/>
            <p:cNvSpPr/>
            <p:nvPr/>
          </p:nvSpPr>
          <p:spPr>
            <a:xfrm>
              <a:off x="7080120" y="1370160"/>
              <a:ext cx="159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04160" y="1979640"/>
              <a:ext cx="0" cy="4568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794120" y="2970360"/>
            <a:ext cx="1524240" cy="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0440" y="4341960"/>
            <a:ext cx="1523880" cy="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79720" y="3579840"/>
            <a:ext cx="0" cy="1295280"/>
          </a:xfrm>
          <a:prstGeom prst="line">
            <a:avLst/>
          </a:prstGeom>
          <a:ln w="57240">
            <a:solidFill>
              <a:srgbClr val="ce99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56240" y="3579840"/>
            <a:ext cx="0" cy="1295280"/>
          </a:xfrm>
          <a:prstGeom prst="line">
            <a:avLst/>
          </a:prstGeom>
          <a:ln w="57240">
            <a:solidFill>
              <a:srgbClr val="ce99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12840" y="5103720"/>
            <a:ext cx="1904760" cy="825480"/>
            <a:chOff x="1212840" y="5103720"/>
            <a:chExt cx="1904760" cy="825480"/>
          </a:xfrm>
        </p:grpSpPr>
        <p:sp>
          <p:nvSpPr>
            <p:cNvPr id="133" name=""/>
            <p:cNvSpPr/>
            <p:nvPr/>
          </p:nvSpPr>
          <p:spPr>
            <a:xfrm>
              <a:off x="1212840" y="5103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08120" y="5103720"/>
              <a:ext cx="60948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984240" y="2238480"/>
            <a:ext cx="2133360" cy="825480"/>
            <a:chOff x="984240" y="2238480"/>
            <a:chExt cx="2133360" cy="825480"/>
          </a:xfrm>
        </p:grpSpPr>
        <p:sp>
          <p:nvSpPr>
            <p:cNvPr id="136" name=""/>
            <p:cNvSpPr/>
            <p:nvPr/>
          </p:nvSpPr>
          <p:spPr>
            <a:xfrm>
              <a:off x="984240" y="22384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8120" y="2894040"/>
              <a:ext cx="60948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33840" y="274968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3840" y="274968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33840" y="410832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5460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6756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3384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74760" y="304308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pe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98800" y="456732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2050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ope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1360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S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2760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76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096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8500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0" y="2890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3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9940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17960" y="433872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7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75360" y="42624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88960" y="37288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Mercur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70600" y="1671480"/>
            <a:ext cx="152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La Epoc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4920" y="274968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4920" y="274968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410832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04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864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492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6200" y="30430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$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39880" y="456732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$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220500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US$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5468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US$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868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6868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024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2608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83080" y="2890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4048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59400" y="43387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16800" y="42624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37893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ewswee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1680" y="1671480"/>
            <a:ext cx="15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Tim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10:51Z</dcterms:created>
  <dc:creator>Marco Hauva</dc:creator>
  <dc:description/>
  <dc:language>en-US</dc:language>
  <cp:lastModifiedBy> Marco Hauva</cp:lastModifiedBy>
  <dcterms:modified xsi:type="dcterms:W3CDTF">2006-01-19T11:14:13Z</dcterms:modified>
  <cp:revision>29</cp:revision>
  <dc:subject/>
  <dc:title>Teoría de la Elección</dc:title>
</cp:coreProperties>
</file>