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604-7ECD-4FF0-B997-41B7406F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006-9C93-4D4D-975E-B5E37179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F13-0A26-41B9-A7E2-5BBCB2A2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4C3-5C8C-4F7D-9AC5-356FAC24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9A9E-E5D5-49B1-9AF1-7F7D35AF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8863-532C-480A-90AF-E63E3B77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704F-93FA-429B-89BB-103A0AE0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2750-32E4-4073-A75B-64B22208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5A61-D443-4826-90F6-DD9C1882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39AC-A985-41CB-96B4-281C9E65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DBA6-EEAB-4283-9216-1C9E8D56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611-4A6D-49FF-B852-A445B8BA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7132-D144-4405-8CF9-493A05C6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5924-5EDA-4065-8E4E-A600C2F2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CC14-C32B-476D-8EFC-35A9600E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3A16-8C22-448B-BBC7-1F2BFE79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F887-2EFF-4606-B7A7-13A5F481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8FE-BD38-4A0A-9528-21D3AF23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525-B15B-44FC-A587-DBDB1640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134-B4F8-4EAD-8DFA-E79F06B3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C54-8ADD-45D8-A605-3EC142FF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60E-1173-4EC4-8165-B27100C2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C35-8C33-497D-995F-6E526B1D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968-5410-4D19-82BD-0CE66623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DF32-9C87-4099-B0A4-3277E2F7129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5D14-287C-440F-99B5-D61F30E2D98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373040"/>
            <a:ext cx="793764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uando tomamos decisiones interactuamos estratégicamente con alguie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a teoría de juegos se dedica al estudio de la toma de decisiones estratégica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mpresa : El gerente fija el precio tomando en cuenta el precio que fijará su competenci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“Guerra del multicarrier”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artido político : Los candidatos se definen tomando en cuenta los candidatos del partido opositor y del propio sector político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stema binominal de 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19480" y="256716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19480" y="256716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19480" y="392580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40240" y="256716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3200" y="25671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19480" y="39387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60400" y="286056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84440" y="4384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6920" y="202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9240" y="202248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13240" y="3241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13240" y="45370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46600" y="45370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70640" y="33177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2708280"/>
            <a:ext cx="83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85040" y="2708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03600" y="41562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61000" y="40798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74600" y="3546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T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56240" y="148896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Ent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7240" y="1373040"/>
            <a:ext cx="8150400" cy="46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secutivos: cada jugador juega luego de que el otro jugó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calcular cuáles van a ser las jugadas de los demás participantes y utilizar esto para determinar cuál es en cada momento su mejor juga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ire hacia adelante y razone hacia atrá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2749680"/>
            <a:ext cx="424152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2749680"/>
            <a:ext cx="424152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4108320"/>
            <a:ext cx="4241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0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92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5928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456732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205000"/>
            <a:ext cx="159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28908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3716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17478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99160" y="311796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99160" y="441324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960720" y="3650760"/>
            <a:ext cx="0" cy="121932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08640" y="3651120"/>
            <a:ext cx="0" cy="1371600"/>
          </a:xfrm>
          <a:prstGeom prst="line">
            <a:avLst/>
          </a:prstGeom>
          <a:ln w="57240">
            <a:solidFill>
              <a:srgbClr val="cd33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780240" y="1517760"/>
            <a:ext cx="1676520" cy="1066320"/>
            <a:chOff x="6780240" y="1517760"/>
            <a:chExt cx="1676520" cy="1066320"/>
          </a:xfrm>
        </p:grpSpPr>
        <p:sp>
          <p:nvSpPr>
            <p:cNvPr id="279" name=""/>
            <p:cNvSpPr/>
            <p:nvPr/>
          </p:nvSpPr>
          <p:spPr>
            <a:xfrm>
              <a:off x="6856560" y="15177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0240" y="21272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751040" y="1441440"/>
            <a:ext cx="1600200" cy="1143000"/>
            <a:chOff x="1751040" y="1441440"/>
            <a:chExt cx="1600200" cy="1143000"/>
          </a:xfrm>
        </p:grpSpPr>
        <p:sp>
          <p:nvSpPr>
            <p:cNvPr id="282" name=""/>
            <p:cNvSpPr/>
            <p:nvPr/>
          </p:nvSpPr>
          <p:spPr>
            <a:xfrm>
              <a:off x="1751040" y="144144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4920" y="212724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23840" y="43178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90640" y="4322880"/>
            <a:ext cx="292320" cy="44424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089080" y="3401640"/>
            <a:ext cx="144792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38240" y="34034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72360" y="1773360"/>
            <a:ext cx="7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09000" y="185436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53360" y="222876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38240" y="52322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3480" y="3179880"/>
            <a:ext cx="291960" cy="44424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00360" y="25653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9160" y="2336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41920" y="2868480"/>
            <a:ext cx="1830240" cy="3826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41920" y="3478320"/>
            <a:ext cx="190656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29160" y="340344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95760" y="531324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81440" y="4470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70520" y="5078520"/>
            <a:ext cx="190476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94200" y="5611680"/>
            <a:ext cx="2058840" cy="45900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81440" y="5537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89080" y="4621320"/>
            <a:ext cx="1600200" cy="99036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76680" y="46227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21120" y="245736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01920" y="421488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776680" y="3293640"/>
            <a:ext cx="137160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9520" y="32958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1700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80360" y="213372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81720" y="215568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49520" y="51246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54400" y="3071880"/>
            <a:ext cx="29232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40440" y="2228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52840" y="2836800"/>
            <a:ext cx="1982880" cy="38124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52840" y="3446640"/>
            <a:ext cx="205920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40440" y="3295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07040" y="5205240"/>
            <a:ext cx="29196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436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05480" y="4970520"/>
            <a:ext cx="198252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05480" y="5504040"/>
            <a:ext cx="2058840" cy="45864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92720" y="5429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00360" y="4437000"/>
            <a:ext cx="1600200" cy="1067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21120" y="46674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4040" y="42354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1373040"/>
            <a:ext cx="786600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l resultado de la interacción estratégica depende del poder de negociació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tratación de servicios : ¿Cuando pagar?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ejoras en la vivien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Negociaciones laborales :  ¿Paralizar actividades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373040"/>
            <a:ext cx="786600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Decisione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me conviene hacer depende de lo que espero que haga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le conviene al otro depende de lo que él espera que yo hag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mbos sabemos que somo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373040"/>
            <a:ext cx="763272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tuaciones estratégic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flictos de interés: lo que uno gana lo pierde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operación: permite aumentar las ganancias para ambas par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oblemas de Coordina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1373040"/>
            <a:ext cx="7937640" cy="39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multáneos: cada jugador juega sin conocer la jugada d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descubrir la estrategia del otro, cada uno tiene que ponerse simultáneamente en el lugar del otro y en el propio, luego determinar la mejor jugada para amb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22860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068480"/>
            <a:ext cx="779472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s para juegos simultáneo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: Si tiene una estrategia dominante, úse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: Ignore cualquier estrategia dominada y continúe ignorándolas a medida que vayan apareciend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I: Una vez agotadas I y II el siguiente paso es buscar un equilibrio en el juego, es decir, un par de estrategias en las que la acción de cada jugador es la mejor respuesta a la jugada del otr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0560" y="2678040"/>
            <a:ext cx="4241880" cy="271800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30560" y="2678040"/>
            <a:ext cx="424188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0560" y="403704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1320" y="2678040"/>
            <a:ext cx="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64280" y="26780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0560" y="40496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213372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0320" y="213372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432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1680" y="472428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2560" y="46465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256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38720" y="28195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3480" y="281952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4680" y="42670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2080" y="41911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85680" y="365760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isionero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2400" y="1600200"/>
            <a:ext cx="197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Prisionero 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2880" y="3048120"/>
            <a:ext cx="205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5520" y="449568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2320" y="1370160"/>
            <a:ext cx="1600200" cy="1143000"/>
            <a:chOff x="1822320" y="1370160"/>
            <a:chExt cx="1600200" cy="1143000"/>
          </a:xfrm>
        </p:grpSpPr>
        <p:sp>
          <p:nvSpPr>
            <p:cNvPr id="123" name=""/>
            <p:cNvSpPr/>
            <p:nvPr/>
          </p:nvSpPr>
          <p:spPr>
            <a:xfrm>
              <a:off x="1822320" y="13701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46200" y="205596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004160" y="1370160"/>
            <a:ext cx="1675800" cy="1066320"/>
            <a:chOff x="7004160" y="1370160"/>
            <a:chExt cx="1675800" cy="1066320"/>
          </a:xfrm>
        </p:grpSpPr>
        <p:sp>
          <p:nvSpPr>
            <p:cNvPr id="126" name=""/>
            <p:cNvSpPr/>
            <p:nvPr/>
          </p:nvSpPr>
          <p:spPr>
            <a:xfrm>
              <a:off x="7080120" y="1370160"/>
              <a:ext cx="159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4160" y="19796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794120" y="2970360"/>
            <a:ext cx="152424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0440" y="4341960"/>
            <a:ext cx="152388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7972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5624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12840" y="5103720"/>
            <a:ext cx="1904760" cy="825480"/>
            <a:chOff x="1212840" y="5103720"/>
            <a:chExt cx="1904760" cy="825480"/>
          </a:xfrm>
        </p:grpSpPr>
        <p:sp>
          <p:nvSpPr>
            <p:cNvPr id="133" name=""/>
            <p:cNvSpPr/>
            <p:nvPr/>
          </p:nvSpPr>
          <p:spPr>
            <a:xfrm>
              <a:off x="1212840" y="510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08120" y="510372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84240" y="2238480"/>
            <a:ext cx="2133360" cy="825480"/>
            <a:chOff x="984240" y="2238480"/>
            <a:chExt cx="2133360" cy="825480"/>
          </a:xfrm>
        </p:grpSpPr>
        <p:sp>
          <p:nvSpPr>
            <p:cNvPr id="136" name=""/>
            <p:cNvSpPr/>
            <p:nvPr/>
          </p:nvSpPr>
          <p:spPr>
            <a:xfrm>
              <a:off x="984240" y="22384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8120" y="289404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384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384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3384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5460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6756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3384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74760" y="304308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2050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360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2760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76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096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8500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9940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17960" y="43387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75360" y="42624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88960" y="37288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Mercur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70600" y="167148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a Epo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492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492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8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492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6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988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220500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54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8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68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02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26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8308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40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59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16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3789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ewswee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1680" y="167148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Ti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 Marco Hauva</cp:lastModifiedBy>
  <dcterms:modified xsi:type="dcterms:W3CDTF">2006-01-19T11:14:13Z</dcterms:modified>
  <cp:revision>29</cp:revision>
  <dc:subject/>
  <dc:title>Teoría de la Elección</dc:title>
</cp:coreProperties>
</file>