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968640" y="0"/>
            <a:ext cx="303552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47"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825040"/>
            <a:ext cx="30351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968640" y="8825040"/>
            <a:ext cx="303552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0FE30C-1D72-4FA4-883D-721F9F279C3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D37040-AA2F-4AEF-900C-28A6F50D459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7280" y="703440"/>
            <a:ext cx="4629240" cy="3471840"/>
          </a:xfrm>
          <a:prstGeom prst="rect">
            <a:avLst/>
          </a:prstGeom>
          <a:ln w="0">
            <a:noFill/>
          </a:ln>
        </p:spPr>
      </p:sp>
      <p:sp>
        <p:nvSpPr>
          <p:cNvPr id="18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
          <p:cNvSpPr/>
          <p:nvPr/>
        </p:nvSpPr>
        <p:spPr>
          <a:xfrm>
            <a:off x="0" y="0"/>
            <a:ext cx="914400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407280"/>
            <a:ext cx="914400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61920" y="0"/>
            <a:ext cx="479520" cy="755640"/>
          </a:xfrm>
          <a:prstGeom prst="rect">
            <a:avLst/>
          </a:prstGeom>
          <a:ln w="0">
            <a:noFill/>
          </a:ln>
        </p:spPr>
      </p:pic>
      <p:pic>
        <p:nvPicPr>
          <p:cNvPr id="4" name="" descr=""/>
          <p:cNvPicPr/>
          <p:nvPr/>
        </p:nvPicPr>
        <p:blipFill>
          <a:blip r:embed="rId4"/>
          <a:stretch/>
        </p:blipFill>
        <p:spPr>
          <a:xfrm>
            <a:off x="8305920" y="0"/>
            <a:ext cx="838080" cy="762120"/>
          </a:xfrm>
          <a:prstGeom prst="rect">
            <a:avLst/>
          </a:prstGeom>
          <a:ln w="0">
            <a:noFill/>
          </a:ln>
        </p:spPr>
      </p:pic>
      <p:sp>
        <p:nvSpPr>
          <p:cNvPr id="5" name=""/>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
          <p:cNvSpPr/>
          <p:nvPr/>
        </p:nvSpPr>
        <p:spPr>
          <a:xfrm>
            <a:off x="6724080" y="6408720"/>
            <a:ext cx="24040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 Sec. 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Primavera 2006</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1" name=""/>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 name=""/>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92"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93" name=""/>
          <p:cNvSpPr/>
          <p:nvPr/>
        </p:nvSpPr>
        <p:spPr>
          <a:xfrm>
            <a:off x="299880" y="98964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3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7"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101" name=""/>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103" name=""/>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106" name=""/>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108" name=""/>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111" name=""/>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11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115" name=""/>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16" name="" descr=""/>
          <p:cNvPicPr/>
          <p:nvPr/>
        </p:nvPicPr>
        <p:blipFill>
          <a:blip r:embed="rId2"/>
          <a:stretch/>
        </p:blipFill>
        <p:spPr>
          <a:xfrm>
            <a:off x="7196040" y="816120"/>
            <a:ext cx="1947960" cy="1085760"/>
          </a:xfrm>
          <a:prstGeom prst="rect">
            <a:avLst/>
          </a:prstGeom>
          <a:ln w="0">
            <a:noFill/>
          </a:ln>
        </p:spPr>
      </p:pic>
      <p:sp>
        <p:nvSpPr>
          <p:cNvPr id="117" name=""/>
          <p:cNvSpPr/>
          <p:nvPr/>
        </p:nvSpPr>
        <p:spPr>
          <a:xfrm>
            <a:off x="7007400" y="72396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7196040" y="816120"/>
            <a:ext cx="1947960" cy="1085760"/>
          </a:xfrm>
          <a:prstGeom prst="rect">
            <a:avLst/>
          </a:prstGeom>
          <a:ln w="0">
            <a:noFill/>
          </a:ln>
        </p:spPr>
      </p:pic>
      <p:sp>
        <p:nvSpPr>
          <p:cNvPr id="121" name=""/>
          <p:cNvSpPr/>
          <p:nvPr/>
        </p:nvSpPr>
        <p:spPr>
          <a:xfrm>
            <a:off x="7496280" y="981000"/>
            <a:ext cx="844560" cy="42408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125" name=""/>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126" name=""/>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127" name=""/>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128" name=""/>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129" name=""/>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130" name=""/>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131"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133" name=""/>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7196040" y="816120"/>
            <a:ext cx="1947960" cy="1085760"/>
          </a:xfrm>
          <a:prstGeom prst="rect">
            <a:avLst/>
          </a:prstGeom>
          <a:ln w="0">
            <a:noFill/>
          </a:ln>
        </p:spPr>
      </p:pic>
      <p:sp>
        <p:nvSpPr>
          <p:cNvPr id="135"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138" name=""/>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139" name=""/>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140" name=""/>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141" name=""/>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142" name=""/>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143" name=""/>
          <p:cNvSpPr/>
          <p:nvPr/>
        </p:nvSpPr>
        <p:spPr>
          <a:xfrm>
            <a:off x="2668680" y="1392120"/>
            <a:ext cx="3268440" cy="1087560"/>
          </a:xfrm>
          <a:custGeom>
            <a:avLst/>
            <a:gdLst/>
            <a:ahLst/>
            <a:rect l="l" t="t" r="r" b="b"/>
            <a:pathLst>
              <a:path w="2231" h="685">
                <a:moveTo>
                  <a:pt x="0" y="39"/>
                </a:moveTo>
                <a:cubicBezTo>
                  <a:pt x="70" y="28"/>
                  <a:pt x="140" y="18"/>
                  <a:pt x="210" y="39"/>
                </a:cubicBezTo>
                <a:cubicBezTo>
                  <a:pt x="280" y="60"/>
                  <a:pt x="349" y="91"/>
                  <a:pt x="421" y="165"/>
                </a:cubicBezTo>
                <a:cubicBezTo>
                  <a:pt x="493" y="239"/>
                  <a:pt x="559" y="402"/>
                  <a:pt x="642" y="481"/>
                </a:cubicBezTo>
                <a:cubicBezTo>
                  <a:pt x="725" y="560"/>
                  <a:pt x="811" y="606"/>
                  <a:pt x="916" y="639"/>
                </a:cubicBezTo>
                <a:cubicBezTo>
                  <a:pt x="1021" y="672"/>
                  <a:pt x="1160" y="685"/>
                  <a:pt x="1274" y="681"/>
                </a:cubicBezTo>
                <a:cubicBezTo>
                  <a:pt x="1388" y="677"/>
                  <a:pt x="1519" y="649"/>
                  <a:pt x="1600" y="618"/>
                </a:cubicBezTo>
                <a:cubicBezTo>
                  <a:pt x="1681" y="587"/>
                  <a:pt x="1718" y="552"/>
                  <a:pt x="1758" y="492"/>
                </a:cubicBezTo>
                <a:cubicBezTo>
                  <a:pt x="1798" y="432"/>
                  <a:pt x="1821" y="323"/>
                  <a:pt x="1842" y="260"/>
                </a:cubicBezTo>
                <a:cubicBezTo>
                  <a:pt x="1863" y="197"/>
                  <a:pt x="1858" y="153"/>
                  <a:pt x="1884" y="113"/>
                </a:cubicBezTo>
                <a:cubicBezTo>
                  <a:pt x="1910" y="73"/>
                  <a:pt x="1942" y="36"/>
                  <a:pt x="2000" y="18"/>
                </a:cubicBezTo>
                <a:cubicBezTo>
                  <a:pt x="2058" y="0"/>
                  <a:pt x="2144" y="3"/>
                  <a:pt x="2231" y="7"/>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7196040" y="816120"/>
            <a:ext cx="1947960" cy="1085760"/>
          </a:xfrm>
          <a:prstGeom prst="rect">
            <a:avLst/>
          </a:prstGeom>
          <a:ln w="0">
            <a:noFill/>
          </a:ln>
        </p:spPr>
      </p:pic>
      <p:sp>
        <p:nvSpPr>
          <p:cNvPr id="147"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7196040" y="816120"/>
            <a:ext cx="1947960" cy="1085760"/>
          </a:xfrm>
          <a:prstGeom prst="rect">
            <a:avLst/>
          </a:prstGeom>
          <a:ln w="0">
            <a:noFill/>
          </a:ln>
        </p:spPr>
      </p:pic>
      <p:sp>
        <p:nvSpPr>
          <p:cNvPr id="151" name=""/>
          <p:cNvSpPr/>
          <p:nvPr/>
        </p:nvSpPr>
        <p:spPr>
          <a:xfrm>
            <a:off x="8329680" y="1549440"/>
            <a:ext cx="84456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15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5" name=""/>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6" name=""/>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7" name=""/>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155" name=""/>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156" name=""/>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157" name=""/>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158" name=""/>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159" name=""/>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16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162" name=""/>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163" name=""/>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164" name=""/>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165" name=""/>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166" name=""/>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167" name=""/>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16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169"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171" name=""/>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172" name=""/>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173" name=""/>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174" name=""/>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175" name=""/>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9" name=""/>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60" name=""/>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61" name=""/>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63" name=""/>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64" name=""/>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65" name=""/>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66" name=""/>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67" name=""/>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68" name=""/>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6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71" name=""/>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73" name=""/>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7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77" name=""/>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78" name=""/>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8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2" name=""/>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3" name=""/>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4" name=""/>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8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9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odrigo Palma</cp:lastModifiedBy>
  <cp:lastPrinted>2001-08-14T20:08:28Z</cp:lastPrinted>
  <dcterms:modified xsi:type="dcterms:W3CDTF">2006-10-18T14:58:40Z</dcterms:modified>
  <cp:revision>26</cp:revision>
  <dc:subject/>
  <dc:title>PowerPoint Presentation</dc:title>
</cp:coreProperties>
</file>