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8FE0A1-1D97-4F7D-8992-DB0AC21DA51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6AB42E-E8F6-4C66-A2E1-206F62740E7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A46EF8-1500-4AFF-9D31-15C34DCFEE6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40AA32-086E-4482-9F0F-F328095137A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F0C626-C6CD-4E13-9F38-37A9AF8FF91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2B3BC4-533F-4088-A7C0-7C5569949D8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C8F039-E42A-4DF8-BAD6-4A6C9DCCB05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4EFBE0-9615-4055-8E6A-6C4016B819D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DB9BD6-2706-466B-87EF-864C6071FCE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86BF0B-8054-4C8A-A151-3FC9E92EFCD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BD7DA4-FCF5-4226-AEA4-32585A0B0C7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ón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74440"/>
            <a:ext cx="7737120" cy="1995840"/>
            <a:chOff x="193320" y="447444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7444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6588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9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6-08-02T19:05:16Z</dcterms:modified>
  <cp:revision>27</cp:revision>
  <dc:subject/>
  <dc:title>PowerPoint Presentation</dc:title>
</cp:coreProperties>
</file>