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A6381-CC81-45E7-9F32-C5C2EDE05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A8169-9E61-4E3A-8E0C-AF9F75BA1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74B56-BD31-431F-AFB9-80753E575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F3499-658A-4247-9C8D-95A0ECBCB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4A309-9776-4EF2-8104-BA27EF027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466FA-49D3-4CC9-AD66-4ED80B6CB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523F8-148D-415A-9AF8-22C1A4275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FD392-B679-4AD1-A4F7-480F68205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81B89-C309-43A7-BBE9-C084A91CA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33707-A676-484C-B194-68DD93887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5A8D6-910D-4D89-BE90-0FE3190C1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94D0C-5117-4E2C-8C27-284B2F7B1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C0AAB-295B-4A19-B811-084D63299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3498F-8195-4BB8-AE72-88E5AD6AD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3ABFA-0664-4B5E-8923-037C40031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A68B5-B947-4EF6-85FA-723C915AC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D09A1-E0E6-4F38-8B29-73F5EE5E0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8026C-2A0E-4347-BB59-C1765336E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133E0-9BDD-4FB0-AF24-2BE6DC2C1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8F6CC-7DD4-4971-9558-530E04215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37984-23A6-4D41-9163-64DD8AA49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0E0C7-F7D9-4B09-AB9D-E452ABEAA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E74DA-1EDD-4A68-9053-5BBB5A0DA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8501A-A5A8-4A28-9D82-C205C95E1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6BD59-34C9-4862-AAAC-D25039F8CCC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4B128-5BDD-4367-92A9-986253D33CB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600" spc="-1" strike="noStrike">
                <a:solidFill>
                  <a:srgbClr val="ffffff"/>
                </a:solidFill>
                <a:latin typeface="Arial"/>
              </a:rPr>
              <a:t>Sublevel Stoping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Seminario de diseño de minas SD20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23 de mayo 200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200" spc="-1" strike="noStrike">
                <a:solidFill>
                  <a:srgbClr val="ffffff"/>
                </a:solidFill>
                <a:latin typeface="Arial"/>
              </a:rPr>
              <a:t>Vista general del método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609480" y="2055960"/>
            <a:ext cx="3886200" cy="35082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4648320" y="1763640"/>
            <a:ext cx="3886200" cy="40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200" spc="-1" strike="noStrike">
                <a:solidFill>
                  <a:srgbClr val="ffffff"/>
                </a:solidFill>
                <a:latin typeface="Arial"/>
              </a:rPr>
              <a:t>Infraestructura principal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Galería de zanj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Galería de transporte princip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Estocada de carguí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Zanj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Caserón (stope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Subniveles de perfora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200" spc="-1" strike="noStrike">
                <a:solidFill>
                  <a:srgbClr val="ffffff"/>
                </a:solidFill>
                <a:latin typeface="Arial"/>
              </a:rPr>
              <a:t>Recuperación: concepto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Es el porcentaje del recurso mineral in situ que el método de explotación es capaz de extra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Por motivos de estabilidad deben dejarse estructuras como pilares, lozas y muros que se traducen en que la recuperación no puede ser un 100%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200" spc="-1" strike="noStrike">
                <a:solidFill>
                  <a:srgbClr val="ffffff"/>
                </a:solidFill>
                <a:latin typeface="Arial"/>
              </a:rPr>
              <a:t>Dilución: concepto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Es la porción de material no deseable, que por motivos de diseño y operación se mezcla con el mineral a extra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Lo anterior se traduce en una eventual baja de la le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Aunque la dilución puede controlarse muchas veces es inevitable, por lo que debe considerarse en el diseñ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200" spc="-1" strike="noStrike">
                <a:solidFill>
                  <a:srgbClr val="ffffff"/>
                </a:solidFill>
                <a:latin typeface="Arial"/>
              </a:rPr>
              <a:t>Recuperación y dilució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539640" y="1557360"/>
            <a:ext cx="4824360" cy="3240000"/>
            <a:chOff x="539640" y="1557360"/>
            <a:chExt cx="4824360" cy="3240000"/>
          </a:xfrm>
        </p:grpSpPr>
        <p:sp>
          <p:nvSpPr>
            <p:cNvPr id="104" name=""/>
            <p:cNvSpPr/>
            <p:nvPr/>
          </p:nvSpPr>
          <p:spPr>
            <a:xfrm>
              <a:off x="971280" y="1773360"/>
              <a:ext cx="4032360" cy="28796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39640" y="1557360"/>
              <a:ext cx="4824360" cy="3240000"/>
            </a:xfrm>
            <a:prstGeom prst="ellipse">
              <a:avLst/>
            </a:prstGeom>
            <a:solidFill>
              <a:srgbClr val="99cc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971280" y="1773360"/>
              <a:ext cx="792360" cy="504720"/>
            </a:xfrm>
            <a:custGeom>
              <a:avLst/>
              <a:gdLst/>
              <a:ahLst/>
              <a:rect l="l" t="t" r="r" b="b"/>
              <a:pathLst>
                <a:path w="499" h="318">
                  <a:moveTo>
                    <a:pt x="0" y="0"/>
                  </a:moveTo>
                  <a:lnTo>
                    <a:pt x="0" y="318"/>
                  </a:lnTo>
                  <a:lnTo>
                    <a:pt x="136" y="181"/>
                  </a:lnTo>
                  <a:lnTo>
                    <a:pt x="272" y="91"/>
                  </a:lnTo>
                  <a:lnTo>
                    <a:pt x="49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71280" y="4078080"/>
              <a:ext cx="936720" cy="574920"/>
            </a:xfrm>
            <a:custGeom>
              <a:avLst/>
              <a:gdLst/>
              <a:ahLst/>
              <a:rect l="l" t="t" r="r" b="b"/>
              <a:pathLst>
                <a:path w="590" h="362">
                  <a:moveTo>
                    <a:pt x="0" y="362"/>
                  </a:moveTo>
                  <a:lnTo>
                    <a:pt x="590" y="362"/>
                  </a:lnTo>
                  <a:lnTo>
                    <a:pt x="499" y="317"/>
                  </a:lnTo>
                  <a:lnTo>
                    <a:pt x="318" y="226"/>
                  </a:lnTo>
                  <a:lnTo>
                    <a:pt x="136" y="136"/>
                  </a:lnTo>
                  <a:lnTo>
                    <a:pt x="0" y="0"/>
                  </a:lnTo>
                  <a:lnTo>
                    <a:pt x="0" y="362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995640" y="4005360"/>
              <a:ext cx="1008000" cy="647640"/>
            </a:xfrm>
            <a:custGeom>
              <a:avLst/>
              <a:gdLst/>
              <a:ahLst/>
              <a:rect l="l" t="t" r="r" b="b"/>
              <a:pathLst>
                <a:path w="635" h="408">
                  <a:moveTo>
                    <a:pt x="0" y="408"/>
                  </a:moveTo>
                  <a:lnTo>
                    <a:pt x="635" y="408"/>
                  </a:lnTo>
                  <a:lnTo>
                    <a:pt x="635" y="0"/>
                  </a:lnTo>
                  <a:lnTo>
                    <a:pt x="545" y="91"/>
                  </a:lnTo>
                  <a:lnTo>
                    <a:pt x="363" y="227"/>
                  </a:lnTo>
                  <a:lnTo>
                    <a:pt x="227" y="318"/>
                  </a:lnTo>
                  <a:lnTo>
                    <a:pt x="0" y="408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140000" y="1773360"/>
              <a:ext cx="863640" cy="576000"/>
            </a:xfrm>
            <a:custGeom>
              <a:avLst/>
              <a:gdLst/>
              <a:ahLst/>
              <a:rect l="l" t="t" r="r" b="b"/>
              <a:pathLst>
                <a:path w="544" h="363">
                  <a:moveTo>
                    <a:pt x="544" y="0"/>
                  </a:moveTo>
                  <a:lnTo>
                    <a:pt x="544" y="363"/>
                  </a:lnTo>
                  <a:lnTo>
                    <a:pt x="454" y="272"/>
                  </a:lnTo>
                  <a:lnTo>
                    <a:pt x="318" y="181"/>
                  </a:lnTo>
                  <a:lnTo>
                    <a:pt x="182" y="91"/>
                  </a:lnTo>
                  <a:lnTo>
                    <a:pt x="0" y="0"/>
                  </a:lnTo>
                  <a:lnTo>
                    <a:pt x="544" y="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" name=""/>
          <p:cNvSpPr/>
          <p:nvPr/>
        </p:nvSpPr>
        <p:spPr>
          <a:xfrm>
            <a:off x="6084720" y="4581360"/>
            <a:ext cx="244800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Elipse: Recurso mineral in sit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Rectángulo: Unidad de explotación (caserón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340000" y="522936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Diluyente (roj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 flipV="1">
            <a:off x="1186920" y="4436640"/>
            <a:ext cx="1297080" cy="792360"/>
          </a:xfrm>
          <a:prstGeom prst="line">
            <a:avLst/>
          </a:prstGeom>
          <a:ln w="25560">
            <a:solidFill>
              <a:srgbClr val="ff66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3132000" y="4508640"/>
            <a:ext cx="1511280" cy="792000"/>
          </a:xfrm>
          <a:prstGeom prst="line">
            <a:avLst/>
          </a:prstGeom>
          <a:ln w="25560">
            <a:solidFill>
              <a:srgbClr val="ff66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H="1" flipV="1">
            <a:off x="1116000" y="1915920"/>
            <a:ext cx="1511280" cy="3313080"/>
          </a:xfrm>
          <a:prstGeom prst="line">
            <a:avLst/>
          </a:prstGeom>
          <a:ln w="25560">
            <a:solidFill>
              <a:srgbClr val="ff66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2916360" y="1915920"/>
            <a:ext cx="1871640" cy="3384360"/>
          </a:xfrm>
          <a:prstGeom prst="line">
            <a:avLst/>
          </a:prstGeom>
          <a:ln w="25560">
            <a:solidFill>
              <a:srgbClr val="ff66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908000" y="2133720"/>
            <a:ext cx="158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Mineral recuperable (verd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084720" y="2997360"/>
            <a:ext cx="18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Mineral no recuperable (celest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5219280" y="3357720"/>
            <a:ext cx="865080" cy="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3419280" y="3500280"/>
            <a:ext cx="2665080" cy="122400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826560" y="3213000"/>
            <a:ext cx="5257800" cy="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H="1" flipV="1">
            <a:off x="3203280" y="1700280"/>
            <a:ext cx="2881080" cy="144144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200" spc="-1" strike="noStrike">
                <a:solidFill>
                  <a:srgbClr val="ffffff"/>
                </a:solidFill>
                <a:latin typeface="Arial"/>
              </a:rPr>
              <a:t>Recuperación y dilució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% Recuperación = Mineral recuperable / (mineral recuperable + Mineral no recuperabl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% Dilución = Diluyente / Mineral recuper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3T10:47:45Z</dcterms:created>
  <dc:creator>Ing Minas</dc:creator>
  <dc:description/>
  <dc:language>en-US</dc:language>
  <cp:lastModifiedBy>Invitado</cp:lastModifiedBy>
  <dcterms:modified xsi:type="dcterms:W3CDTF">2006-05-23T21:25:46Z</dcterms:modified>
  <cp:revision>5</cp:revision>
  <dc:subject/>
  <dc:title>Sublevel Stoping</dc:title>
</cp:coreProperties>
</file>