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2FFF-E392-404C-B9C2-D754B37E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D76-E346-4285-B98C-9A24D6D2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D3F5-7F4D-4891-BF75-E0F2D034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2415-AB54-479A-A489-62B4010A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46B8-EA50-497B-9C77-8E9AFADD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D0C-EA99-42F3-8CBE-B756D8CD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33C-F9AB-4C46-9765-AA5C42B4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FB9-74A9-4129-A840-1592121C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5B6-8DF0-421A-9671-A36463E9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D0C8-CF95-4AFA-8F3D-C8A349A4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C2F-CD39-49A6-9BBE-61BA6A0E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58F-CBDA-48B3-A5DD-323F70CE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5B79-5718-49E3-984C-B9E8ED131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SD20A-12</a:t>
            </a: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Primavera 200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Bebidas Alcohólic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ino y vinag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03640" y="2928960"/>
            <a:ext cx="5178240" cy="2819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1411200"/>
            <a:ext cx="828036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el crecimiento en suspensión, los organismos están sumergidos y dispersados en el medio nutritivo y su movimiento sigue al del medio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los sistemas con soporte, los organismos crecen como una monocapa o película sobre una superficie en contacto con un medio nutritivo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06600" y="411120"/>
            <a:ext cx="419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Tipos de fermentador</a:t>
            </a:r>
            <a:r>
              <a:rPr b="0" lang="es-ES_tradnl" sz="2800" spc="-1" strike="noStrike">
                <a:solidFill>
                  <a:srgbClr val="3366cc"/>
                </a:solidFill>
                <a:latin typeface="Times New Roman"/>
              </a:rPr>
              <a:t>: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219640" y="3933720"/>
            <a:ext cx="3313080" cy="2185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5280" y="3045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mas de llevar a cabo un cultivo en sus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769080" cy="3319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08000" y="4508640"/>
            <a:ext cx="136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-4680"/>
            <a:ext cx="849636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Cultivo Batch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(Por Lotes o Tan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Estos bio-reactores operan en forma</a:t>
            </a: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continua (carga, fermentación, descarg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6721560" cy="360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095880" y="2743200"/>
          <a:ext cx="2667240" cy="3522600"/>
        </p:xfrm>
        <a:graphic>
          <a:graphicData uri="http://schemas.openxmlformats.org/drawingml/2006/table">
            <a:tbl>
              <a:tblPr/>
              <a:tblGrid>
                <a:gridCol w="1333800"/>
                <a:gridCol w="13334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F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Velocidad de crecimiento espec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Lat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cel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4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cc"/>
                          </a:solidFill>
                          <a:latin typeface="Tahoma"/>
                        </a:rPr>
                        <a:t>Exponen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3366cc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400" spc="-1" strike="noStrike" baseline="-25000">
                          <a:solidFill>
                            <a:srgbClr val="3366cc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Declin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4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Estacion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ue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55640" y="1628640"/>
            <a:ext cx="1828800" cy="1216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4932360" y="1197000"/>
            <a:ext cx="1828800" cy="120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0"/>
            <a:ext cx="868680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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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u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No hay entrada ni salida de células F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erte celular despreciable, 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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979560" y="2127240"/>
                <a:ext cx="4933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010280" y="1905120"/>
          <a:ext cx="181944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1905120"/>
                    <a:ext cx="181944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859280" y="5661000"/>
                <a:ext cx="36594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5508720" y="4221000"/>
            <a:ext cx="321624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inici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fin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28600"/>
            <a:ext cx="815328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 (cont.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plicando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i </a:t>
            </a:r>
            <a:r>
              <a:rPr b="0" lang="es-E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ante, entonces la expresión anterior es integrable, considerando  que  la concentración inicial de biomasa en t=0 es x</a:t>
            </a:r>
            <a:r>
              <a:rPr b="0" lang="es-ES" sz="1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Esta situación ocurre principalmente en  </a:t>
            </a: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as fase de crecimiento exponenci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2880" y="4495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014560" y="2060640"/>
                <a:ext cx="42418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 flipV="1">
            <a:off x="4284720" y="5734080"/>
            <a:ext cx="316692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332000" y="4707000"/>
            <a:ext cx="7812000" cy="2151000"/>
            <a:chOff x="1332000" y="4707000"/>
            <a:chExt cx="7812000" cy="215100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332000" y="5157720"/>
                  <a:ext cx="287964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∗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μ</m:t>
                          </m:r>
                          <m:r>
                            <m:t xml:space="preserve">∗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6329520" y="4707000"/>
              <a:ext cx="281448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284720" y="5661000"/>
              <a:ext cx="3166920" cy="0"/>
            </a:xfrm>
            <a:prstGeom prst="line">
              <a:avLst/>
            </a:prstGeom>
            <a:ln w="57240">
              <a:solidFill>
                <a:srgbClr val="a3ffe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826920" y="633888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Experiment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508720" y="1125360"/>
            <a:ext cx="3384360" cy="47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ducirse inhibición por sustrato que extiende la etapa de la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05-Sep    Laboratorio    Experiencia "Cultivos Batch en Matraz de 500 ml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Cultivo Continu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isten diferentes modos de operar fermentadores continu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Quimostat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(Perfectamente agitado, CSTR, RP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i el biorreactor está bien mezclado, la corriente de producto que sale del bio-reactor posee la misma composición que el líquido presente en el interior del rea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onsultas</a:t>
            </a:r>
            <a:br>
              <a:rPr sz="3600"/>
            </a:br>
            <a:br>
              <a:rPr sz="3600"/>
            </a:br>
            <a:r>
              <a:rPr b="0" lang="es-ES_tradnl" sz="28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mlienque@ing.uchile.c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Características del Quimostat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990360"/>
            <a:ext cx="8476920" cy="488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le llamó Quimostato dado que la composición química y biológica del medio se mantiene constante, para ello se debe controlar: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volumen del líquido en el reactor se mantiene constante, ajustando los flujos de entrada y salida al mismo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pH del medio mediante la adición de ácido o base. Generalmente se adiciona á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suministro continuo de 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( o aire), en el caso de sistemas aerób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n nivel de agitación adecuado que garantice la homogeneidad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Los principales componentes de un cultivo continuo son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8458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actor de volumen const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istema de alimentación de medio y salida de produ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anque estéril de medio (entrada y salid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ntrol de pH, T, OD (Oxígeno disuel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istema de aireación y agit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905120" y="380880"/>
            <a:ext cx="5409360" cy="5714640"/>
            <a:chOff x="1905120" y="380880"/>
            <a:chExt cx="5409360" cy="5714640"/>
          </a:xfrm>
        </p:grpSpPr>
        <p:sp>
          <p:nvSpPr>
            <p:cNvPr id="108" name=""/>
            <p:cNvSpPr/>
            <p:nvPr/>
          </p:nvSpPr>
          <p:spPr>
            <a:xfrm>
              <a:off x="2541240" y="5810040"/>
              <a:ext cx="47732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ig.  1 Típico Ferment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9" name=""/>
            <p:cNvGraphicFramePr/>
            <p:nvPr/>
          </p:nvGraphicFramePr>
          <p:xfrm>
            <a:off x="1905120" y="380880"/>
            <a:ext cx="5369760" cy="5333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380880"/>
                      <a:ext cx="5369760" cy="53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258920" y="10152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1268280"/>
            <a:ext cx="21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61657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835280" y="980640"/>
            <a:ext cx="28872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16360" y="6308280"/>
            <a:ext cx="719280" cy="7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0"/>
            <a:ext cx="86868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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uest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Alimentación estéril,  x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Estado estacionario, no hay acumulación.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y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x/s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[gr célula/gr sustrato] : Conversión  (yield) de células referidas a nutriente consumido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290600" y="1341360"/>
                <a:ext cx="65786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48360" y="4005360"/>
                <a:ext cx="838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292720" y="2924280"/>
                <a:ext cx="816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590920" y="5638680"/>
                <a:ext cx="255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3902040" cy="479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Comic Sans MS"/>
              </a:rPr>
              <a:t>Presentación 1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26 de Septiembre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Otros modos de operar una fermen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08-Ago    Cultivo Batch y Continu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5-Ago    FERI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2-Ago    Laboratorio    Experiencia "Normas de Bioseguridad. Parte 1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9-Ago    Laboratorio    Experiencia "Normas de Bioseguridad, Parte 2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05-Sep    Laboratorio    Experiencia "Cultivos Batch en Matraz de 500 m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2-Sep   Taller de como hacer una presentación y redacción de Infor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9-Sep    Vaca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6-Sep   Presentación y Entrega Informe I    Investigación de tipos de  ferment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508720" y="1125360"/>
            <a:ext cx="338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oducirse inhibición por sustrato que extiende la etapa de la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227640" y="3573360"/>
            <a:ext cx="1819440" cy="2381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3-Oct 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0-Oct    Semana Olímp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7-Oct    Presentación Informal y Entrega Informe II   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24-Oct    Prueba Prototipo    Se presenta la idea del prototipo. Debe ser aprobada la idea para prosegu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1-Oct  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7-Nov 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4-Nov    Presentación y Entrega Informe III    Informe Final de teoría y resultados del prototi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ción de Biomasa a escala Industri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¿Qué es la fermentació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Del lat.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fermentatĭo, -ōnis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f. Acción y efecto de ferment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r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Del lat.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fermentār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intr. Dicho de los hidratos de carbono: Degradarse por acción enzimática, dando lugar a productos sencillos, como el alcohol etíl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¿Cómo debemos entender la fermentació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 Anaeróbic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ausencia de oxígeno): produce compuestos menos oxi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 Aeróbic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presencia de oxígeno): produce compuestos algo más oxi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¿Por qué en un microorganismo se produce la fermentació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Respuest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ara producir ener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Ejempl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vadura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Saccharomyces cerevisia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n ausencia de oxíge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Glucosa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tanol + C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+ Ener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Tipos de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5280" y="1628640"/>
          <a:ext cx="8229600" cy="4545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Tipo de fer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Organism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cohó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Etanol +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Levadura (Saccharomyc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del ácido láctico (Streptococcus, lactobacillus, et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mix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, ácido acético, etanol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entéricas (Escherichia, Salmonell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utanedi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utanediol, ácido láctico, ácido acético, etanol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entéricas (Aerobacter, Serrat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buri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burítico, ácido acético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gunos clostridios (Clostridium butyric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etona – buta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etona, butanol, eta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gunos clostridios (Clostridium acetobutylic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propión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propión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Propionibacte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tos de la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Ácidos Orgán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minoác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itami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Hormonas (estero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tibiót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ick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hucr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tos de la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ceite de ol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ceto balsám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alsa de soy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6-08-08T21:19:04Z</dcterms:modified>
  <cp:revision>138</cp:revision>
  <dc:subject/>
  <dc:title>Sin título de diapositiva</dc:title>
</cp:coreProperties>
</file>